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E626-1A45-44E9-9A50-3B71073E79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68D-D350-4A25-8A30-F8CDBDBC4E9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4971-5035-4FA1-983D-622193281AD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E494-29AD-408C-97CE-46001DA5D89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8F28-F7EB-4926-A5FA-AB38BD7E5E9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E9E9-2FEA-4983-B0BE-C492E180891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DAC9-2F3F-4D8E-848E-288514A5692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2CF7-D8A3-4DA1-BABB-2D8B235D8D2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105C-9AFF-4381-A12B-47DB79E529C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FA5-4EF0-4DA7-86D4-EFB8A0C8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769-687A-4B47-82BA-0D56936A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6C166-2F2A-4BB0-8452-A98AD60A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0AEE8-79C8-4FD5-B7A8-57BD0EF8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C0204-CC77-4B8C-BB46-85E3BFA0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779B9-69F6-4949-BEF2-29D46DD7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52E74-6C55-4A64-977B-29AAFCC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C8F39-31F4-43D8-85CC-1294EA58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90E37-FD1D-4432-981C-D00D0B1D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5AAC-0544-4BD7-90AF-98A7BE1F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847C6-8C5C-4287-B1AB-E60F4B24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C015E-192B-46BF-8C55-D70DFF73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6D5-E408-47E6-94E1-7FDD6C99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69FB3-D70F-49E4-ABF0-D14A3286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0DFB2-AD8C-4D17-8206-97A561C2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240E7-824B-4C30-A617-9921FB4D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2B3ED-A36C-47BF-9E27-BFD9CCF7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4CCEE-4558-4E03-A60E-8395DB88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2324D-EA65-4367-BB64-BFE15AE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9456F-E113-4423-AD99-3D544A53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94493-8F70-45C3-9864-1A2109E1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D0E1F-EF4F-43F9-AC19-2974F1EC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534B8-CBA7-4115-99C4-25421117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5E5-95FE-41DE-926F-CCC4AC88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05CAF-6167-4799-9D34-E793D5C0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2C4F5-76C9-458A-983D-9A7AC0D3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53AE7-674E-4D4F-BAFA-BC2DE2A5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33306-2600-4799-B505-82147607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77EA6-A96F-43CF-8AFF-A2042BE6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374D8-7748-4B9D-BE1A-21A8E569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0DC24-EB8A-4E84-BB20-E9CFE8F8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92FEA-F303-47DA-805D-0520C832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E2D3A-9C7E-41BE-9941-3F9FE50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26688-6B6C-4514-A3C2-750A720A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C36D-AB31-4800-870C-EB439D18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CC528-6F06-40FE-942B-A8D8B4E3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C1574-67E4-485F-80BC-5238EE96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BBAA0-25D7-4ADA-8BF4-FBFFE750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37824-FCA4-46CE-80AA-6D00851C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507AF-F081-4716-A83C-511615C4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54DB2-72CC-4BAF-A43C-693CB658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2A957-5271-4E52-AC79-A17EC551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E0366-E312-4DD7-A188-5B45E9DC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34550-C97F-463E-8743-C7CEC78A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146B1-3E04-49BD-B26E-73140D53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D3D6-AB17-446B-B2D0-D2CC8679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EE75C-1A69-4E2C-94FE-F0B20190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14E35-036A-4B27-9247-EBF76174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828E1-53B4-4B6F-9E85-91A052FA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AC242-899B-411A-9575-732F0C39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0BCA0-1A9D-4F3D-BDC7-04A131BF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34B3E-4F56-45FC-94C9-9032F18D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3C43B-4878-4A41-8376-912B3F6D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672C6-DF2B-466F-9B09-E287B8C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F1CC6-27F6-4286-AE9C-E09FBFD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3D6EF-EBEB-406C-A79A-73601DDF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1E28-2A89-442F-8BDA-CBAB64DA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B4721-FB6C-43CF-A3EB-274E9B1F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9FD78-83DA-49A7-912D-70FBDEA0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0973C-0FB2-4104-AD4E-7B9107A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A9666-8C14-44BA-816A-73BDF269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F41DB-CEDA-4C18-8AA0-5025986C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3CCBA-DB90-4275-9A17-24FB032C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37058-8611-4950-A6EB-3B2FDE93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5F269-C839-40B6-ACD4-70C16C49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D62553-FF7A-44CD-A111-44CB355C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30941-2C1B-4C48-A220-84700BE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0C31-F432-4605-8341-3648E4AC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51A1C-8DAC-4D60-90C6-DB858622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7DBB4-CC77-485E-94E7-8C950793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FBE7C-150D-4E3F-8498-13538DCA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8C3857-C38F-48EE-84D8-B261420D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6330E-1990-4754-88DB-3AF8E70F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7700C-2C1F-4A10-B454-0DB432DF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F8FBC-8554-413F-8674-BEB6092C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82B86-5D40-4F77-9706-83278000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0811BB-84E5-441F-808D-35F04FB9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A7D5D-C575-4224-A494-FD7E76D3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0A55-B837-4DFA-9DF2-AF516556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B4EDB-0311-47C3-892A-19AC300C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4ED1D-42E3-4B46-A5D0-8B44E603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4C84E3-CB07-41E5-9E8B-A07CDC3B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AC470-959B-440D-9E85-C1C0F126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7A6BEE-789B-4D2D-96C6-979B608C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4A0DB-FA64-4C1A-9ED8-F6387C0E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3CFEE-858F-489A-8B88-C9A1EF9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5D6E5-52EC-4B40-8DBB-69D0315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51893-530F-4D9A-9743-EEA09ED5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C7FBE-5A6C-4FA3-A82B-AEFF8CAB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C0C-497C-4C0C-8DA7-71787DCE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66319-A1A1-4C58-83ED-EE8ABAF3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1C2D6-8322-47EB-9AFA-C9C4957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D48BE-4D5E-4596-8165-55918BF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6561A-09B1-4D9E-B35E-F6322911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EA07F-410D-463A-8586-04D460A0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4A9EDB-2BB3-45A9-8FDB-021FA5AF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63149-3E16-46A1-B20D-4C62A26C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12E53-277B-4EEC-ADF5-97F54AA0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54F0AD-A0E2-439F-955E-BE8F221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7A620-8B84-418B-82DF-AAB6786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8EC5-6F23-4F6E-8F7D-52A2F18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27AA1-979A-4E75-99C8-2AB9FF0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2C2ED-7654-4588-823C-F224AE41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F6707-170F-4DDA-B5C8-62A35FD6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3FA-8BDD-42FE-B924-B8B4E3DA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92E6-5ED2-438F-9FFC-862B28B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4707-04A2-4F6E-A830-624AC24D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5B56-C169-42B7-972E-7122765D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2EBD-696A-45E6-BAAA-FAF0D02F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9C36-D72D-496B-B405-14A291C1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2C62-3984-44C3-9BCD-BEE4CD8B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3C0B-4610-4F50-A1C9-271F6FDD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2B72-17F3-4C4F-9340-D0AE9F02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7A0A9-5254-4F36-8A7E-204D1BE3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BEA5-5BAD-4149-ADB0-42D1BF93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21A-661D-40F4-AD6B-1D3F1E87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2388-0BEF-40AC-85F2-CA74BEA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2677-A154-4EBE-B5D8-7128D966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DB6D-4C1D-4934-8BC8-513079B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A37B-284C-4D13-90D8-E7C29940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23951-8FF1-4000-9759-E0810204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09ACF-8F8F-4DBC-9A87-5F1E18D2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FD06-D821-4302-8623-6234B7CD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AF37D-C8C2-4BFD-94CE-5D280265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AA0FA-6CED-4600-B30F-D84A99B5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7F55E-C24C-48D2-A695-75E5D289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27E-CC1A-45F3-B141-6CB74B4A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1D70F-2EAB-417F-8B22-E472BE73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9E810-2EEE-4FBA-9E23-3A4618F0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F68F6-2961-445F-B0F1-30B813E8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38EA-733C-4999-9F88-962D5A3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96F48-CE82-4E64-AD85-658A3611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05FF7-7524-4F61-93DA-6253F578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2D38-AC1D-46D6-97BF-7A66E94D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81E09-AD60-456C-BEFE-F645CB45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0C59-6EA3-4B11-8870-E99F52B3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07110-B51D-4FC5-9FB8-38D26819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45F-A768-49EB-AF64-B7563C76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DF07-D870-410B-91FC-EC359F44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1FBAB-89F6-4713-8433-5BEF2578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7E81-6A1E-43D9-A566-06E5CBBB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08DB2-1F8A-4788-8C86-7A63FB98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CD8D-7E41-489F-B18D-76BBD17E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9DD37-F75B-4ED7-B550-DA91AB9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1A2AC-DD12-4567-B665-9489DBA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A9A8-3082-4624-8D56-236F3D1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33190-4B2D-4313-A0BE-687D4BBD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1BF2-1DCF-4973-8915-ECA3ACC1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9FB-36C8-41EF-9AC1-E5C59B3F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2391F-A0AD-4CEC-B562-FDE3C44F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FD65C-EEA9-4070-9BBE-A232432C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F51CA-FCDF-449D-8F59-CBF68EFB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21D5-4AF3-4497-8A40-4398715B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4EB86-E39B-447A-AF39-87BF593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C6A7-68BA-42E2-9B1E-69682454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69A44-CBCC-4A62-9EE6-0DB92333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05B9A-5A3D-4DDF-8321-074BE997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751C6-D684-4868-9C84-05EA92E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9C70-A934-4CD9-A407-EF3CB0B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3D3-FF4E-4C5B-A559-E6479FC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3459-E5D8-4BD6-A82D-D31CB0A9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F3EED-1B37-4B82-9634-0D687FE4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258A8-DD93-4E03-AA0A-43CBF481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18F5F-2299-4D18-BF25-FC651A5C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333AA-F057-430B-9C5B-E509702F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15993-44F6-4003-BB8B-66084846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19C1E-5033-4B72-931C-AA30688B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8D837-5F48-45ED-A66B-5E061019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B3F13-3947-4BD6-9C63-66A9943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9B22-6004-45F9-AD9C-FC91F202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4CD-7B17-4C0C-9383-43899109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2AC9-30D9-4B34-9800-EBAC133D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1CE42-D073-48EF-B216-AC0543B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2F671-1176-4AE5-9301-52DBF133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4B4E9-54B2-4E06-A310-BA0916F3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228F1-22FB-4114-84A7-CC577DE1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66DB6-CD66-41F8-ACE1-6A8B538B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A0633-DC86-4929-83DE-AF420C42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DEB8D-CF5B-44C9-B7CF-1EC65EC8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08F82-E757-41B8-9503-E79C317C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7AD46-FF60-4035-92DD-64B68691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F96-B315-45E2-A941-5DDAACC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9877B-2047-4E35-B321-49314EDE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5146C-CBE0-4A8F-9920-EAC71F9B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C0FA-6493-462F-8867-6D611EE2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AD216-F806-497A-AEA5-99E222CC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B2A88-B8AC-4899-A15E-0CACB947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92AEA-2A19-4CD4-9204-BED5CAD0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25995-9E3C-4639-905F-A28AB361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8FBD3-0C2D-4D15-BDB5-2CE78B27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8359B-8DE8-48C3-9117-DA385726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241AF-8D91-48BF-B82A-DF071288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96BF-0F05-47AB-A73F-52C8EBB9B8F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B18-BC5E-4560-BD3B-93F5674FC4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D399-DD9F-4601-B615-04C70DCC64F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C67-69BC-4CEA-B07B-4975372839C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2FC9-D128-4704-8705-AEF6CB3301F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C15C-04C8-47DF-A2B3-106BC983B28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3E62-7E66-4701-8DB9-E9EEE7AA942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5B6D-3122-418E-9434-D154874DBFA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BE50-4A52-4AA4-B89C-97A4A9AD231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CE38-70F9-414F-AA8B-34C177E77C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0A51-2F17-4BDB-924A-95A48F0B0DB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1936-45D6-4FB4-84C8-6BBB9D4276F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FF43-5352-4591-B3F7-1365DAE44D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8636-C322-44C2-9B2A-54503FCD047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8200-E92F-41D3-9F47-2DC8239F80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7A0C-EE64-4C28-B880-F29B98A7AD2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insist on the time of delivery given in the order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lease arrange insurance against all risks for the above mentioned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see to the careful packing of the consign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ertificate must also contain the signature of an official of the bank who has inspected the goods before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serve the right to cancel this order if the delivery is delay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stress that the terms of delivery must be kep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you execute this trial order to our satisfaction, you may count on further orde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give our order your bes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 confirmation letter should contai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s for the or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details of the order (description of goods, quantity, price, payment, delivery terms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rance that the execution of the order will be given the best at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order of May 4, 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ich we have booked for execution in Ju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enclose our order confirmation and would appreciate if you returned one copy duly sign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preliminary order which we have no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ank you for your order No. 123 i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for 300 T-shirts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ank you for your open order to the value of EUR 3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000 and, in accordance with your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ishes, we shall employ 1/3 of this sum for writing materials and the the rest for toy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objedn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objedn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der, confirmation, trial order, repeat or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 order is a request to make, supply or deliver goods according to the customer´s particular requirement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 can often attach a letter in which you specify the details of your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 case a buyer wishes to introduce a new line of goods in his local market or to know for himself the quality of the goods, he giv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trial or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 can also buy the same goods on the same conditions as in the past, this is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peat or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cknowledge receipt of your offer o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enclose an order No...under the following terms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the recommendation of Mr.... we would like to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your prices and terms meet our requirements, we order for delivery the following ite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fer to your offer of May 4, 20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13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nd ask you kindly to supply the goods according to the enclosed order fo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hank you for your offer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have pleasure in enclosing our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thank you for your offer of May 4, 20</a:t>
            </a:r>
            <a:r>
              <a:rPr b="0" lang="cs-CZ" sz="2800" spc="-1" strike="noStrike">
                <a:solidFill>
                  <a:srgbClr val="0070c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and request you to book the following order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refer to your quotation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ask you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suppl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29Z</dcterms:modified>
  <cp:revision>32</cp:revision>
  <dc:subject/>
  <dc:title>BUSINESS ENGLISH</dc:title>
</cp:coreProperties>
</file>