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E689-5653-49DF-850F-D4338629466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965D-F9E1-4124-A8A0-7A3F0F59CC5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ACAB-0232-43CD-8830-A3CA7458E7B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0C1A-9F36-455D-BB6D-AEF1188B61FE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9FBC-34C0-4DC0-B5CE-6BBAFD2AFE6B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95D9-4959-4520-9F1F-C9BF7C5E471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D31E-2141-4809-B76F-54E251C93590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F4F7-1692-4E80-9493-8BDE1E3EF92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2FDA-045B-4663-99CE-E4B4F459576F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6A5C-C62A-4D35-89A6-6086EAC0B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B1FD-74D6-4F16-A771-4F60E0C7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CB2FEA-E5A9-4A0E-A051-8464B2EA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6ED30-C396-4BDC-AC25-79D51F4E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FB7B3-0541-40BF-B798-7623C96E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5B6EF-960E-42C4-971A-81833CC5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8A390-7828-4789-B6BF-D74A6241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E70B5-08C4-4DC8-8298-204AE5B8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FAC7D-1A74-45DF-8631-431BF298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21B4D-4E49-493E-96E9-5BB23769A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CFE20-E7A7-4FA6-A132-EA54C8D5D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886D91-1532-4A3C-8979-F92C8B89C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6503-40B0-4020-B428-06233EA6D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3CC0E5-B3BF-467B-B65F-F0863C88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92366-0D1C-4C28-BDEE-73A79EFF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604323-CC3F-4E80-A993-16D03789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518A70-C250-4965-A6DF-CADAAACF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EA6E52-552F-408A-90AF-9C4112B6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A7A876-47C5-4EC7-A3E0-E9D8684E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B78152-62A6-4D47-9F76-C3CBFF67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A91BA8-2365-4149-99D9-1416209F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8DB426-4885-4D1D-84EA-C6C21F8F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1667F5-0AB5-4BD5-AF44-20C1316CF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05F0-6342-4273-ACA7-BCE43D0F8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02D76-A594-4F1D-BDD0-1DE7EF520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1A407-DE45-4D26-8C13-03CD0E433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341FA-D7A2-4939-8869-57A7E5C9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FAC59-4E14-4464-967A-3E032E36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8D8D0-7CC1-496F-AE9B-623B4199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6FFC6-B85B-4BDE-AA68-EEA9A132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01FB6-DA57-479E-9A56-6FFCC860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6284E-659A-424E-9F8C-9D0EB087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4FB7D-65B8-4301-8005-21A262CB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D5701-EE12-408A-B3B6-D401E8B2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57A5-1EDD-4C48-A604-7710CB7E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3A589-CFF2-45D2-B7DC-ABF7BA62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13F65-A94F-4C84-90D3-077A2EADF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CBE44-E833-4268-93FC-FC984BE07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097545-75CB-41B6-B468-1D7CF8C98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A0E82C-562E-4A6C-8998-C9101508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597D6-7B0F-4F8F-936D-9C61289F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8DC55A-FF2E-4687-8608-BC0C961A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AF39D9-675A-47CD-9308-FD097C48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0072F6-C83C-4791-A74B-8022E04D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17C637-5436-4F5F-BCFE-CC1E0A74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F9E9-DE78-494E-9D93-C35D1184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A8D40-14DC-4D3C-84BB-C823818A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8A7941-77BF-4638-85EB-01D95D84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6E222D-B92C-4CD9-A6B9-F2E9D4A0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AC830-A31F-4860-8FD9-6DF14CD85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B4F3C3-A3F8-4FE6-A446-524CA5EDE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F4DA62-D083-4719-925B-71F47BA4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5D357C-FBFE-43E7-8072-9520AAFC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BDEED0-3201-4D8B-9C69-B454DDDC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C46E56-6879-4103-A0A4-1026AC66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1FDC79-A38C-46F2-B251-E4EE04B5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9AF7-AEC7-44E7-89F2-4DBC882D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D6BF5D-F262-4EE3-989B-D40189D5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DF2B31-0C90-4E90-8474-4B91C6F0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ABADB6-B50E-4904-91BD-F97DBF3B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A60F12-01EC-4AFC-A7BA-D107FAAE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08C936-4941-4555-9109-8E36BFC7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A99F05-35D9-461E-9A14-53E90F80C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98782E-8FD2-407E-9B0B-0E98B701E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50AE79-EF78-42A2-8168-D54FB2FB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C908D0-5C1B-47E7-BD91-3593A24C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9F4D58-4F78-4F71-B52B-96743C85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2572-180A-40DF-AB61-59134631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71CB8C-E294-4304-B90D-4DA53B76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18D0C7-44EF-421A-AE38-C3475BC9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3BE2C0-4344-46AC-B54D-E0FAE738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07E3A1-441E-4C77-A39F-2870729A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E42062-2DF3-4901-8D23-98990B18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6794E3-1B9D-4346-B990-0B80ABFC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2C9623-EE4F-4BFD-A2B1-8AE065D8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707813-EE24-4671-8B79-0620C5994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002D7D-35D8-4CAA-80CA-A30E0ABEB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0360EC-963E-44CE-832B-C5B964274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8F35-2D5A-4AAD-BE02-B05E15E3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1CD21A-897B-4EFA-ADDD-C69D3B2A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945A45-8374-46E5-8861-B67E08A3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783228-838F-4BD8-B597-736C1F78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50F1B3-0E22-4C42-B150-C3CE5F43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E5C15C-6504-4707-B33E-2F26096F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F130A6-3A69-4F65-8E38-BE974FC8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E1F375-DB7C-4AC8-9F4E-E60B3B45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CA67C6-E0FE-486F-A17E-B60DBBE3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8DEB42-8834-4260-8E24-ECC2EFC6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EC2DB2-AB65-4321-A455-533FE8273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7514-7F88-4575-B6B8-ECA93DC9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2BC4E1-1FBE-420A-A86E-F731AFAC8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B5CB9C-800F-43AD-9905-77F22CCA0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673807-690C-4614-8814-D74BD663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B867B5-F814-4317-A738-3337DF87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E61A90-578A-4531-A7DF-277B25E9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3D389E-5FA0-4BCD-BC9C-019E971B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E0E2C4-A8F1-4700-8657-839EFDEF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2D02D7-550A-4442-8921-A68AC7D3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9A0C8F-F7BA-460E-B2B4-BB2ADAC8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9118C5-A4F9-4F06-B0C8-EA53A436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09EE-D987-4F73-949A-836B1D52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73E1A5-4D59-47BB-A187-3D4D7F04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034307-3E55-4EDC-AE8F-7D1D6609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4E673C-ADB6-400E-8DBD-32A61A893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9745-AC8E-49B2-8E98-803430D5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BBF0-079A-45C6-AA60-9DC3E35C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F298-F8B1-4B41-9520-89061EA5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26A7-1A36-4B9F-A2E0-9EA864B7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C3FE-E686-497C-A228-42078C9F2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2296-D736-4DB1-B63E-0738185B4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6B8AB-56CE-4A44-962C-429CADD4C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CD4ED-DF6D-4F32-831D-CA159F14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C819E-402C-4499-842C-C9EDA4BB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3D762-96E3-4A26-92FC-147B95A3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EC2E5-6BE9-4A90-BD7D-9B58614F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BE1F-165F-4669-96C7-FEBDE180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44190-C0DD-48C9-A0BD-03633097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0A5B5-2C24-4160-8770-06250820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F9F8B-FF46-481C-B88D-97A5CA43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08C5B-4F19-48A5-8DA1-5E3FFE02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0D530-A674-4129-A662-6894DCB4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E480B-ECBE-4CA7-A8A2-A66D9B6D5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DDADC-77C9-4461-B0FE-18A14579B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287DC-605A-4B4D-BE3E-7D7572581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324F0-F3B3-4DEF-A7BE-8FF3D764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5AC51-FA26-4A6E-BF26-D7EC3158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2C02-9875-4E11-8C43-BEC6396E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02CE7-1237-43EA-8281-693E1A16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438B1-B89F-4E3F-AC69-4B114273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1C733-BB49-4DC6-96D2-E1A4E582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22158-035E-4AC8-BE26-A41AF5C6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87646-C20C-4ECD-9C27-2DCBE80F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04768-7711-4151-8B62-A4B1E748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35D64-F5B6-45F0-8C97-A977050C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B7936-70F4-44DC-9334-C7BE36B8E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3C120-225C-47D8-8045-D7DEBB765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F5696-C160-4EEE-8C0F-5FBE80D57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A36F-C6F2-4C6D-B7CB-EB0AEF24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08D1B-34BB-42B0-9F9A-84AD6D14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A6A77-6EEA-4B9B-8A40-9B55FD96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EA596-2333-4F8B-ABA0-A840D0BE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64216-A191-4638-B23D-B3BABFDF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742C4-0D5F-48E8-A8FE-7EAE3A19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DDC65-AFB3-4877-A059-529A2FB3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78AB9-2B97-4F57-91F8-89D87E03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4FF89-4D78-4720-BDBD-47567CE0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61BE6-6D7A-4CC6-A574-181208FF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0CB40-EC32-4181-85F8-FDC34C24E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F3B5-ACEC-4AD5-92CC-12B338F8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3FCBC-54A0-4C1A-A018-44B44EDF5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EBA94-34B9-4E68-BEFB-8E42CD31C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BB6CD-3D77-4A1A-A5F0-D936E84A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F5D2C-74D2-4196-A5A8-010BED9A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548B6-B670-443D-A515-FD9DFEBD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D6B50-D9CE-4F78-87B9-1362C6BE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5C743-FDD9-4C48-BB67-2148DF31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58872-5120-4AF8-85B6-64919242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E4B47-92A9-4FA3-8803-8852DAE9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C732F-A0E2-4665-B0E7-FC8CA16D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7E27-6038-45EC-8140-96873812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CEE9F-FFD3-45AB-A828-DEA70DE7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32E94-BB49-4B2D-AD31-2A2D53BF3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DFC31-554E-4AE6-974D-98EF48069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5E9B0-65A8-40D2-AD62-7A7ABDCF0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237A8-3B2C-4219-B097-44B07C9E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2D318-48F1-433B-9EC6-FF28FBA7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DC785-2C46-4C3E-B4D2-11B06D13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8D078-F437-48FA-8BA2-D32280AD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F8976-523F-42D9-81CE-7511BB54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8B431-9CBA-4853-A5EA-D2AF2362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4AED-7AC3-435E-A37F-B425C1B9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14287-38AA-4C0C-9FBD-1B410CF4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CA8E4-7BAB-45B0-AB76-141F4A11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FC05A-397C-4121-AE5D-C31D6157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91D37-AC5A-4A83-9DD7-F266EB055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4B4E7-9F7D-4830-9A5E-B30E41985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2D76D-6404-4493-9746-5BB83272B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7F43B-FFE8-4320-8A31-9272617D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2E9EA-A51D-4876-A021-4FB57FFF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4049B-1CCE-479C-9F69-30C5BD01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2F5D7-3689-4ADB-BC35-51D4822D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AE95-2653-4DCA-8AF7-6CC79839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989A4-5607-4C8A-836B-10198A9F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912A3-7FBD-4D01-84C0-119A7EE4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BA65B-9B06-4569-A83C-AE004118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840F2-CA29-42FC-B769-AFF26B62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ECEC5-3315-4854-8A7E-7EE1F074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8D55C-D286-4DC2-800B-77AE255F4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E77F4-4D63-45D3-9741-89D4F4666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E409F-F7D9-4B89-B337-EBEA87DD4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350ADA-39BB-41CA-8DD3-BB851283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D450A-8682-42B3-94C3-A48B492A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1F98-A52B-4117-AEBA-6218581D47C8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BCD4-6A3E-4611-877D-0BAE9EEEF8C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BA6A-3AAF-4B4F-8AE7-F238514B0F4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6000-8FB2-49C1-AE30-B2A741056E4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4A23-7EC5-4030-AF40-25E9873BBF7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47F4-1307-4176-B6D2-2F85DEC56FA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8F32-0D3C-48D9-A241-41C544CD12A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19DD-6504-41E5-96B7-41B224F70E6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BBCB-ED7C-4CB1-99CD-95918FFAA50F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E355-7221-4AAA-82AF-2DC0B195D0B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09F9-FC4F-4720-863E-E3A1F54DE0BB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5E37-95AC-4566-AF85-88EA78A89E29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DB6E-D0A6-4BD6-9B6F-241406D43F5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F6E5-E2CF-4FA0-A636-A310D664A67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368D-7F23-4585-BFBE-45EA2D83EB3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2EFC-AAFB-4328-8E0D-04BBA2546F6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 / 20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) A reque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would appreciate your sending us your catalogue and price list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should be grateful if you let us know what you have to offer in the way of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are interested in the products you advertis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) A reque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280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ill you please send us a sample of items listed above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would like to know if you are ready to to give us a special discount in bulk orders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could place large orders with you if your patterns and prices are suitabl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) A reque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064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ur demand for these products i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quite considerabl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As we have a big turnover, we hope to be given special term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lease let us know if you have the goods in stock and when you can deliver them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) A closing pa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064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shall compare your prices and if satisfied, we will send you the order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hope that you will shortly be able to furnish us with the information requeste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hope that you will shortly be able to make us an offer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) A closing pa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539640" y="2361960"/>
            <a:ext cx="83534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are looking forward to hearing from you so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We should be very pleased to make business with you and we look forward to hearing from you in the near futu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assure you that once we are satisfied with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upplier we do not change them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) A closing pa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539640" y="2361960"/>
            <a:ext cx="83534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trust your prices will be competitive enough for us to conclude this business to mutual advantag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If you can give us any further assistance, do not hesitate to contact u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2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dopis - poptáv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, co obsahuje obchodní dopis s poptávkou a představuje základní slovní zásobu pro psaní obchodních dopisů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Request, refer, turnover, satisfy, price list, catalogue, sample, discount, good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43280" y="33573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REQUES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56" name="Obrázek 1" descr=""/>
          <p:cNvPicPr/>
          <p:nvPr/>
        </p:nvPicPr>
        <p:blipFill>
          <a:blip r:embed="rId1"/>
          <a:stretch/>
        </p:blipFill>
        <p:spPr>
          <a:xfrm>
            <a:off x="900000" y="3435480"/>
            <a:ext cx="224784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Your letter should inclu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short introduction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of your compan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 opening part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- an explanation where you get their address or other contac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request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- some information about what you would like to get from the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closing par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) Introduction of the compan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are a leading steelworks in the region of..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I am writing in reference to my company, Ocean Steelworks Corp.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are an importer of .......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Our company deals with.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) An opening pa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280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refer to our conversation at the Milano Trade Fair.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Your name has been given us by the Chamber of Commerce in.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have obtained your name and address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m.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We have seen your stall with your products at the Frankfurt Fair.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) An opening pa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have heard you are exporters of .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I have recently talked with your representative, Mr.George Black.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ur business partner Mr.Thomas Ward has recommended your firm to u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Mr.Thomas Ward from Luton was kind enough to give m</a:t>
            </a:r>
            <a:r>
              <a:rPr b="0" lang="cs-CZ" sz="3200" spc="-1" strike="noStrike">
                <a:solidFill>
                  <a:srgbClr val="0070c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 your name and address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) An opening pa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 have been referred to you by Mr.Jones from Whitefridges, Lt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have seen your advertisement in the local newspaper and we would like to ask </a:t>
            </a:r>
            <a:r>
              <a:rPr b="0" lang="cs-CZ" sz="3200" spc="-1" strike="noStrike">
                <a:solidFill>
                  <a:srgbClr val="0070c0"/>
                </a:solidFill>
                <a:latin typeface="Arial"/>
              </a:rPr>
              <a:t>you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r your new catalogue and a price list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) An opening pa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have seen your advertisement in our newspaper and should be pleased to make business with you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have been informed by ... that your firm is one of the leading importers of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12:16Z</dcterms:modified>
  <cp:revision>32</cp:revision>
  <dc:subject/>
  <dc:title>BUSINESS ENGLISH</dc:title>
</cp:coreProperties>
</file>