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5086-2A5D-48CE-B1F3-1CD2118A8A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340E-2466-492D-B16D-13737E8A3B2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549-8D14-4486-84C8-467553537E6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6252-6630-4DFC-AAF6-005723E4585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8490-34E9-48E1-A433-A425C9A7F82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3713-40D9-4454-9CE5-D273C0D7865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6D91-2251-45ED-A96D-B6301C4B648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5BFF-A8F1-4043-9362-B1E70E50CAE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1A50-ED7D-44FA-A6C5-747F2336CC6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017-ED6B-4624-9479-29ABFCBB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0D7-0C53-4A2D-BFB9-23EBB76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458D5-990C-42FE-AA53-395B0151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42784-CD26-4F23-A92E-F708F238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7E626-E5D5-4A01-A233-D1E283B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745F2-DD65-4ACD-BFA0-EF562E0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AFCB3-5D0E-4784-9D96-919705EC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23850-F772-4DE0-9207-E1537CC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97211-123E-4A26-B961-648439CB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9A78C-4F85-4A24-A92D-2221BA50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8D2A8-B6B2-45BF-B31E-4ED4141E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E02C3-10B8-4127-84AD-E12DE04B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38E-B642-4B18-A62A-320A2348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CB79B-81FC-454D-B6A3-95C7B08C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2FA45-E71C-4FBA-A8D5-B7DA1D0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835A0-B63C-4B43-B7CB-B37D1A7C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F927A0-6856-43F8-ACB3-79D3EBC2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D084E-73E0-415B-95C7-18E5693A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575EA-DA34-459A-9463-0AAE5984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D6CC9-79FE-4289-B414-3D55B081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F671B-5BF8-48AB-9A35-CCC96E40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7A8BC-83EB-433D-8735-3B78419E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2C87B-F66C-4281-B411-7517B4F0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69D-CFA3-4548-B6CD-CE5E2216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0F91A-AB66-4E4B-9A1F-43190DD9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4E75D-6F1F-4681-8B06-D7A8CD22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3C2E6-462B-4229-9E9D-48C98AA0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D2B9C-C2DE-40EB-8F7B-F289A81B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DED0B-8B32-4055-A535-17B08345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CB5B5-2D9D-438D-B791-94AA346D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1D9AD-9EF6-4E95-965C-176666D5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71E1D-9DB6-42C6-9567-92995C2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A07E8-A84B-4BE8-A63B-646095E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AAFE0-A3FE-4F81-869F-932805D1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0B50-F166-483D-B958-BE72A49D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A7E98-36C8-4B36-BBA9-6AC5E337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0CDD5-E656-42E1-92E4-DCDF93D6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4971D-8A8B-46B2-812A-D6D900EF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1049E-E1D4-49BD-A83A-3ECD911C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A8118-287D-4449-996C-E5497107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D35A1-DE0D-42DC-94BC-A9126D22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EAAA0-BB0B-4DA5-B7AC-4A49BB7D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E54BF-6D83-470B-9BE9-6AFE0763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CAC75-76CB-44C8-983A-4C42E172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EED5F-F793-4AAD-8500-DEFA01DC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FDD6-6AEF-497B-AEA4-A07C732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3A5A2-4B19-4E64-9F19-6279D82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D56DC-C17A-4A0F-AEBE-7DE127F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6EB12-654B-4C20-B5B9-D950F4BD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56B49-7195-4246-80B9-A5678723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DB367-64F6-422A-ABEC-D9467FFC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E815D-D6DF-464C-AE29-BE669184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F9561-D5FF-4BC1-A1DA-207BF9B6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7E903-E74E-478E-BFF9-7EAFEE16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4C5EA-386F-496E-8338-3C1E8430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DB073-3B1D-40F1-BFCA-162DAEC1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1961-BD3C-4092-A09A-A0831C59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64AFC-B006-43FC-A24B-E166740B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484A0-A526-43C6-B89D-BF8F68DA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42395-6CF1-4380-AD26-4101A3AD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92216-E58C-4FB8-9E4B-4F0A3E34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5358D-6B03-428C-BEB7-DBCCB46C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38CF1-E668-4A08-9345-102C1456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A32CF-3E5D-4DF7-A3EC-ED2DA17E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7B230-6CF1-476C-8A50-0B738799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0D5D7-9E75-4CFB-8393-3DA8A657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B03A87-72A0-4737-90F1-CFB3D453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8E17-9647-4A66-9185-40951CCE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58F45F-6D4D-4F55-B403-46DDBED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8A95F-5524-42AF-8B70-3BDB5ABF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3BB81-7881-470D-B42D-457BC29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CBE99-D626-41B6-A5B7-55FA8F7E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4F987-9D38-4A23-A721-55B652B0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976C6E-8FC8-4412-B865-C54624A0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4E54D-2DED-4399-940E-5EFD4199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46146-41DF-424E-87C3-119B2FAB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64FBA-7B53-4738-9484-AB460314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51963-ED84-4197-A94A-92733F77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C1F6-C0E6-4058-8DA7-5B1AAB36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39000-3661-43B6-9F24-5C92DB67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C7B4A-D8ED-44F4-AA9B-4B059C5B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4AA08-DD69-4B65-931E-FBA0A256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D7EE7-91C9-4E9F-9CC4-19E2C7FA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23341-3BC3-41DF-A1AD-FC44CD03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C25EF-D1B7-4D16-86E4-4D2AF6E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2665D-1913-4266-8CF0-F1CE8D01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376C9-1A1C-45F2-A45C-A3B73B3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CC914-9187-460A-8BC5-370257EB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82308-0BD8-4A82-95A5-9F40124C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1E9A-ECE4-45BE-BA9F-D75B50CC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3A1E7-B7B5-475D-9548-BCC9D74C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021B6-E584-49FD-978D-E81EC5CB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E495AE-2694-49D5-A4C4-FBC098EE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C8505-DC18-4541-978D-0BAFD820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6F33B-0206-4F6E-A566-C4B91B52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98460-654C-4AEF-A2E4-0A9C24E9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061FD-DDD4-43DD-93CE-7623C4A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0D5D4-F55B-4702-8E0C-9EE4FCF8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1E655B-A200-480F-94D5-B2D9FDA6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22831-0B32-4BC1-B5C6-762DFFBD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44993-770D-4388-8A84-9C42D6E4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D4B52-9418-45EA-93E1-8FAA193A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D353B4-F866-4434-904A-2C3EC2CC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B1A94-1FB6-44FF-9CB5-93138FFB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D763-0AD7-41BE-93DD-C75E2B53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81AF-D627-499C-BD83-3B014B6E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698C-0FD2-4B25-A79D-CE67F3E6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BF16-4399-45DB-8AFF-9EE1C249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E2FA-D0B3-42FE-BC84-D21BAC0A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A79D-9EE5-4108-B08F-BA05FC8B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256B-D54F-4CBA-B6B5-E752734D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46A6-F8F1-4352-8924-BFB27256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57E9-91B1-450D-987F-6A98D72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05C1-4365-48F7-8D71-B31BAEE6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F9DE-39E0-46E7-90F8-EEDD969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390-6953-432E-983C-22B62522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D1CB-33D3-4559-95F3-7BD1E7C2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FE60-D60C-4C1D-A6A1-9A56899A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4D4C-C992-4D0F-8261-964E886B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2483-D9BE-4700-8031-82F091C1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EFFC-E141-44EF-BFF4-98E0F596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B0F7-29F2-4B16-8A5C-47818DC6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4E89-9F98-4FA4-84EF-E966249B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EF68-E395-41A0-B8F0-6506C586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1A05-3407-4FC3-904E-2E8A44D9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C9F5-2DE6-41C5-B6CD-09899A13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E75-0AFF-406C-B473-528DDF0F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5019-374C-4261-B2D3-7C45ECC5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C28D-0BD1-4697-8F01-200E759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F7E3-DF74-47FC-8E8B-7E14B4D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8CB1-7CA4-49BF-A97B-EC76C089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CB83-5D94-43DF-BBB3-5A6200B2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E4DA-87D7-4032-867F-70049E86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CBB4-948D-480F-99E7-E021B3FB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5A738-7194-499D-B8FE-B306AAE9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D0DBB-EC70-42CA-8E26-08BFD01E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9AFB-27E0-4AC5-9A93-2972FADB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746-2524-447F-B893-85583470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D1372-F39B-4DA4-BB66-8E0639A8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4471C-BDD8-4964-997E-BA57797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144B-5464-49EC-ADC0-C170EE6B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0CEC9-49D2-4A62-BFFD-4998AF9E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95FC9-ABD0-4943-991B-9488C153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24E4-5FE7-4132-95F2-F549B092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8E3A-9A36-413B-8B3B-6D50339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620C-E349-44C4-9AEC-FE0289B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4728-D21E-4FF5-A471-523D43BE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28F25-EC3B-42B4-89F6-A3DEC8DE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6ED-4AD6-414A-811A-348DDD32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C5FB-5D65-4E56-BA3D-BC59963A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5965-D44F-4EDA-B56D-0512719B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5A8A8-AF77-40FA-8E31-45EDDB5D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DA235-B559-49B6-AB14-0A3CF007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FB08-A95A-4360-82B2-DA9F1B82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29DB-74BC-4DF3-99B6-8C50D092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B169A-5791-4A84-857A-70EDE755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FC989-EE52-4DF5-A8D4-8B08B8C4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A0139-76DA-4464-8FD4-E9E41D6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EC7A-CED6-4BC0-8EA3-244A4AAF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E61-49A5-49CD-A680-D6BF27B8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438C0-FABE-4B74-9FCB-B70E5B2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69A3B-3190-49EE-B6F6-7EDC9FD0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F4C08-17BA-4ECA-A42F-F62D0831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12058-6C64-4122-BD45-8812F23C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B56A6-10D0-4EDF-83F7-8A22CB80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FEDB-E014-44B4-8FAD-7CBAA664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90424-34BA-4C88-8C26-187F9B61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88CC-C8A2-4375-AC32-7EDF6A8B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28879-A720-4ACC-9D8B-F7546581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EFC25-1DAF-4797-92DF-B0312C2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87D-DF9D-4DE5-9A5D-DCD5C4D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0774-F60C-4E82-94C7-207D16B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7D7FD-9D5F-44EC-A34A-C658DC4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9C28E-948F-45AF-99C0-FFF142E8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4341-7EBC-4111-902E-DE385B12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F7E2-4CC4-4120-B316-28DCB5B1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E8AAE-0AFA-40D7-912E-F13FC84B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F77AF-BE59-4891-9CB9-FC1F609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9E9AB-DC86-4E13-9062-93495418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EF4D4-ECB2-40B2-AB16-F5382209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F896A-5AC0-4CBD-BBCE-12F6EA15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745-E459-4845-BA31-F0DD25D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1A861-7F49-4B92-847E-5A563C2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4656A-7269-4780-AB71-AC883E30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BEFD7-D6BE-4F15-8BF3-A32879C0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AF80A-E762-492F-86F1-25BDC35A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12F2F-4678-4E00-AC5D-BD2AC78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CAA16-88FA-417A-B93E-7EDC75FC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5B3AC-9CC3-43A9-89BA-0EEEBEC9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F037D-7387-4B62-B0F2-B5EB0694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80594-9750-4BCD-909E-900C792B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DB16E-B783-450C-8447-C654DC1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2AAA-272F-464C-B181-6E2BBC1D2C5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7603-D489-4140-B28F-CBE7F3C0042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F708-2874-4C42-8B52-1C068C0444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98A7-4659-48C6-9861-AD13D73895D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C4AD-1A53-4256-9653-9FCBD3A1BA4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9295-6C8B-4602-9B44-87FE5821E0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1ADC-2186-4CA2-9EE3-A9FC7ED5C02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3B2-BA93-48A9-BACF-2FAE1609CDA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97C9-4A98-4E95-A8DD-588CF96C865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B62F-1CA1-49EB-BA9D-B3CC59F1899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757-0E5E-4D91-AC02-CE491F59655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64B-5BE5-47A7-AF6A-11176810253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1D0F-03C0-45E5-B6BF-9039DAB9C1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2F55-6907-4C1B-A0DD-150B954A2C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F06F-9A27-4AB7-B0BD-C35126D1AB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FB8-DBD1-46C9-94B7-9F91A3EA93B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mpt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war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rtial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xe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) Validity of your of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inding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rm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ithout enga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nabíd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nabíd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ffer, terms, delivery, price, valid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F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offers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description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quant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pric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payment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deliver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alid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the offer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Description of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ypes of produ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chnical det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talo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Obrázek 1" descr=""/>
          <p:cNvPicPr/>
          <p:nvPr/>
        </p:nvPicPr>
        <p:blipFill>
          <a:blip r:embed="rId1"/>
          <a:stretch/>
        </p:blipFill>
        <p:spPr>
          <a:xfrm>
            <a:off x="5845320" y="2924280"/>
            <a:ext cx="2043000" cy="265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The quantity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cka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The price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co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bulk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cash pay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long-term busin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Terms of pay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yment after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pay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livery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lace of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way of transpo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52Z</dcterms:modified>
  <cp:revision>26</cp:revision>
  <dc:subject/>
  <dc:title>BUSINESS ENGLISH</dc:title>
</cp:coreProperties>
</file>