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E188-7A43-45B3-A756-07B90004011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739E-206C-4A7C-A3E9-2EDF37A4C65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492B-BEDD-414D-B65C-927065271FB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9B67-702A-4347-BAFB-D3ECEF4CA54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F30F-E686-4DF4-93E5-DBC1F02B592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39BE-9DD3-458F-A421-4C3D1D01709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44AC-51C1-49BC-8273-D12876EC085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B2E5-5D34-4FBA-834D-41B024EF316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489C-6F4D-4EAA-A1FE-2702EBF0676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39FF-906B-4FCD-B96D-E2216BAA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D08-108B-4971-8053-7BE5F596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B37F6-7E80-40F2-B5ED-D54B0CD6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8CC19-DE72-4C85-B411-9AEAC356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4699E-1E3B-486D-83AF-1D8CB16E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E8F92-817D-43C5-ABAB-C1ACE34D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01EDD-4AFD-45E1-896E-8BEFDDD4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5BD0F-BA1D-41D8-84C6-C7C6DDFB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136FF-1DE7-4824-8104-786169D5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F1B8B-D4F3-435D-8704-515FC84A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25ECB-F8C3-4C6A-9A88-60143B20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3903B-C608-4D1D-8854-8F834240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282-85D0-4E6D-B4E0-94C5040A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750E8-C136-4144-981D-DF5E101C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4D453-A86F-47AB-8C64-C223C755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1EA75-C670-4B85-9C8F-E2CB3E3B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683D9-F65E-4286-AE5F-8254909B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6BF3A-85DB-4847-8D8B-FAD0D068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99C86-CDBB-40ED-8D6F-6140A89E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303BF-FD46-4F64-AC1C-BDD550D9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2C5C1-6EEE-4827-9CC7-9B9A082B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05B78-0348-4CF4-A0B3-2ADE2549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C6056-F571-4E84-9244-F415E7B9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C59-2F4C-4C4F-8E84-00D1CB01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59AD2-5409-4C49-B63B-99A5F29B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90963-598E-4A0F-82AD-526C72F4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6E72F-40E6-4A88-946E-5533D994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190AF-DCB3-4676-ACF9-8FDC1FBA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F5AF0-25FE-430D-85CB-CC4057DC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9E22C-8491-4310-BDC1-195318C4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D6577-7BE4-42E7-9F27-410C2FCE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B4A5E-90A3-4A06-97D6-E56D641E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24028-C05E-43A0-A1A0-2173CCE2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88AC9-EBF2-40E7-BA6A-4C146515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FAD0-B1C9-445E-9FDC-B2E92AA4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F9D22-B871-4E96-9457-495F5A0F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B1E59-A958-4F2E-8E17-2B6F45EF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F1DA2-A287-4926-B024-5FD5BB7E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C73B9-C5A8-4B6C-B996-06C8A4CF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04B82-E96D-489F-A066-54D36F61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60BB0-46F2-4FA5-8EB8-30481F99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89225-6B3F-4FC4-B4F5-5A583C74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7D67F-E896-492E-AE11-D84D85EB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F0891-9CB6-4C91-B44B-E6D0D5EF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A6AC0F-1A39-42E2-BDFE-EBD2101A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4DBD-7F6D-408C-930B-E4FA0AFB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662D5-4C39-4CFB-925D-0A880D1C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00EA6-ABF4-4D11-9136-3957D9E1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6CB85-EDE8-4B2D-A922-4A123BE6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BC7D9-C584-4F67-9D68-A9C7D91F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5588C-7B24-47BA-AC63-E684E845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7A52D-EAA4-40BF-8A3B-D21F9740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DEB35-C252-4462-815F-1C798C8C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C953F-021D-47BA-994B-EAEA1915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5643E-9C7C-41D7-93FB-30419ED0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DBCE3-F108-4A37-9C6C-D61EB8B5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0AB8-9812-4960-91E6-1DFE5719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3CB1C-51D8-4E09-8049-2C4123C3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7F123-319C-4403-9500-43EEE52C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0737F-5D0D-493C-AEFE-1E28BB0B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D3C42-2634-4BB7-8A17-846E4E8E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792E6-6478-4F73-BB2D-47062094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F2B2C-4A03-4E17-B7FF-C7F6DBB7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6AD69-4746-45BC-9E59-AA6EB688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83064-C0B7-467F-BAC1-45AFE1F2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CFED0-E7A1-4123-9757-AA0C674D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80D37-7BCE-4E6D-9966-568CEAA9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FD36-A45E-4B5C-A912-F483F59C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B3A0F-2A00-4048-B1E1-A821556A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E99A6-66C1-482E-B41F-1D367011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37AD3-4928-4CFA-86D6-6292B848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C5D06B-265F-4A99-A506-CECDC1EF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1DFF1-686C-4154-80F9-61F08C6A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C38039-0512-4B35-A099-DC48D870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98AAD7-4288-4385-833B-E1005474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26FCD-45D2-4E46-88BA-6AD04522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C24BD-A725-4F59-9C34-CCBEB3D6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00FB76-7A9E-4F5C-AAC5-7D97942B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5349-EE08-4579-9BD9-561872F5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4C505E-86F9-48B4-BC1B-DD90A8CF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71042-9498-4D57-A50B-46EEEE17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DC4D7-F4AC-4307-A2E8-6692B86F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588FE-E86F-4FAE-92C6-43ABBD5B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6BB92-6A56-4DA1-9E2D-1F2E9E62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5635B-AF57-45D8-BF96-10503BC4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E11935-0D8A-473F-BED7-1ACEA653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A51D08-3D17-42C2-932C-B45A76B4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F333FD-8084-4989-AE85-A15AB904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E21C55-32B9-4B54-A4B2-7BF72C2D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8544-F4F5-4B66-8F37-25AC5981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25570-4F5B-41FB-96B4-493F9C83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7C9C9-0A4B-402A-97D4-D4DA52C5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01476C-8B6D-414D-8B2E-4115BBCE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1F6F54-DD69-4D09-B2D6-5989A853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B0F22F-5277-4F76-8A94-9C12DB57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07F50C-346E-4E46-AED3-CAC73D33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843B2-3F31-400E-856C-F841F6C0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7F2D3-83C7-469A-ADD2-9C10AF1F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2FA52B-3CE5-4913-BE0B-ABD8A589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91E9EE-EC95-407A-8AA4-DA7547B2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2BC0-4DF7-4C01-9BFF-6974A6C6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2B66D2-F4F6-496B-8EF2-24A5F129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2D1707-D096-431F-9F1C-301552CE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DA704-455C-4228-AE2C-8DB6766C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A34-754D-4700-9568-38FB9A93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DC28-5CB4-4A77-90CB-96F1511F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ECB6-FD40-4016-8E26-C990DE7C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69CB-9A75-40A1-A9DF-A88C137E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EA95-B7D5-4253-A513-946E4927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6EB3-C1E2-4314-9979-ACF05F3F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10057-2256-43D5-97BD-45BDDFA6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CF620-734A-4C94-BD48-F3D3A865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3C61C-E152-4193-92E5-D99DD71A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D2BA-14A1-4801-85A7-9A14AC25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6CA9C-4334-41D4-B28C-B99240CE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776-E240-440F-AB4B-DC3CAB84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2EF24-ABB8-45DF-81FF-BC4F193D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8BDD-989E-4AEB-A6D2-DA839906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68815-51CF-4705-A870-8D375151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39E95-45C5-4FBE-A2FE-01AD71DA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D69DE-FBBC-4415-966E-68BD38AB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C5C64-F22C-470E-B7D2-9EC40C83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13EC5-1511-4E92-8366-72AFDABB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2B438-2AE2-4D01-838A-F690AF85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4009-088C-4E32-9F4F-849CD665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86704-DB99-4F9A-B426-DC97A073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932-BF95-4A5B-8B5D-7BEDDC9B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76F69-9479-445F-8F8D-DE486963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4B8A6-69B4-4A2B-8B25-A25F4EF2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A0374-782F-4AE4-9204-D49FB10B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D443A-55A8-42A4-82FD-B8D05116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F551B-3BD2-45E3-AA9B-72ECBDFC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A1DDC-8A9F-4C2F-94A2-C0A1BD60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A3D65-925E-47D5-B891-B83DF1FF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CF2D8-4878-4111-8D1D-C6C4A100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C0959-AEBB-4291-8279-57875A83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3E96B-F09C-4D1A-BF87-17FF22DD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0E4-0E08-477B-8B59-DA25C917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6C88B-7BCB-4E7E-A5ED-1146611B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8FFF0-968C-4EC6-99DF-08DF86BC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F97A5-2ED4-417C-85BC-43D4F219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8A2A3-C8BB-4D20-99A8-C8FCC7E6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7B5C2-BCFE-45AB-807A-700BABF0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E36E9-DB32-4D86-A3C0-CCE5A0A4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D6911-FA21-447D-A6D9-AAC059F2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555BC-5C4B-466C-B65B-734E01DC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2F3E5-3285-4CCC-845E-F24BF851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C4E54-0D10-46D9-BE87-5C3DC983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91C-66E9-4AAE-9154-760C8CF7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B84F8-28D0-4414-B39F-789C8E05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6EFDD-03EB-499D-8741-636CFBDE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64BE4-F4BE-4AA0-9474-84BA2A44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C88C1-88E6-48EE-99E5-EDF4927A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DE947-FCED-40DF-A14A-25A4A17E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3D84E-A09E-401A-8B7A-689B9036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C0758-981F-457B-97AA-87C71AB9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B0122-6832-4F8A-BE6D-587FBDBF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C3403-FBED-4F2F-BCCA-6828F278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1449E-712B-450F-9D0D-15E015E1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19D-072D-42C6-8D51-A4BD323C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CC99D-134B-4037-9FF1-2708D24B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4DC4A-7907-423E-9040-78C43078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C42C7-7B86-4D9C-922C-0FFD08C8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CEF28-5ED6-4AFE-8FEF-E6614624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FBD9E-1382-4F04-97E3-DD05A050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8F96B-3568-4759-812D-6AF81FB1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8AAC2-BF01-4B77-B975-E4B894D4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9F4E0-ECA1-40EF-88C3-3BCA8A26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6CDF7-9D9A-49A5-A006-361BC637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6864C-DE8A-49B6-BE7A-8AFA986C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82B-7B6F-475A-9980-A8BC0F1A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99DE1-BA25-47AA-AB97-68ABCAD4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9AA6D-EDA6-4B19-BD50-EC327BDE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70D51-6661-4B39-A551-E6DDEBF0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A1FCF-3E9E-48FC-A3D8-7EEA9E8A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BD4DD-DD73-4BB2-94F5-266F736D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1D8F5-52C7-4266-A6EE-31BC6ED4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DFF06-5FCE-4926-A943-78070BBB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E9B39-D49F-44EC-9881-F97671CC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8569B-EDD0-4F69-AF24-916DF81C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6D351-9A5E-4A3F-9B9A-5079FF23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EE1-5A9C-4164-B3FE-CA4F8A5E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73F0D-5C64-4516-B510-634D7917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97A34-D377-4390-8D99-A85EE46C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8CEE3-DAB5-492B-9668-C2038A04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7522A-B438-49FE-B8EC-D3C4796C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32284-595D-417D-828D-432D86D3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9E01E-D44F-475A-9588-AC02D5FE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2C8F0-6A46-485F-B370-A8D2A793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4CDF7-409E-467F-BF61-25B318FC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49654-E729-4531-BBBB-C001B6EE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AB0F3-8577-4C33-8FD6-903AC165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D76A-EF81-4327-B0FB-C68EA3E10848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6110-C369-4CB7-955E-B7612D58F00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B1DE-C8F5-464C-A9EF-623FD548FB1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9A03-E373-4515-A5F5-ABADB6EE035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AACE-9C04-436C-8E1F-838C493E874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5FE0-C255-4E81-8112-2F050A39E54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5908-7960-4988-A80F-82A0161DB15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D316-9777-4461-B8B6-8CD5FB942EB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D766-6DF6-43A6-8290-32A5A30AD65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9EDE-4984-47FC-A258-2C07506617E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74FC-BE04-44DA-AA16-B8E16F62CF9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013A-521C-4078-934D-70E1D8BFFA8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99DC-5FC2-4B7A-81E5-9F26F59AEAC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429D-B51B-48FC-853F-A59EE28D8E8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0035-3649-4A94-971B-A457A4937B9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E179-22C9-45BA-B3B0-9E8F695FDBE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11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 - tit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Academic and aristocratic titl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re always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BEFORE THE 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of.Arthur Whitesnak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Positions and university degre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re always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AFTER THE 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.Arthur Whitesnake, Ph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) number of the house and the name of the stre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) name of the town or city and its postco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)  name of the coun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.Neil Bradbury, Manag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bbey Court Hot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20 Pembridge Garde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2 4DU Lond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salu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Sirs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Sir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adam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.Jones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s.Staplet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body of the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hy you wri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offer, order, request, complaint et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Keep the same style whole through the le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body of the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.Bradbury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ank you for your order of 10th January for 5 Electric Dishwashers, Model AZZ 56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dishwashers will be delivered by February 20th, 2013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mplimentary clo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pends on the salutation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Sir, ………….... Yours faithfully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.Black,…….. Yours sincerely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signa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33cccc"/>
                </a:solidFill>
                <a:latin typeface="Brush Script MT"/>
              </a:rPr>
              <a:t>John Walcot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John Walcott, Sales Manag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hite Dishwashers, Lt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saní obchodních dopisů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pravidla psaní obchodních dopisů, představuje typy obchodních dopisů a jejich jednotlivé čá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usiness letter, heading, salutation, body of the letter, signature, enquiry, offer, order, complai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WRITING  BUSINESS  LET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business let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nquir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ff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rders and their confirm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ecution of ord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laints and replies to complai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Remind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ts of a business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heading and the da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inside addr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salut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body of the le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complimentary clos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signatu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h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Usually on special printed notepapers wit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Name of the compan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addr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ax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763" name="Organization Chart 7"/>
          <p:cNvGrpSpPr/>
          <p:nvPr/>
        </p:nvGrpSpPr>
        <p:grpSpPr>
          <a:xfrm>
            <a:off x="833400" y="2565360"/>
            <a:ext cx="7632360" cy="3310560"/>
            <a:chOff x="833400" y="2565360"/>
            <a:chExt cx="7632360" cy="3310560"/>
          </a:xfrm>
        </p:grpSpPr>
        <p:cxnSp>
          <p:nvCxnSpPr>
            <p:cNvPr id="764" name="_s1028"/>
            <p:cNvCxnSpPr>
              <a:stCxn id="765" idx="0"/>
              <a:endCxn id="766" idx="2"/>
            </p:cNvCxnSpPr>
            <p:nvPr/>
          </p:nvCxnSpPr>
          <p:spPr>
            <a:xfrm flipV="1" rot="16200000">
              <a:off x="5802120" y="2735640"/>
              <a:ext cx="662760" cy="296856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7" name="_s1029"/>
            <p:cNvCxnSpPr>
              <a:stCxn id="768" idx="0"/>
              <a:endCxn id="766" idx="2"/>
            </p:cNvCxnSpPr>
            <p:nvPr/>
          </p:nvCxnSpPr>
          <p:spPr>
            <a:xfrm flipV="1" rot="16200000">
              <a:off x="4812480" y="3725280"/>
              <a:ext cx="662760" cy="98928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9" name="_s1030"/>
            <p:cNvCxnSpPr>
              <a:stCxn id="770" idx="0"/>
              <a:endCxn id="766" idx="2"/>
            </p:cNvCxnSpPr>
            <p:nvPr/>
          </p:nvCxnSpPr>
          <p:spPr>
            <a:xfrm flipH="1" flipV="1" rot="5400000">
              <a:off x="3823560" y="3725280"/>
              <a:ext cx="662760" cy="99000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1" name="_s1031"/>
            <p:cNvCxnSpPr>
              <a:stCxn id="772" idx="0"/>
              <a:endCxn id="766" idx="2"/>
            </p:cNvCxnSpPr>
            <p:nvPr/>
          </p:nvCxnSpPr>
          <p:spPr>
            <a:xfrm flipH="1" flipV="1" rot="5400000">
              <a:off x="2833920" y="2735640"/>
              <a:ext cx="662760" cy="296892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6" name="_s1032"/>
            <p:cNvSpPr/>
            <p:nvPr/>
          </p:nvSpPr>
          <p:spPr>
            <a:xfrm>
              <a:off x="3801600" y="256536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HOW TO WRIT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 DATE?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_s1033"/>
            <p:cNvSpPr/>
            <p:nvPr/>
          </p:nvSpPr>
          <p:spPr>
            <a:xfrm>
              <a:off x="83340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15th May,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_s1034"/>
            <p:cNvSpPr/>
            <p:nvPr/>
          </p:nvSpPr>
          <p:spPr>
            <a:xfrm>
              <a:off x="281196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15 May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8" name="_s1035"/>
            <p:cNvSpPr/>
            <p:nvPr/>
          </p:nvSpPr>
          <p:spPr>
            <a:xfrm>
              <a:off x="479088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May 15th,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5" name="_s1036"/>
            <p:cNvSpPr/>
            <p:nvPr/>
          </p:nvSpPr>
          <p:spPr>
            <a:xfrm>
              <a:off x="676980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May 15,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may write the date in 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4 different typ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0" lang="cs-CZ" sz="32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February, 2009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5 February 20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ebruary 15</a:t>
            </a:r>
            <a:r>
              <a:rPr b="0" lang="cs-CZ" sz="32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, 20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ebruary 15, 20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!! Use words not figures for months !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 - tit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.   –   is used for m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s. –   is used for a married wom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iss –  is used for an unmarried wom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s.   –  is used for both married a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unmarried woman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1:32Z</dcterms:modified>
  <cp:revision>21</cp:revision>
  <dc:subject/>
  <dc:title>BUSINESS ENGLISH</dc:title>
</cp:coreProperties>
</file>