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43B4-8DD6-4C21-B7AB-6AE5858CE6D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87FA-43CB-44F4-9372-FC2D63CBB51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646B-F2BF-473F-83CE-B645A460CBD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4EB9-E074-4877-82C3-D3A96031C04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2995-5521-489B-AF72-BDCE95BAD8C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00E2-3D9E-4EDC-967C-8CCED99082F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5405-4621-4085-B3CE-EC06616B4AA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5CF0-4B3E-4F09-A59F-AB5FB37AB2F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AAEC-5FE8-4799-9E0F-4EF8CFB7A29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DF27-C1D5-4A49-B913-C774EBC3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F64-5508-4676-81AF-3496B45B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E8C9B-A2A2-4087-B188-41859362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139CF-2CE9-4042-BA0A-851EB7A1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58533-7842-4137-B971-9EB8F02E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FC07B-28F2-4605-9F1B-8238BE04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140F2-C4D4-4B06-817E-558C2270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E6701-0FCA-4E72-851D-785367D0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D8ABB-1A59-40D4-BEC1-35F7B066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BB5F6-565A-4C3B-AF50-9E0FE926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B9953-2099-4C6A-A081-C432779B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348D5-65F2-45B2-AA75-299624A6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F6F-AC40-41FB-8112-F9B11BE9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D32B8-5698-4ED0-AE1C-FE548D3A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C00AE-9A2B-468F-A8C9-1D53E2B1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275A2-8260-41F0-9BCD-0CF91EDE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C6788-B16A-476F-A0E5-7EB5B206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2BAB0-22A4-4652-9709-E5D760FD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ACA54-AA53-4BA9-A654-0B98D17D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BC361-6088-4480-B273-C0525EF5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5BDF2-1E10-44D9-BB2C-F1C4F20D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08CE2-1BC3-4C9D-BE4D-44E2D707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6D6F1-E001-4127-9DF6-6482035F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5EBE-EDA8-4F97-B5D3-6EE3F444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5A633-891C-4034-B243-8C67E2C6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469A8-D748-4652-B35A-7A82175F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AD120-AC94-4C22-AD6D-7E90273B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96470-6DB8-4CB0-8E77-D06090D2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5D74E-3795-4948-8C4A-342DB64A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20DA7-136E-47E0-89B4-F5C68F9A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CB17E-A39E-42F1-AB1C-0B9D8F8E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F7CF6-B4A0-46E3-80E2-FB02E31A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DFFE3-A3C1-4E77-99E7-66E067F6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F6C76-645C-41D6-A736-045C5370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A244-2BBC-4AD7-AC15-7989AE38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FABE8-45B7-45E9-ADE6-0C17D139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12097-482F-4A3E-B4F9-D521C5F7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306D0-FE1D-416C-8475-1E559F18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E0220-4A55-4D0B-BE50-AC35A29F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7B232-6158-4480-BE33-3103546A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78F9E-6330-4B66-8638-977C9EA3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2D329-F55F-4593-9D4D-8C554AE1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96FAF-B4F1-4D20-A12D-A169CC12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68A12-8A23-4A52-AADD-F845B537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D90DD-B210-429C-B7CF-E7D17B6B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8FB1-E940-48B7-98CF-17262DC4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6009A-37B4-47E5-A178-91283842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0E52D-C198-47D0-97F1-C34DB15A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24B03-81D6-4713-8C39-B5533197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FA2B6-615F-47BC-AE94-C9266A4F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60A8D-04F8-40A5-BF96-A5A3E579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54CFB2-0535-4D37-BF93-FC2054F8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F589C-DF7C-413C-BF8A-CE9FDDA6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E08D34-CEC0-42F2-9C2C-256AB23F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4EE81-84B9-45D6-8130-EA9E72CC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B70B6-E569-445C-8B5B-51A41C43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A15F-E055-4B65-BB05-98B8BFF8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8BB8B-6AA7-4FA7-8552-C05AECB7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8622A-BF20-4281-A10E-93FC7A33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14D91-2C4A-47AA-A0EC-10F912F4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D50A4-FAA1-4914-9058-96D8E482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BDA0B1-11F8-4030-8DCC-2FA45601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71660-6F07-421F-9DCD-D7787963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1C8275-9F02-4BF2-B846-BD8D7740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C2C9D3-0385-4A97-9696-D6E30CAC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F916CE-2BFC-4F5B-A75C-9255BD92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B86087-25A5-410F-AB7E-46D784B7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99C2-A6F2-4D21-8194-F4258152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936CB9-FFD7-4380-8652-E0F43A94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B9751-21F2-4E22-8F54-C3405430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F134EB-495C-42CE-B348-AD1449E1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89525B-9ED2-45AD-8929-F07200ED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1E19F0-EBCB-4E29-AAED-C69FF8ED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D522B3-7C0F-4245-A757-85A873C6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B77B09-901C-4213-A926-848EBA33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24F54D-13ED-48FD-A1AC-230CAFE8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59A736-CA6F-469D-AA33-8E1D3C34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263F60-84D3-4695-BB29-6E6AC34C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68A4-131A-4B4E-833A-2B0C2BAD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F9AB8-2BA1-4737-890F-EB1ABD5A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19E1B5-93F8-493B-A832-229AE630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D32EB4-80A6-4076-9628-652542D4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9C5174-3E98-4983-B4AF-3D0BCD73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09BE36-508D-4EB0-B7A8-C867AA6C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4D8BD8-C5DF-4A9C-8509-EE7AC7ED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73B811-61E5-47C6-807B-E76A0B96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C64364-F8CA-4915-A30B-4234737A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042812-CCE8-46C9-9D9C-07BF9035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446C51-B643-444E-A041-ACC51DCF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C26C-BC6C-480F-9E93-E4081428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B5324C-9B2E-4373-84B9-8756FBCC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D558A9-0879-4061-A907-6A7DD69F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4F87EB-123A-493A-A199-923560A3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A4BBEB-D218-4342-8C1F-85F5E97B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61A467-F11F-474B-AE60-A79E2A11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0A877C-CD07-48C8-B837-0FECE3E4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276810-93D4-4821-BFBC-20061181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02220A-F562-4F04-8B37-1A10A2CE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C59B09-DE35-4EDE-BD4E-DAB799DB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CCA79F-5614-43E5-B9D3-F0A105E0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F7A0-6B6C-4277-98CE-3BBDA4A3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289C3F-8640-445F-8A6E-35AB21B6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66F635-EEBF-436D-9676-F18A0A70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3CA819-4EDB-49FB-B37A-98C58E94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86E1-7E23-444D-B6F0-4697EBB1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19A4-6609-4540-97AE-6DA7CE2B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3375-17EE-4183-8483-E24641FB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ECAB-EBFA-4069-8E36-562FDCAD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5C5A-9EA0-47A0-BAA3-3D1DC957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498D-CAA7-458A-A5CA-4FEE9AC7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57869-7DA0-48CD-ADF5-39119876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DD246-8B96-4FCC-AB4E-4B02D71B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331EC-3EE7-4917-8A6B-137BA67F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EBBE5-F2D2-4B81-A24D-9C879510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02790-5670-41F0-A553-FC5B3906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459-3884-4285-9C6B-7E31800A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5FBDD-1C82-494D-8180-9A420AE5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3AF55-A047-4745-8097-DCA8E7C7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A7069-CF72-424F-ABE3-0A8BECA0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2577E-EDEA-4DB2-9FF0-3A9015E5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CA8B3-1A82-47C4-BE12-6B22CF4D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CEC30-E35E-456B-9EC6-0D20BD72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B66A2-85FB-479E-BF87-5D26CF2B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DFC96-13E0-4791-8661-BA28A2E6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ED8C7-5247-4AAD-874D-3F0F8547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FAF71-C02E-489D-A0F0-A70536A7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46AF-0A29-473B-81B7-7B1EF125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34435-853F-40C8-9BA8-DC40F759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3153D-BEFC-4958-A077-F1E7A67D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9D9CC-74E7-44F3-9AB6-C16D5839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53732-A4AD-4F8B-92CD-22E62B5A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44C1F-D3DF-49EC-827B-6C0E5DCE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130A7-94AF-4C61-BD4D-CF852C08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8BA5A-87B5-47EB-A358-C5C7384B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74A53-C8DC-410D-8867-7A9AC704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103D5-034A-48F8-9CB5-0FDA42D2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CD120-9ACD-4722-A8C2-6438EEE3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11D0-B741-40B7-A21D-48BA46CE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EA703-1CAE-4962-BE11-9545C28E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1080D-7A8E-40C9-9C1C-435DEA8A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2306A-69B1-4C53-87C7-94CA6708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D3360-44F2-4DCF-B9C6-3EC20A25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B4E83-D0E1-4BE7-B4BB-96C3BA6B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373C7-D680-48F1-AA66-EDDE048E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B27FF-EF14-4408-8B25-BF5D268B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8BF9C-D5C6-4B3D-8BC8-63AFC742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152DE-9032-4C0C-9947-6547320B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50E0C-9FFE-4767-965F-EE4CAD94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2802-CB99-4515-A681-622326A4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0D159-ADE8-4C04-83FA-6A84E13A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C4785-DADA-4495-BD7C-12B84D6D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50A5D-080D-462C-8D61-F1084EAF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A4951-E85A-4093-9AB0-28E9A73A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1BF46-4B7B-4B6A-9981-47DB5A49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F927F-276C-41B3-ACF6-DF9D2B11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E99C7-2A31-439A-AE94-AD40C5C8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2D658-91F0-4957-A97A-268D55EB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653E8-57FB-4286-86A0-C3E44330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6D89F-7CAD-4D2D-BA9E-231DF1AF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066-EDCE-4415-9EE0-01BE27FA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2A628-E534-4EDE-9A43-9295049F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51ACB-F351-4AF7-A565-06DB026F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9595C-FE6E-4088-9367-D95E7F97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48690-27CA-4202-A84F-646BB55F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5E495-C532-41CC-BDB7-F26F7350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A8E1F-643D-424B-9BB3-F41B9215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B943A-124B-4189-892C-E383C114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3A7CC-8CBB-4431-B832-0FB7EACC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99864-AB44-4E31-83B9-40A5623D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200B0-52F4-4A10-A399-4BBD9874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46D6-77E0-40C2-BC09-EC8C39D8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7B5C4-1152-4B1E-96B7-540CF44B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17038-8650-4530-B5AF-B27BE9A3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B6EFC-6F4E-409F-B515-87F757D7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27115-FF1D-42F6-997B-E3682F13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9EA38-9537-4730-9837-FC2F83FA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30303-A2F6-4BF2-A8BC-A0CE058B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F4520-C783-4726-9E02-190DAA71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49260-C7F8-4EB0-A4FD-DE4B6C81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55394-C91C-489E-BA2F-82925A3A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12945-E39C-4D0F-B4A5-BF56033E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412-F807-4FBC-BACF-40C8EC7B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C2337-DE74-4AC9-8AFF-F52DC8C5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F0E01-9E3B-460D-9FDE-A8B48E9A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E0007-96F8-4E0A-979E-005BDE72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0E6FB-70D7-4CAE-852D-14891895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4D879-B91F-4C20-93F6-B13932DF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9F7D4-FBB7-4526-880E-98CB6CE3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77FA7-98F0-4EFE-94BF-8BB7241A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291BF-86FA-4EA3-B194-63F30D84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8FD50-7A51-49BC-AA9C-AF8925E2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94141-22A3-4E5C-B87F-AFFB29E7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07A3-08DD-4181-B247-F8B70F7B62D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12AA-1F08-48EC-A572-D9C88A64B4B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BD49-37DC-4396-BADE-0B05FC23A19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41C3-2B1A-412E-BC51-556CF43C0F8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1890-F843-4F98-A8F4-5D7155DF00B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B720-6B8A-4355-BE38-2EE7A8B2E89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446D-2FA1-4F5D-A6A4-B4FADE6CFE8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CF38-43B8-4E6C-B51D-717DA2379F2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70E9-F12A-425B-8BCC-DC5680558A3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6EC0-DE22-405F-BB69-F5B60A20467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D16E-0C7D-4672-8443-8B47151DA24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06F8-E669-4882-B90C-67CF57A7F22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E115-7942-4A34-818E-FA01E5D2555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8719-2A20-4803-8FB4-274C17F6266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916C-1EC8-4E50-930A-C5F9C4B7963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DEB2-96B8-43E6-8165-C60B0E7067C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9.12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intern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arching for information, pictures, videos, new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nding and receiving e-mai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hatting with other people via messenger, skype, icq and other ways of communic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uying goods or flight ticke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intern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ooking hotel accommodation, sport or culture ticke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ternet bank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esentation of a fir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ersonal present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3" name="Obrázek 1" descr=""/>
          <p:cNvPicPr/>
          <p:nvPr/>
        </p:nvPicPr>
        <p:blipFill>
          <a:blip r:embed="rId1"/>
          <a:stretch/>
        </p:blipFill>
        <p:spPr>
          <a:xfrm>
            <a:off x="5724360" y="3716280"/>
            <a:ext cx="2619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-mai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ody of an emai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losing li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6" name="Obrázek 1" descr=""/>
          <p:cNvPicPr/>
          <p:nvPr/>
        </p:nvPicPr>
        <p:blipFill>
          <a:blip r:embed="rId1"/>
          <a:stretch/>
        </p:blipFill>
        <p:spPr>
          <a:xfrm>
            <a:off x="4859280" y="2924280"/>
            <a:ext cx="3791160" cy="22334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-mai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should b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LE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NCIS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URTEOU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RREC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9" name="Obrázek 2" descr=""/>
          <p:cNvPicPr/>
          <p:nvPr/>
        </p:nvPicPr>
        <p:blipFill>
          <a:blip r:embed="rId1"/>
          <a:stretch/>
        </p:blipFill>
        <p:spPr>
          <a:xfrm>
            <a:off x="5940360" y="3411360"/>
            <a:ext cx="22478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Telephone, fax, intern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působy firemní komunikace prostřednictvím emailů, telefonních hovorů apod. a představuje základní fráze pro komunikaci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Telephone, fax, internet, telephone call, email, communic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TELEPHONE, FAX,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Telephon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757" name="Diagram 2" descr=""/>
          <p:cNvPicPr/>
          <p:nvPr/>
        </p:nvPicPr>
        <p:blipFill>
          <a:blip r:embed="rId1"/>
          <a:stretch/>
        </p:blipFill>
        <p:spPr>
          <a:xfrm>
            <a:off x="841320" y="2352600"/>
            <a:ext cx="768672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ood ideas for telephon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Make sure you know the name of the person you are talking t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ake some notes in adv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Repeat any important inform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nfirm the main poi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ound interested, helpful and aler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ginning of a phone c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ood morning, this is .... speaking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an I speak to Mr.Smith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d like to .......... please“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ood afternoon, this is .... from Whitefridges company, can I talk to someone from your  customer service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ossible answ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es, of course, I will put you through“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m afraid he is not in at the moment, could you call later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m afraid he is away, would you like to leave a messag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m afraid he is busy at the moment, would you like me to.....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eaving a mess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uld you tell him I called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uld you please ask him to call me back? My extension is 231. He can reach me there until seven o´clock“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uld you take a message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ll try to call later again“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…..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telephone receiv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dialing t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n engaged t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transferred charge cal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n international cod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hook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8" name="Obrázek 1" descr=""/>
          <p:cNvPicPr/>
          <p:nvPr/>
        </p:nvPicPr>
        <p:blipFill>
          <a:blip r:embed="rId1"/>
          <a:stretch/>
        </p:blipFill>
        <p:spPr>
          <a:xfrm>
            <a:off x="6156360" y="3213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1:18Z</dcterms:modified>
  <cp:revision>23</cp:revision>
  <dc:subject/>
  <dc:title>BUSINESS ENGLISH</dc:title>
</cp:coreProperties>
</file>