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2E2-7217-430A-9CC6-DE0FE0B40C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48D-9DCA-4DBC-B9BF-195D6D86E1D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CCF8-6922-4562-8FA7-50DD3995AA1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CC8A-684A-4327-A24D-8536DD44952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E4A8-4A86-482D-9466-D15974D5AA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BB80-EBCA-484F-96AC-9D5E7C213A0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146-3734-4363-949E-33C1606E74F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CEA9-9841-4165-B532-CCFD2979FE6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6786-5095-4BC2-B071-121B4DDDCBA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6A7-4476-4700-87C0-14BE8E98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C47-D195-47F0-B160-F4E2DA07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3CF0-7F19-49F6-B5FD-0B06CA1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6F23E-E906-4B64-82B0-B64A4DED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EB5BA-9E00-4F01-9ED3-4677E093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2B7EC-6BE0-4F64-8FD6-A3BF083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83BFA-B686-4819-B5E1-EEDB6BD0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90712-7AD2-430E-B5C1-4A3622EC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D29B7-ED3C-4248-A326-8608D00E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FD67D-2E50-435F-8839-84C9130A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0DE9F-2246-4886-BEEC-C24F767B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04AA5-2ECD-427B-B41B-825AFAE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C4C-697A-4887-8776-14524AA3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03712-AC59-45CA-B10C-B998B78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4062E-D704-4562-B089-C9367338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B9F68-2F7C-4DDD-AF1C-3C4DEE04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56F91-0050-42ED-ABBA-3A4DCD4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1B9DA-F724-48A1-A3B9-2518E61C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4715-5554-44FE-A29B-22A4C505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2CE03-E32A-4AEE-AC34-894B48C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CEAB7-8C81-4DC6-B5CC-6286643B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E6EF-E083-46C5-A5AD-5AF642EA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947CD-D605-4821-9422-DDBAE881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65C-A9FE-40A5-BC99-AD1E8F93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CAA3D-FEC8-430D-A0C2-7C032D24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B1204-8FE1-46C5-BD7B-BCFBCD98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A57F8-6D9A-4E9B-9687-9548901F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32156-68A7-43A4-B994-2ECC30AF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EED25-526E-4358-B178-288BC812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89AA6-CF2D-4FF8-8605-F66799C3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612DA-4C51-4667-ACCD-7FCC83F6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6BD8A-6DD6-4C03-836E-7096D22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188FD-5C9D-4307-BCDD-6BA8CE2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34B5-26D2-427D-9F6D-84A567F4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F8DF-270F-4EC7-A7A0-B8258B1D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1F9B-7FDF-4050-9C8A-64D25CAB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CA004-BCFB-4C0B-8243-30EF7889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59211-B746-40B5-BBA7-1435854A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FA564-164E-4679-8843-9915CFC7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2E823-3CD6-4938-BACF-09259DD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4CBBE-3F27-47A9-AAC0-8C140C85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763FA-4EB1-4E8A-95A1-F4960765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71F92-8BA5-4942-96F2-7A36DE6D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6EBBA-9AA8-45F1-9AA1-DF7470D7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894D8-CC98-48FF-A926-21E1F123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6A63-E6C1-4182-BFA2-39385C6E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C8D95-3BB9-4718-A7D5-1F4450F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D878C-3D18-4F78-9465-A6B24B4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5E85A-413C-46DE-A721-C31884A6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B270D-3905-4B99-A4B9-7E6B6FD7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DFF80-1E95-4FB3-B31E-8251B11C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3AD3E-99CA-4A46-9D00-BC70B3C3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42F07F-8E57-42FB-B5C1-40ED7EB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38755-F812-48B2-A08B-0E3EBFF4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B033A-6621-407C-99E5-3DFC4F13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C503A-DA51-4F0A-BE4A-116094A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01D-4F19-4B8A-A89C-B3FC67A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52CCB-3C53-4A70-86F9-8EC9837F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5A7A0-A9BD-4A8E-BC2B-33FE3BCE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E4D63-5A23-4F84-BCD0-3B2317F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C70E1-96F4-4B6C-B662-C0436F5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F2DDD-C9C1-448F-8C07-A0827074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170F2-6266-4373-8BE5-DC0051D1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CF836-30D5-4B0F-89E2-43DD785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A45B1-AFE5-47FA-8344-EBF65E69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BB9A5-9006-4A4F-9E9A-D937D6F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5C3AA-2AC9-408E-A025-9B6BDF6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D844-9368-4A23-8B7F-65450A4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DAC28-176A-47B2-8BEE-4AA850C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B447F-8930-416A-BCCA-1F44875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6FA9F-6196-458C-9936-45826293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D97164-3106-4E4F-A726-6C1D982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6EAF0-BE03-406F-95C4-FBB8400C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250FA-3A08-4E5B-8C07-58A8F4F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3C3D2-96CA-4CB3-9ACB-8D4F2644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9BDE4-F565-4CF5-9E0F-A564C7B5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8CF03F-39E3-4749-8DE6-4F682A0D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DEBC0-82B5-45BB-9DCE-64FCF22B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0C0C-98E7-4C38-9A04-352A2340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966A63-7B4A-4BFD-AF7B-B72CEFF7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3A0DE-5FE7-449E-8F39-EC8003C7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E5D8A-2B6C-4715-9D06-3D6CA6F2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CC196-9C7C-4F69-8132-A889E803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BFA1C-0151-43C2-AA9C-3CC62B0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CB6A5-494E-4BCC-85ED-A97FD80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2E818-EE7F-4875-A9F6-17628E35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9576C-ACEC-4EBA-AD4B-A17DABE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C0AC4-30DF-40D8-B050-63109A7C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3DAE3-82FD-4EE1-9510-D0C01F63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D338-355C-46E9-A6EF-AC50CBD8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00CC8-8F78-4A5E-A134-29A47FD8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2787C7-EC8C-40B3-9B3A-7910302B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0EFC3-B451-47DA-881F-399C1C0A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AA882-48AC-4108-B7DB-2693091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BD42D-64F9-4160-AA57-86CCF037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DCB4C2-4B1C-4137-9408-5B28A909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DD15B-701A-4ED4-B363-AF20DCDC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C6A9F-2B2A-4DC0-9538-E7FAEE2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CFC88-44CE-493D-A7A0-19D7C64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95B51-8DEF-4979-967D-A39A519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CC3-759C-4095-BEB6-78D3614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3D294-FBBE-4598-B35F-3470C760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91F29A-B3ED-4C60-8DE9-89A9038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94F3A-3744-4869-9F55-C070EE9A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606-FB78-4616-8629-232862D1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B58-0C50-4A7D-8E67-F89840F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585F-C502-41F4-A1B3-F9FDC7A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0958-AE9A-42A4-8F29-42FFD25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F37-A5A0-4782-9FB6-A1251267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F8C-0E43-44F3-AF2F-B1339183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EDC6A-D41B-4C09-AC83-E12E36AD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66E9-BE05-455E-BD40-9C175F81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AAF3F-5B8D-4AA1-BD85-45AF9D9C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23C7-0603-4D4E-B2F1-AE086D91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5AA0-82E0-4967-A9C1-831C1657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D15-6D9D-403B-8255-714BBEB3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237C-8DA2-4087-AA18-2D3B33F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F194-C1C4-456F-8156-85EB2DB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FFC7-005C-4088-BB80-95572F3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0061-3E18-4FD9-8BDF-6612E37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48A5-83AB-4EBE-B974-BCA06F9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6396-2F69-46AF-94D6-71916623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6E09-0686-4572-8E50-93322D51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6A4D-6819-43B0-B3CB-91E6B152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4038-385D-417C-B04B-B5D51422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5902-0159-4D7D-8A57-EAD05BE2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6FD-C0A7-4317-8F2F-6C1C3636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0955-3F22-4DEC-A434-46FAC0AB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582B-D0CF-4347-BB3A-926F3C18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2CB2A-F583-4301-88A6-E5523D39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2A80-B9EA-4E6D-AD79-A46916B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93B83-4BD7-4F56-9BBA-34CAEBC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0EC4-5B2D-46EE-84B1-1021D60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2B1F-A307-43E6-BCE5-EB39DFF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70D9-7763-4888-B0FE-683B5AE7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E335-C72E-468C-8040-FEC3C50B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1BD3F-9FE1-43D2-AFF1-DB7C0F65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F83-4511-49D4-9B38-B8902A5E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BC8D-A3B8-4346-B307-890EC3F2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E3CE9-F707-43D4-98D9-68545F3A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BE23-9428-413A-9F37-F92F851A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A6F7F-7759-4D2B-BEEC-2274BD17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EB197-6DD4-4C6F-A61A-38247EFB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CD353-04E7-4751-B0DB-E2B409AF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901A-8CC9-46BB-83BC-4A161A40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2C88-005A-4CBA-A539-20B5646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32F7-E273-4568-AA74-01BB15C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80119-4E62-434E-B5D6-9EC6E437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DF5-632B-4BE9-B054-F90A667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38C9-FEBA-4E6E-BD21-8842315B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B61AD-7E33-4814-9289-35DA763B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87F9A-8C47-4561-9783-A82D17FB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9F53-D503-4C89-A20E-99FEE307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6D205-BDA1-4C20-8809-ED305B44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21CA-BAA7-4E0B-BE3A-201C4CF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73F3-73D7-4985-A9B7-5889DC63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E3285-6F51-48B7-9347-A4CCD92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AADF-3027-4A3A-8FC6-94648D56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1A2D-A68C-4FF5-9E83-BEC5C2DE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D25-D9E0-43D2-898D-800E286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FE701-D258-4C76-BC82-5996B22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4301-20D0-425F-A067-2CA4AE4E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97C40-BA32-439E-902A-8BFC7B0F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07E4F-CEC2-4BDC-BF92-36E390CF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88672-6EC5-4C74-BB48-2C0638AF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B5064-568D-45BD-BCE7-869D51E7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E2A3-22D8-49DB-8856-26F060C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2D8D2-3443-4513-8D54-1B60C131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A5DD-46E8-4340-A93A-26852E1C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E47B8-6EEB-4773-8CB8-8070017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D7B0-DFE3-4FBA-9B14-EB1ED422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A267F-53F7-4A2E-A994-C921EBC4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75CD-C470-4DE8-BE70-2E4D333D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121D6-187F-43E1-B3EA-989735E6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C7EE9-F635-487A-9DB8-0F3D9C25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E673-6E46-4B7B-A72E-08F15506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46EA2-6D22-4640-AEED-CFD94D50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17809-42D5-4099-B299-84CD893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25ED4-8A64-44E1-855B-9FA55619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38ADB-192A-4375-92CA-31D8D0B4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C31CC-BFC8-4B19-840C-BA2E3DA3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A5B-A087-4E4D-9ADE-1896450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1F7B0-0748-4517-9F96-24B058B1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6F1B1-30B5-47C7-9CD4-FBC1F1FB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5E48-57AC-4B35-A3AA-73C7F190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3C922-BC75-4EB1-8F07-39CF345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E7A4-DDD0-4711-8CC9-602282F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173E6-B3B0-4025-A876-8F079B45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494DB-F435-4984-B71F-5FB589B4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0C977-1601-4722-AE38-5D99B5D7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B267B-6887-4E50-9E19-2EDBC143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7D6E3-FD72-4EA8-B4C0-D56E39A1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9EEE-9290-4B6A-9F53-C9754416CC3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514F-F880-4350-8CAC-C36561FCD34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B6E-8C54-46AA-AAB1-BE1FEF2DDC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0E5-057F-4B01-A741-E8F415B4A7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730-0446-419E-B68B-A32C7D4DD08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360E-1CD7-4A6F-8917-967ED7373F4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EB5B-54F5-4C59-8C0E-C6EDF96B87F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85D-60A6-44F6-ADED-950ADCD3022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52FC-CD92-4D0A-838C-E573842344F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CE1C-878C-4040-8C1B-94856CA0EE9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18D6-BFD8-4140-85A8-1B30981C649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71FF-31CD-44F8-A0A2-25EF15A0A36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3424-7C27-4F86-9CAC-A796F83AE32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E2BB-BC8B-43F6-AA5D-EDE9550D16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3740-F64D-4EC8-B0E2-FAA82CBF13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E9E4-7F4C-4797-9353-8AFA752DD47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portant things to think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ic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porate cul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boss and collea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lary, benefits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dmín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se zabývá tématem pracovních podmínek, vybavení kanceláře a benefitů, které společnost může nabíze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Working conditions, place of work, benefit, office, equip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a) Place of wor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b) Equi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c) Benefi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d) Other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Obrázek 1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343240" cy="195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of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Is your off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mall or larg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ight or dar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fortable or uncomfortab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 one person or for more peop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qui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rniture (tables, chairs, shelves, wardrobes, filing cabinets, other furnitu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C, printer, scanner, fax machine, telephone, copy machine, internet acces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 supply ( files, stapler, punching machine, scissors, envelopes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onu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th salary or even 14th salary (summer holiday, Christma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 employer contributions (e.g.additional pension insuran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flat (or other accommoda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7" name="Obrázek 1" descr=""/>
          <p:cNvPicPr/>
          <p:nvPr/>
        </p:nvPicPr>
        <p:blipFill>
          <a:blip r:embed="rId1"/>
          <a:stretch/>
        </p:blipFill>
        <p:spPr>
          <a:xfrm>
            <a:off x="3338640" y="429264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nt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udy trips, seminars, cour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nces of your promot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kindergart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42Z</dcterms:modified>
  <cp:revision>24</cp:revision>
  <dc:subject/>
  <dc:title>BUSINESS ENGLISH</dc:title>
</cp:coreProperties>
</file>