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E832-8528-45BD-A1E5-90F7D3BA13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8BE-D721-4972-9861-8013AA5417A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3890-B5DD-4D8E-972B-59ED9F90DFB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506B-A263-4C47-B7CE-E25762D77AA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1417-8BB6-435E-8A66-CC825DE5D42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609B-C7CE-47CE-AB95-8ABC0F592E2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CD41-362C-4DDB-B3EC-124212F4ED5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ED0-76A6-4063-8E0A-A8E8F52DAB1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3689-18CF-42AA-A27E-BEFF60AA7B7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456E-92E2-4A5F-9CDF-8F8E7C0F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6FD-8A16-4FA8-85E1-C94B528E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32F06-8E65-4B11-BEE7-3619092B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4D571-EBA6-4141-A8DD-99363E96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4503D-2EE5-4688-A6A2-71A23D59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BB972-C9FA-4FC7-BBF9-5069F9C6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A76C9-1A8E-427E-A780-07AF97C2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497FA-3589-4FCE-9F7F-75916A0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C4D68-D5D7-4F8F-9547-1090D3A8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E9866-5940-4D2F-8199-DBC901A6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9398D-3519-4D1D-A3C6-6A06E219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BB621-332D-4E0B-A24E-1AE6B1FB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D5F-3BBF-4986-A5D1-9D8F7208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3F087-12AB-4A7E-906C-DD45E3E1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FD0D9-E283-41FB-BA20-030BA386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BF781-5FED-47B2-99DE-820C875C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9F0AF-AB05-40E8-9416-A9750FD1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60060-B365-4250-8A35-DBA3F472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030AF-94F8-40D0-92AF-B50DEDA3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D74D1-9C8D-4E92-9F84-0C05FE2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51465-0D9D-4727-903C-48147BA6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63E6F-17ED-4A25-860E-51132C9F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31E37-A224-40FB-B16D-8A437797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DB6-B638-4A53-BB54-A6E2AE2A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D4371-454F-4512-9C79-4E6FFE31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7CF8E-9040-4DE5-8199-6A194034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BDA53-AFAD-4F1A-919B-C504DCFF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586C8-A3C5-48B2-99D3-6E69EB16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A3E19-AF7E-4B33-9425-66D7F24E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7C0BF-1024-4F5D-B134-89111D25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B4ED5-18ED-49A6-B814-F3D50475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CC0C3-1B12-45C5-9CFA-1E301565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4EA6E-C528-48C8-832B-8BAAAA5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01669-E0D0-4692-97AD-E8EDE362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2BE1-E578-458D-B927-13CEE1E4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A3E1A-CCBF-4893-9399-719E3C1F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0547D-2E0A-4A4F-B831-29C17A00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FF220-B64C-4E14-BAA4-0F1A2128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759A7-9A3A-4682-852F-67E7F3D6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50E67-2512-473A-B0FB-A0416CAE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C4D73-CB00-4901-A6F1-A9D0BB3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6C58E-41FC-47A2-94FC-99B55CF3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6494C-481E-4448-AF4A-49BC1322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DC615-94E7-4AEF-A77C-9639D228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E59D1-849F-434F-90B1-CCAC989F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9755-C408-4BE6-8E85-5B9F454C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30532-A5F6-47A6-903E-E616196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2CCE7-ABC8-4FEA-8A97-6927F4CA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3C3B8-40DF-4F73-B08A-C8FC3F4E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92736-D039-46AE-AB08-976B4FA3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7644D-94FD-4502-91A2-7BA4CB7D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CCE3D-8250-47AD-9E9D-8AFBAA02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E372B-7A81-426A-9A02-8B448C9A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3DA42-D335-436C-9EF2-309FCE7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30506-AFF6-47F4-A673-9FF4F6EF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2281C-7274-4C4D-8B79-EAEB7AFD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5A20-46DF-4F77-BE7D-71DA169F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EAF98-F9CD-4EB5-AE80-781CDA17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1CB37-7769-48E7-94D7-5A11D8E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BCEDE-BAF3-40AA-B9BA-52C11D6C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B79EF-B4F4-4B32-8E04-28E97AE6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EB840-E6F7-4740-ABBE-140D586E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A9A28-3A43-45DB-AEC8-64DCF848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BD84D-DFEB-423B-B473-17D30A49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0C7AB-A128-4064-8D6C-4CC1096A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BD1A1-1261-4371-A50A-3135113B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6EE73-5FCC-40FB-81FB-5EA1BEE9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C58E-EBBE-4E66-A3A1-7BDD9848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2D89F-37F2-468A-88E6-E85CFEBF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274EC-1826-484B-8385-5C002A7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206CF-86DC-4481-99E1-88A868B2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DBEAC-9139-42E6-81D8-530F3822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877E6-AB9B-44C2-924A-48FBA002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A32F0-BE8A-463D-8D66-A7355646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C79AA-66AF-480E-9B0B-182115A9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A2387-9BA3-4A08-8A51-433D8372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DA88F-FF43-461C-9362-29FDF3F3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4418B-4F51-4008-A3EB-079F803B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7590-38DC-425F-BD47-D9793EF8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15AC1-74FC-4C0F-A55C-4A9D42A0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567A7-DD75-4C5F-B4D7-4B05F326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A8D23-E8AF-40B3-9DBF-9BDEF79C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E4F0F-2688-4CA9-90A7-55D6C3C6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9FAEF-4CCB-4A75-A02B-2B806978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1AAD24-209D-462A-AC80-D74C955B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38648-E9BA-4DF8-BA93-A1760DD7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F2F75-F6EF-40F7-9B24-50290DD3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C805F4-2DD3-470E-8263-1AE27F5A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EA28E-D789-4F49-9B3E-2D6BD75B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F734-D098-4847-B378-7BED094E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2EB8CD-E9CA-455B-92F4-600C5D23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97F101-E11E-4EC6-9EE5-0D771372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B26EB-103C-4150-B2E0-8E43F114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DE44F-8053-4E13-B9FE-BE4583B8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DAA0C-8229-415D-A4E2-8EA193B3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CEEB4-5DA3-4DAB-80FC-B4CEF31B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E3704E-C295-4E3A-B27E-821A5197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C4F814-8904-4A26-9757-5D34DA07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1D599-0AB6-48FE-98A5-085D1DD6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9A8A2C-5831-4934-BCEF-229EB77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688C-3FE3-415B-9648-0FE8CC02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115B16-B4BE-4477-B3F0-E90812E3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EB6ED-F32E-4307-840E-6FC51707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224A4-7124-41B6-860B-F620A67A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FBE-A27D-47CA-9EC7-C1D85570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4E05-CB8D-41CC-A1A5-3311ED37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E3ED-710E-43C6-96D7-E5D7810A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9CD1-AA71-473B-ACA9-3692DB24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BFB7-1959-4231-8357-DA42CDB3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D796-1683-4B11-AA9F-743BFCEB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83A4F-BF05-4F5F-9FEF-A19F1A12E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1A0C-6A31-4B17-98C0-57B3D477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0563-3A8A-41E5-B503-7A977206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FD8A3-EBEB-42EA-8CAA-2804773B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628BD-E002-4AFC-8524-B081DBAC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1FF-C4CD-4B9E-BE4F-A9359D79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9CD7-8875-4115-AEAB-2524F6E8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61B8-4ED9-4DBB-9AD5-DED1EB1A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FF80-AB90-4809-93F7-9367026D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B9208-31A2-4B50-969C-C0573453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F0CB-3D57-4BAB-95FB-39D2469C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CD36-8A8C-4BCD-A5DC-C1C2BC59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E80A-E9CB-478A-A567-52B5A59E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EBEF9-3EA4-47DC-8741-0147B141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FA201-CD3C-49DF-B33E-7C8A24F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3BE2-C475-401A-AFEF-25E2904A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BF35-B9F9-4A60-9FD4-A67F4B9C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A031-CB99-41B2-8002-673F0D9E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BBA8B-EE83-4B3F-904A-389E1584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DBA1-2F0C-49E3-AB14-B4F807F6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EBBC7-EAD0-4909-A844-7C39E1DA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C402-F455-4182-9895-954F3992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B212-E141-47F4-A354-939C1ED3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B1DB-E279-40F1-82A1-CD92619B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46CF-266D-475D-8450-B470F441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33D4-7ECA-4195-AFB1-165C5ABA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5AB19-8D93-4C19-A859-9334C317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D58-4C0F-4B6A-B52D-9C09BF31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6446C-8FE4-42E9-96D1-E4377716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A06E-A72A-442C-9B84-7815F1C2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961A9-1DE7-4D47-8A66-AB4546AF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E3827-64B7-4ED2-8174-3FA3056F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63457-F649-4706-99F5-94B0B2C2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408F-1B25-4935-A981-9B194305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DA12-5FE0-46D5-A211-01949B2E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3852-F8FD-470B-AD76-507A267C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E7ED1-3B73-4546-A5F6-8F124E66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E4AB-8F71-4373-A6AD-5C0A0D75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2B6-5536-40E5-8586-394E8699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941A-0B33-47C4-A900-DD6D94FE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6DD8-3B53-4029-86F2-D4AB1730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37225-5BD6-4AA1-9B9A-BEEA26CA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1F974-902C-4A6B-B3F9-9EED6CCA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E8E6D-F733-465B-8014-7E0397A4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A35C7-DD6A-4527-9FAB-3903618D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11C45-11C1-433B-B6C5-BCB5A1F6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B8D3-43C5-43B1-B2AB-8F33836F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D89FF-F1D7-4563-989C-5CB8B760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AFE02-A9DE-44F5-844A-0533908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98E-0502-45E3-A0FD-3E6ECB9D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C5C7-4B54-499E-8E23-546157BF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1787-7B37-4A77-8C88-12714906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DA55-F40B-42B2-877C-B38B0C87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1212C-B870-4DBD-975A-B7541938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5A02-1ED9-4044-A3DC-C06DBD86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E3CC5-6C81-4FD4-A4F4-8B197445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18C92-0F33-478F-A9DF-755E7DF5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CC95-219D-4976-8C08-C45488FC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42DBA-8C2A-4442-941F-147A0A65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28EA1-EB5B-41F4-B88E-AF32A0E4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225-8827-4599-B337-645C6A38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EB005-CBC3-44DA-90DB-C763257C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982DA-FBA1-48EB-98DF-19F5996D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AAE06-AE2F-481B-911A-6A9A1E09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31931-F726-4553-8953-24F8F25E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C7801-82FC-4CC2-AB74-5F101D11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F45F1-5FD1-4B64-AD49-EFBDD689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5925B-F136-4C68-8B66-083F48F9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034A6-6F08-4187-A0F3-9D77004D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8956E-BB4D-4F1E-AE25-18135F05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E12A0-214B-4FFB-9223-346D50A9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648-7782-4AC6-9E7B-E81292AE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168EE-B06E-45C8-B3AD-D5CDA58D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A4740-EF63-47D1-94CC-72AEDC24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6AA58-4F1B-48D4-921E-6ADFC522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820C5-8CF9-4032-8779-5FF3D72F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3021E-6C82-4AF0-AA0B-FC0F7E0E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DAA93-943C-4204-9AD9-1328F188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5F06-F9B4-4384-94DB-2329A2F5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2CC5D-A2DF-4264-9D97-546B14E6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6228F-52AF-4E64-9D6B-484D1623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32A23-99A4-4044-93C2-0F48F2FE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E85D-6B60-496A-AC93-9645E8A275F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6294-2E4F-4D2F-A765-3A93A70983F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D737-E005-4CAD-B57C-4971D597CEC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B55E-C1A2-458E-9949-6697E942C3A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E23D-17D9-4895-BDFC-6512881541F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1E01-FFC7-445E-8B0E-6C54DAB04B4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25E2-A977-43CE-B113-D4B27F30493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D621-036D-42D3-8FAD-F44AB0DB055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7E58-DEE3-4AD3-9E5C-6384BE981E6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6EAE-D056-43E6-AA64-5AB9874CADA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F04C-1B21-4851-AC9E-B0C400D9439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9D12-3235-48A9-8610-E2C3EA6280F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F70E-C049-44EF-849D-79C00D8F317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8229-600E-46BE-ADC9-25B4E3A041D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A680-3FF3-4B40-9F34-814D84113F7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0465-37DC-4D58-80AB-707975FD512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 as a persona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sent job and posi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asons for leaving your present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vious job exper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trengths and weaknes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kills, talents, abilities to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expect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future pl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 to lear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amwork x individual wor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ingness to tra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bstacles (long working hours, weekend work etc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alary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(compared to the present on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enef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eap housing lo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nuses paid in a „thirteenth month“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ension schem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ee canteen mea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ong holiday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lexible working hou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ome good adv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be late for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lie at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ar appropriate clothes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ak slowly, politely, don´t use colloquial expressions and vulgaris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Be yourself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21. INTERVIEW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hov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typy pracovních pohovorů, očekávané oblasti otázek a podává rady, jak se připravit na pracovní pohovor při žádosti o míst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Job interview, applying for a jo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TERVIEW FOR A J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ying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 cover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urriculum vitae (résumé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for a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job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ne-to-one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nel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ep-end intervi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paration for an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 about your potential employ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prepa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pplicant job interview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earching for some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ewspapers, magazi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rochu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om people who work (worked) t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view prepa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appea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th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Questions prepared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etting ready for unexpected qu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icant´s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e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ma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ncerity, veracity, forcibi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27Z</dcterms:modified>
  <cp:revision>20</cp:revision>
  <dc:subject/>
  <dc:title>BUSINESS ENGLISH</dc:title>
</cp:coreProperties>
</file>