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21F1-264D-43CA-A5E7-39FF58717E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E065-5F23-448B-80CA-412F72A4F46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7355-C186-44FE-A971-FF1FC60187B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818A-E0C4-40CF-9289-E0B0EC8B71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F7B1-1B9C-4454-9C02-4924B9092EC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2B86-3FB5-4AC8-88BB-F03B4501DF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3996-9345-4830-ABEF-38ABEB52A2E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F8B-9DBD-431D-B948-F7DF18EC52C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E86-31A9-4E2C-9B27-76C0FFAE550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B68-3C24-4B5E-833F-43DED7BF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093-7763-44E7-9F2D-D0C1022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C83F9-795A-43BF-BC21-258906C8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64906-7A88-425B-9DF8-63F58275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CB002-B426-4B6C-80E5-9AE627C7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F059F-AD5D-4DC2-82A1-693C2D37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9AC45-7C63-4754-9D8D-853DDE5F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8B336-8AB8-4F56-A311-D9E7340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E7EDA-9C05-44A1-894A-432D125E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F2B9A-6D07-4D95-841B-0DFE9FAE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A0A82-3272-476F-9E15-F0C28199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9E07A-CA0D-4F0F-A64A-D3404F0C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EF7-DF73-419C-8ED9-57438C9D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864DA-5403-4E18-8A9C-9621494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F724F-7840-4642-88D8-FB3930DC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56980-0AA9-469C-BD77-BBB2468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A5A29-7D6D-4985-9F91-510CD515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5B33B-19CE-4692-AFC0-6AD171B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3D5A7-37B4-4373-BED6-23D811F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E85FF-AD99-4439-9939-383B695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8622B-BAB0-4E90-9101-EF61824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EC026-4999-4683-9222-A329AAC7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2DDD9-C0DF-4265-85E3-8EC64B20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362-5590-407D-9B9F-EC0CA1F47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32F3E-6211-4E63-BB75-6DC9D8BE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0182-FF67-49EE-B29A-E94FEFB7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40F38-7BF0-4682-AEB7-3D0E9F5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5826B-521E-405C-8212-B1CDF45B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74E06-71EB-4A69-8A7D-17A553D4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20B16-2775-4E8E-ACE2-8C51F8F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ACDAF-BCA2-4D2E-996C-A2E4609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F6ACF-8890-42E8-A268-D2C1C6C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ECCA0-9BEB-4B6C-B345-CC46FE22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401D-41BA-440D-AE28-655FB36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D830-1146-4B66-8E58-0F061820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AF796-0A28-4E93-B742-C231B6AF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4CA36-CE1E-4156-A565-155BB03A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BA033-A02F-4923-825A-D5577B9C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F0F8D-B318-42B7-B48D-442B8903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B72AD-A2A1-4EE1-A964-3CA15650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C6CB4-46F9-403F-8BDE-F2580DC4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274A1-E1EC-4C36-A355-DCA2C95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C9465-83F9-4D4F-8C8E-40162881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215D5-D041-45EE-A256-86CCE70F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03E43-B3B9-4593-928F-E0615942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E0C9-7376-4FF4-BF9F-B28F235C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10847-7DBF-4AD6-978D-824CAFF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8D0EE-F6E6-4E59-8746-FCD2AFFD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72487-1790-4ADD-ACDE-7632D470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63222-FAF1-4331-AD68-26FA4796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F812C-6652-417F-8651-DA7021CA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04BD0-6907-4736-A506-D7DAB49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AEB25-CC72-43A4-BE33-9C346E8C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D181E-67BA-4B8E-93B8-21F421A8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667B7-FEC0-4512-85A4-42B9236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271B2-BF85-46AA-86B3-77CB16F6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8361-5E6E-4FB3-A6DA-D6667E3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7AACF-9454-4935-918B-C61889C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203C5-F56A-4068-91ED-7BBDFEB9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D5D77-7B76-4C64-B68B-722D7AB7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49D83-3909-48E8-A78B-A09F0543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720BF-1977-4BBA-BE7B-D2075FA4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FC9A7-1D95-4DC5-9DA4-F926A9D8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A89FA-86FF-4F44-B9DB-2090CACC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105CB-DA80-46E3-B539-224D8DC2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64ECF-ACCF-4E48-A104-1C753ED4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4CBA7-5946-4A82-BC6F-6115AD2A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8A1A-BB7A-4E2E-BCA8-F817AE5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6EC31-69D6-4326-BF76-8AE7854E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78E29-DBEB-40D3-AF96-1F1A709F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99407-97BF-41D2-93CB-CD6EE15A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3C1F4-84DD-48F5-A97F-41897051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72DD2-4E65-4662-A045-370B779A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C4E6F8-3384-47EC-B58F-EC10AF78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E564E-A659-44A7-9CFE-958EAFC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C8A7A-A36E-4599-B67F-18A57691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253D31-8533-4CA6-81D3-19CA79B7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900B8-522D-4D86-ACA3-92EE4AB0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F479-04E2-4FD5-8E74-9125A3DD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B66BA-EE57-450C-A138-23C4ED33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3D5776-4C18-4FFB-A9A6-D6CA695E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28AE9D-417A-4233-AA87-D4A4187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C4AAD1-EC6C-4D99-A533-6395C057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DCE2A-F9B3-429A-A6CF-1311EA98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91958-0B8F-43BC-AC1B-507A340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126F2D-CB50-4154-B5B8-A784583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40A24-D6C0-4972-B02B-8EE714B1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73232-5D4C-4434-934E-CD4CA73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6FDB0F-B2E0-46CD-ACBA-A2304933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3706-0613-4E69-906A-305CA341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8A7CE-2576-4FB3-BEB4-1F9500E2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A24F8-577E-49A6-A69A-E762514E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11AC5-911E-441E-9CF5-AA60450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47E512-B1AC-438E-8265-55AD074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BD4908-A322-48A8-9290-225CED25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4D03C-4C00-43E0-95DD-2515FD72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B9321-397F-4D27-AD4B-A4CFDFB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16C2F-E1C0-4111-AD29-6B5FA7BF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3B079-A6FE-40DD-8C85-F0A4B5D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66DDC-859F-433D-9DA8-CE81D25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0DFB-84EB-4879-8E2F-9C787EC7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9CCF0-BE15-4BF3-B63C-8BB098C6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8AF53-04AF-4B74-B607-EEDF68B8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A19BE1-85D5-4613-BDE7-FDA1266B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B33D1E-B7AE-4A33-AF21-BF094EF6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D783F-E044-4FDE-99EC-0B1738C0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C6A8B-2016-4FE7-B355-E7821EC7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1DB80-809D-4A95-B7A1-3CC1D63C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296163-E131-4D6D-93AA-EC1EFEA0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4AE4C-945A-4E44-AC8A-78FDC2C2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335BC-63C2-4DB3-B33B-08EBA1D8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FE4C-9DAC-483D-A252-EA49CA5B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C7A-09CA-4E28-9CEF-5D7DC475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50C9F6-7111-4277-BE4B-E931A32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6EF7A-F1EF-4895-B5BB-3955177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C4790-8C24-46E3-8223-99843D5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08C60-D766-4665-B100-F2792225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D43F3-DE77-4CD6-A490-3FDE3D46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0B9A-BBF5-41A5-85BE-E948ACE2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960C-C0C5-47C1-AD5C-5A8BA1E4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2FDC-1E8C-4EDA-B050-C2CB5507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1C41-25A6-4542-ACC8-4797BD8D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242B-8A5A-4C9C-9340-03FD5F06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2853F-C82A-4096-8DCD-9882BB70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816C-536D-48AE-9F5B-0B104CF7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9E67-DF32-470E-897E-982BB4D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242DE-F2F4-43D4-AE07-29994625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5D5-384D-4B1F-93DE-5B4A576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1758-40F4-43EC-98AE-B17B6DA6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7649-98D0-4663-BDAD-D56C9475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421B-7F67-4340-B6A5-9A41BE9B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A9F3-DEFC-432F-8F61-CA069BF5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92EF-2E1F-4E1A-AB37-7DEAEF4E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478B-3136-49AE-B196-8DC55886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FFD6B-883E-4B6F-A488-9225BDF0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21B9-FAF2-4FE3-B45D-7444736D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167C-1921-4993-9109-C7EF781C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5ABE-7B36-42F7-B397-569CFE0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ED7-3996-459F-ADC6-C13A400E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6039-A89E-4B52-BA6D-87AFF106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ADC7-6C23-49AD-AA93-D7F80B72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C7C8B-F4F8-489D-898E-E3A26B5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B880-1B70-404D-B9FF-53A04E0D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6A993-F16A-468B-A967-5BEA0C1D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91F4-D68A-485D-B4A1-DB2C809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429D0-DEBD-485B-A68A-AEDE1BCB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413B-E9A1-4FF2-A578-6DB56F80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A98F5-73A2-4B91-BCD9-B19BE801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BF89D-E4CE-4514-9CED-F660FABB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6D4-5D71-429E-B192-9D615486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D745-723D-454A-A15E-65BC2635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87F0-4A44-415D-9950-EB7EB36A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959EA-B54C-4DA0-AF3C-48E28B5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5DF7-CFAE-464C-B92B-063CDCFA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DCDE-41FA-4F3E-B5F4-45D297D4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D729-F18D-46B5-B8DF-1B915EAB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E454-E3BE-4EC9-AFE2-C5E77C6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FE41-44FD-4BD0-8D5F-6AB6B4D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2BE4E-6E33-4245-9305-D9EDDB72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1B8D-A125-412F-AC33-53DFF78A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C5E-35D1-4B78-9651-D2C2BD41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D61D-4D6A-4216-A3C8-39E9FC00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25E7-79CF-4926-B936-A93B60AD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9450-1EF6-4CF2-B8E7-3F449D60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CB0C-DB70-42E8-9EF9-39A6433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8132-4830-413B-B3BF-01E89D6D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C628-938F-4E95-BE3C-1C663880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6C1F1-108B-4601-B9A5-810EA520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78601-BDE8-4BFA-AB6F-3910534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38D4B-6D8F-413A-9C02-2373AB2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2B220-64D6-45E5-8825-20489479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F54-56FB-44F2-8638-E3594107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D78E2-4C8C-4FEE-B617-699D84BD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B571E-D566-4FE5-ACA9-D03BCC27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89AF-D3B1-4E17-9815-025EA282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BBB98-7562-48B9-BDDD-06C71FD5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320F-9890-4ACE-9D6B-7EF7BD59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C8AD2-E41B-4CFC-AE0E-9AA7439C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7D8FC-237D-4612-B43F-DF15F26E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BD2CB-2146-44D5-B9B1-D4E6250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E0DE2-9930-462C-A064-408C0C53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B7E2B-3F17-47BB-B65F-C662F08A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3EC-87AC-470C-8146-B8A7480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1314B-2D04-40AD-A5F0-1A87A8EB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8610-84C2-41A7-884E-28A1D3D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03362-703F-4FBD-96D3-918C6D7D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708B-54C1-456E-B456-4D39B76C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48DDC-8E66-42BB-98E2-06AE0217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16A72-41B0-4E45-B078-D06BE150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ABD3-7D9B-44A6-961A-12BFEA19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4687-A388-4867-B1BB-88F309B1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908D2-B7A2-4AAC-A0B7-19EEE740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A2DBE-346D-4359-8738-587B7CCF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9E8-FD5B-4728-ABC8-BBC8F01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30EEA-A2A2-4434-971F-36BE242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2A19C-888A-46E2-BB2E-27DF493F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197F5-5B36-4DC5-B60D-F676C1B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70A87-40EA-46B4-9D7D-385D41E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2B58-FA64-43A4-A6DF-DA6D1CFA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8129E-23B8-4845-BA69-B2DA4CD0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95A86-B7AF-4FA1-A2B6-3227CEB6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BF5AD-0409-4D70-BC77-C6320834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949A8-7511-4704-85DB-481589FB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4DD6E-449D-4021-815D-D8A25DD7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EC17-9102-4E51-81C8-F1934F322E1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2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1B0F-53F3-4B55-B8D7-82E423664F1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7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2EF7-F7F5-4C4B-AD1B-009128E203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2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7394-9FA2-4A0A-944C-7873B2C2A5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01DA-3F5E-4FA9-B378-BA054C8F5AC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0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7CE7-F457-4C9D-8ABE-538ACB0DBE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EEA7-704E-4AC1-BDAE-C809634854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9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D7BA-5EB0-407F-9CDB-2503B7F0E05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5DA4-9F75-4F84-896E-9B02E74025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D63-9552-4AB7-9499-4C908FD0749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498-DF96-422E-9292-5792BB4E11D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0A88-B2CB-4590-8DA5-E26F4BECE97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90FB-01C5-469E-AE5B-7BA5147344B3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81F6-CCEA-42CC-BC2E-310607D9379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8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FF96-070D-4B6D-A7C5-A4584D5DC35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8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0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1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4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423-88F8-46AC-8DFD-EEA1C38A382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7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B568-522C-4E3A-808A-3BBB244FF39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2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7 – 2008   Kalamity bank (tell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5 – 2007   Vodárna Troubky (accounta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2005   Mrazírny Eskimo, Orlová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personal assistan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gu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 (advanc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rman (upper intermedi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panese  (beginn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: English (actively), Hungarian (passive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kil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uter skills: MS Windows, MS Office, HTML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iving licence – group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writing, PC writing, shortwriting,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bies: sport, dancing, knitting, embroid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s: languages, econo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commendation: atta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VERING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y are you writ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did you see the adver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position would you like to apply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ing a personal me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os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ttachements (enclosu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složení profesního životopisu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, osobní informace, profesní informace, průvodní d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4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0033"/>
                </a:solidFill>
                <a:latin typeface="Times New Roman"/>
              </a:rPr>
              <a:t>CURRICULUM VITA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and sur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and e-mail cont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 and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rtificates and ex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ame and surnam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ny Wal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ate of birth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bruary 30, 19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ddres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 lesa 1234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IP cod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33 0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wn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rviná – Dolyw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ountry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ital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alth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ry g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elephone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+420 732 733 7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-mail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zonywolkr@email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ucation and cour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1999  Univerzita of Franta Vopička, Postoloprty, Economical faculty, branch Marketing and rac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9 – 1994  Obchodní akademie Karviná, branch Business academ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4 – 1982  Basic school ABC, Karvin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ertificates and exa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type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short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certifica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4:44Z</dcterms:created>
  <dc:creator>Ing. David Holzbauer</dc:creator>
  <dc:description/>
  <dc:language>en-US</dc:language>
  <cp:lastModifiedBy>Igor</cp:lastModifiedBy>
  <dcterms:modified xsi:type="dcterms:W3CDTF">2014-09-13T14:10:12Z</dcterms:modified>
  <cp:revision>10</cp:revision>
  <dc:subject/>
  <dc:title>CURRICULUM VITAE</dc:title>
</cp:coreProperties>
</file>