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6B7D-37F2-4249-9980-C862F5F6D2D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08B2-3EDD-4287-965B-395B7EDCB18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3AEF-09C6-460C-A8F9-6EEF2958CE3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A2CF-DDAD-4ED7-B9BC-DEBCB29F365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4977-FC13-4B09-A1E2-AC31BC19951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7742-D845-4F88-8EE5-5DCD3B08C7E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80A3-C017-4836-A969-303DCC045D5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4B49-CD45-4C61-A87F-16D39D2C6B2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9903-59DB-4FE2-9763-3DF3073ECB0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ACC3-E738-4B78-BE9C-57B45CFF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B261-8B9B-48CA-A916-79B88BCA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1E292-8717-4A76-A9AE-F888EDB0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2FF17-150A-420B-9999-54D9DFEC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37B40-CA55-4CA3-B613-02A1EE11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79CEB-1764-4228-AE4E-F378CE2D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96809-3D53-4700-B088-D2B72811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BD666-59C8-4398-8F8F-6551FB7D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22138-FA6B-44C2-BBEB-9F875F30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A0287-690A-44CD-B04F-9BFDF28C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D28CF-D778-4A4A-90C6-763E200D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89301-81C0-4468-A6A9-4072726B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947F-459C-4C09-8EF4-E65D5386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C130A-B004-4BF8-BCCF-B003E9B6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4069F-910F-4E5C-8B9B-0C2904A8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FD1B6-1885-484D-A969-E2951A5C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312AC-A1D4-4AD1-868C-8BA5F194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09668-B4B7-4115-8D61-090B0AD4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C32EB-AD77-4C20-BF2C-B433CEA0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C70FC-BAC7-440A-A385-0FF8E3DE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50A52-0134-4A89-9FA6-E77917C4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FEEF1-D2F3-4BAD-B4B0-AE89E578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45072-78BA-4A63-884E-1CB7EF17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AC5E-6656-4084-BD78-F1FE6232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026B7-ABDB-4052-9B97-075E16D0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D33C7-CBA8-4872-B760-72BABC4C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96885-5129-4A7F-81B0-26398EE2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E7A8D-FFF7-4346-AFB5-28053D9F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282B1-BDFE-4B96-AACF-28A4E2F0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B2EF9-B59E-455E-B051-9C0C5DE2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661E5-9F67-4D50-B56F-49D52A50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67974-DD9A-4AB7-AAD7-D5757D2F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B6451-020A-4B99-A31C-FC09820F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0477A-3EC2-48E1-B349-DB4E5097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7909-23B3-4D9C-8324-59B01D30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987B8-3936-42E9-8EE4-4DC36381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2DC28-576E-4EE1-A60A-CCAA75D9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3294D-D4BD-4C79-BE66-4C374773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BCF35-54AA-4193-BB1C-524645B6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FCBB4-86F0-4933-A0E0-7F6B9E69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C39C6-5BBE-4F41-977E-3B7D779D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708CD-8D4E-4535-8B4C-E78BF5AE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8A43D-2E93-4904-B01E-41317B94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6C3F2-6CFA-4EBD-A860-8A1C15D8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1A366-E4D3-482C-A595-01770B41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94EC-70C7-4BD2-B7FF-9F4BDC56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731606-F6D7-4C3B-A251-7A00DD62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342EF-4188-420E-A7E0-4DF23228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E2AD7-6CA3-4717-AA5F-4292CD27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E58EC-8CEE-41D0-BB23-CCBAF5C7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841827-4B52-4C7A-BF76-6CC89D87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F82537-3D4E-4F99-8B51-110BB4B9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0F3D78-BB9B-4830-B366-9FF0A415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F9C003-902E-46EA-AF60-F880F223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6F6316-FD55-45E9-9720-5547F21B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9EFF8D-C4A7-4042-A1A3-C8133EC7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987E-F301-4420-8CA3-79473808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A47F59-F218-4804-AC3A-4D86EF49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9EBFCE-1F8C-4FFA-A455-BCCB8F9D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A28452-7769-449A-B89B-BABCD06A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C1E2D4-9F0A-4894-B80D-AA3D2390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B46F8-A8AE-4B08-852A-DFBD12DB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2F49C6-7B49-4DE9-95B2-A0E56B6D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98EC65-DE1A-42D6-BC67-63D45BA7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0EA04A-EDCF-4DBA-953C-5A9B5C07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7FF8CD-1FAB-459A-9211-F29B775A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EB5A00-EF43-4A97-AAD3-581B9CA9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31FB-E24F-4C2E-95F1-8ED4242C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103B50-676D-46EB-A63B-330D1595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7D3263-E210-490C-B76C-1F6D1A5D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C347BF-3FE6-466B-9744-CEA44A61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F429D9-D2D2-409B-A738-549A4F3F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0ADBE7-F888-4931-A488-E062E082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770215-93EF-4CA2-B3A3-CE893D1C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7E2F88-EF9F-4473-942A-293AB489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39E836-13B4-440A-B48B-983E999F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917104-E61D-43AE-9152-1CDC6933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9DD229-3011-4054-81C7-0E6F2AFA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CF88-6608-4228-B593-AF843F11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08DC92-196A-4BE6-829F-413E753F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86FC1D-F1C9-481A-8108-610D1A5F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483DCB-AE03-42C3-8348-B6B4580C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1E69D5-38A9-4DB9-AA09-ADF53D5E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2836E0-D16F-49FA-B205-5FC128D1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1B7E1E-517C-4347-8BF3-40C9B7BE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0E43C0-C8B8-45AF-BEE3-8B8E50E7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96DC7C-3147-48E1-9863-A8D966A0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9A6205-7A2C-4C94-B0E3-9382251E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3E7589-B189-4590-98A7-47FE38B7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0CE0-DAD7-494C-9634-8DD8A853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E8D105-4DA0-4ED3-B820-D0B3F272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794B37-22D9-42C3-BC85-4DA9B0FD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646963-FCFE-4DDA-9404-A1B3F929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0AC8E8-0BF0-4AE5-8996-B864E51D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B6F8DA-DA64-4CA8-B1A9-2F1E4405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56DE31-1874-46FB-9B2F-9B0C322C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C50C9B-5DC7-4BDB-B9B3-EEBDCAD3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EEFD6E-71F9-4EB0-927D-A2A2820A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F35189-44C0-40B2-B027-B1E8AA90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11ADED-1EE8-462C-B2A3-25649DEE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14FB-DBBC-44DD-9CC6-2582F2B3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2D0619-8D1C-4B4F-A40C-DD0E8C30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2A6DE4-2241-4755-B8A4-0035D5B4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A5D57A-EFA9-4E59-B1F6-D9FC8ECE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C491-FC51-4607-B38D-D2E3E2B8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7B6D-1957-432A-BA15-2FC64DBF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6899-5F7F-4160-A8D6-0B62F90A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B3A3-0F58-4DAD-94B7-6E31DAE1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BAC9-608E-4437-B0F6-570E507A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CD4D-F17D-4B3F-8D4D-270CBB63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89AC4-43A4-43AA-A1E8-9DF239A5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03222-0212-461F-A99F-D6FAA1CF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93EB1-01E7-4CEF-B498-A4AFEEDA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44C2D-DF19-44EC-9016-113AB16B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97FD6-18CA-469F-B8CC-61BDEADF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9B85-DA4E-4ACA-B8C8-4C36A49C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AC8BE-47C3-49AE-A0C2-E429A301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CF2B2-CAC9-4F11-802E-FA1F4040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06B03-689E-4E65-A234-22785FAE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0432A-82A6-4345-8290-777D6884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46BFA-E606-48B6-B987-BB250CA1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53194-B769-4FA5-90E8-0976A57D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DAF3A-D095-46D8-B31D-DC80485A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14009-3BB5-4FC9-AC2D-2BFF1631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59D3A-C10C-4F87-BF9F-A1A4E1E6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AEA62-F6B2-4D96-A5CC-30CA6500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0393-27BD-4A73-87E2-B9DE930B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AB435-9941-49AF-9EC9-C175FC29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66B14-1AA1-4F6D-A049-546AD79F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A021E-09A9-48B8-AFC5-37A2218A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95CC6-88E2-4A15-A1AF-7176D097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419BE-5911-49BF-A7B5-4B202726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CFBEF-8D0D-478F-A1D2-DE80DFA8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A51B8-21C8-46A8-A022-38A5FE5A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CFE0E-04BA-48B6-8A43-8D2DE77B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D4ACA-5D83-43A4-ADE9-32D81676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BD1DB-A9C9-4B55-963C-91B5DE8D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32E4-D1FE-4E79-ADA5-3475BB03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82DA9-C07A-46AD-9289-A9F999C6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79583-8DD3-4E1D-BEF5-FE0C8B5B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7720E-8ECC-4565-8F61-CAED54BC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D64BE-7BFA-4F7F-B0B2-8A8BA508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A0FDF-2F59-4B7B-93C7-4F18B465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AF3F4-2F8E-4F8A-90CB-30445CAF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1913B-8BD8-4B59-B667-C0364295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A71C2-1591-4921-90D0-72690F76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4C6B6-F5AF-4266-A4F5-32222E1B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0B301-C4A1-4BF5-9250-4B1B2110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155B-02B1-45FD-A1FF-1C7CEDF8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45BD3-5A67-46FA-BBEA-400FA838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CFD5E-6D1E-4AF5-B23E-710BD657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AEDAD-B1CD-4CED-B75B-2DADD19A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B2967-6CD2-4BDA-9145-531CE988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9B890-881E-4C45-B038-C3A134D8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12947-BA87-44F8-A84D-5CE1E747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B230B-6445-4114-AC3F-523C3D1B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DFB33-4E37-499F-AB45-75E82092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74717-9B62-4836-9074-4D0271D2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06AD6-B511-4BA3-AC92-E1E4101E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4E4A-A429-4A91-8724-04F71E52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904A3-7EBE-41DA-B6CC-7D712D10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271AC-5EC8-4A6E-8137-5F28BB83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BF13B-4E6D-45C8-9309-7BDB8C67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7C428-4FB7-457A-8C97-0CE695ED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000E4-2860-476E-B1A4-98AD8B17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BF423-EE37-47EB-B5C9-222EC52D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7946B-025C-4B8C-828B-CE1DB68B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46A4F-5E90-4B47-842C-DF380433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D54E7-39AC-4B26-8EA9-FF931D7F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6A6E7-39FC-46F5-9F85-BBC959D4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ACC8-C123-4989-8D8F-A5231AD2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3FE85-9095-413D-A458-935721FA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1BBC5-917D-42A2-B09F-FFF34DB7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ED893-E943-4D35-B0F5-74133666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9F9BE-0A8F-4D98-9F76-6A9FED0A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3CDD2-D2A6-47D8-AF49-40E5BDBD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6207B-92CB-4AF8-B794-1C85838D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BD42E-7F12-4538-B654-BB7D4E74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5C680-7236-4E7C-A596-90668361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14F8A-B756-4D45-BF00-729C894A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E764A-696C-42A8-9E4C-A656BB85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4C12-2201-4B63-ADBB-513C7CCF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8A943-3F0B-4D1C-ABD0-4D1ECC58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783AE-6111-488D-A2F3-354970CD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B7CB4-EFC3-4C09-BD6A-1E1D35BB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1DED8-97C0-41BB-9B31-BC41F692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E3D0D-A4AB-4ACB-871A-566EEEEA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5ECDC-289C-4B97-AABB-C24F7398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7226A-FC1C-4C6A-B2B5-61223EB9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12A60-C68A-47B7-AE2D-46C27239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B2810-0B91-4B67-B89B-60352A05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4EFD8-FB7E-41B1-A9E5-383301E8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8E88-967D-454E-8160-3C5A6E687CCD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C47B-BC3D-4B95-945C-014C23D9870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2554-178E-450E-84B0-377EF10781F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CB27-EA69-4D77-AC68-BDDF3380800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13D2-2A62-4987-958C-DC1B776BE4E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0FE7-A97C-4A3F-BE43-F949BD39EC8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C21D-7055-438D-9E3F-3DE99B51EF7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B078-1A5E-43DA-A37A-1103CF9633D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73E1-0436-4D10-B019-BC8220730C09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DD27-CFFF-434C-9710-AE23CE244DF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68FC-6846-49BA-87B3-68AA521C8795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064E-9431-44D8-B770-B39F14894E6E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9D26-0CF1-4103-8C5A-E2F8229EE02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944A-D945-4DD3-86A0-34CFAF76936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807F-8F46-4288-BD82-CE59BF91B0A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422B-59C2-46E5-AF35-455676BB860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1 / 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lace – channels of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ducer → end-us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ducer → retailers → end-us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ducer → wholesalers → retailers → end-us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ducer → wholesalers → directly to end-us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lace – channels of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ducer → multiple store groups → end-us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ducer → marker → wholesalers → retailers → end-us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mo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ys how customers can learn about the produ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olves packiging, presentation of the product, image, brand name, advertising, slogans, brochures, literature, price lists, after-sales service, training, trade fairs, trade exhibitions and public rel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mo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nique selling propos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eatures and benefits must make it unlike any other product in the mark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4 P → 4 C  approa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duct   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→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stomer val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ice     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→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st to the Custom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ace      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→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nven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motion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→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mmunic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WOT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rength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akne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reate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Market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představuje definice pojmu marketing, vysvětluje jednotlivé části marketingového mixu a SWOT analýzu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Marketing, marketing mix, product, place, price, promotion, SWOT analysi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market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process through which goods and services move from concept to the custom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act or process of selling and buying in a mark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d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 have to produce what customers want not what we want to produ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 must have customers focused appro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 must carry marketing rese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 must produce and supply exactly what customers w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rketing mi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1450800" y="2362320"/>
            <a:ext cx="7693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2" name="Organization Chart 6"/>
          <p:cNvGrpSpPr/>
          <p:nvPr/>
        </p:nvGrpSpPr>
        <p:grpSpPr>
          <a:xfrm>
            <a:off x="833400" y="2343240"/>
            <a:ext cx="7632360" cy="3670560"/>
            <a:chOff x="833400" y="2343240"/>
            <a:chExt cx="7632360" cy="3670560"/>
          </a:xfrm>
        </p:grpSpPr>
        <p:cxnSp>
          <p:nvCxnSpPr>
            <p:cNvPr id="763" name="_s1028"/>
            <p:cNvCxnSpPr>
              <a:stCxn id="764" idx="0"/>
              <a:endCxn id="765" idx="2"/>
            </p:cNvCxnSpPr>
            <p:nvPr/>
          </p:nvCxnSpPr>
          <p:spPr>
            <a:xfrm flipV="1" rot="16200000">
              <a:off x="5766120" y="2693520"/>
              <a:ext cx="734760" cy="296856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6" name="_s1029"/>
            <p:cNvCxnSpPr>
              <a:stCxn id="767" idx="0"/>
              <a:endCxn id="765" idx="2"/>
            </p:cNvCxnSpPr>
            <p:nvPr/>
          </p:nvCxnSpPr>
          <p:spPr>
            <a:xfrm flipV="1" rot="16200000">
              <a:off x="4776480" y="3683160"/>
              <a:ext cx="734760" cy="98928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8" name="_s1030"/>
            <p:cNvCxnSpPr>
              <a:stCxn id="769" idx="0"/>
              <a:endCxn id="765" idx="2"/>
            </p:cNvCxnSpPr>
            <p:nvPr/>
          </p:nvCxnSpPr>
          <p:spPr>
            <a:xfrm flipH="1" flipV="1" rot="5400000">
              <a:off x="3787560" y="3683160"/>
              <a:ext cx="734760" cy="99000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70" name="_s1031"/>
            <p:cNvCxnSpPr>
              <a:stCxn id="771" idx="0"/>
              <a:endCxn id="765" idx="2"/>
            </p:cNvCxnSpPr>
            <p:nvPr/>
          </p:nvCxnSpPr>
          <p:spPr>
            <a:xfrm flipH="1" flipV="1" rot="5400000">
              <a:off x="2797920" y="2693520"/>
              <a:ext cx="734760" cy="29689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765" name="_s1032"/>
            <p:cNvSpPr/>
            <p:nvPr/>
          </p:nvSpPr>
          <p:spPr>
            <a:xfrm>
              <a:off x="3801600" y="2343240"/>
              <a:ext cx="169596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3366"/>
                  </a:solidFill>
                  <a:latin typeface="Arial"/>
                </a:rPr>
                <a:t>4 P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_s1033"/>
            <p:cNvSpPr/>
            <p:nvPr/>
          </p:nvSpPr>
          <p:spPr>
            <a:xfrm>
              <a:off x="833400" y="4545720"/>
              <a:ext cx="169596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PRODUC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_s1034"/>
            <p:cNvSpPr/>
            <p:nvPr/>
          </p:nvSpPr>
          <p:spPr>
            <a:xfrm>
              <a:off x="2811960" y="4545720"/>
              <a:ext cx="169596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7" name="_s1035"/>
            <p:cNvSpPr/>
            <p:nvPr/>
          </p:nvSpPr>
          <p:spPr>
            <a:xfrm>
              <a:off x="4790880" y="4545720"/>
              <a:ext cx="169596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PLA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4" name="_s1036"/>
            <p:cNvSpPr/>
            <p:nvPr/>
          </p:nvSpPr>
          <p:spPr>
            <a:xfrm>
              <a:off x="6769800" y="4545720"/>
              <a:ext cx="169596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PROMOTION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du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goods or service you are marke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mage, design, quality, reliability, features and benef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ust be presented and packaged attractive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w products must replace unattractive 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Should includ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value of the produ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qua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ustomer´s ability to buy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ices of competi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l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ere and how the product will be so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ays of distribu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vailability of the distribution net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upplying and trans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09:57Z</dcterms:modified>
  <cp:revision>28</cp:revision>
  <dc:subject/>
  <dc:title>BUSINESS ENGLISH</dc:title>
</cp:coreProperties>
</file>