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98E8-D260-4BFD-A435-A93EE6EE619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A2CB-8806-46E9-AD84-4D1126AEDF3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8DC0-EFDB-47C7-820D-41380FBE0F0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1EE0-979C-4BB6-AB7C-E866B0C78DC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CC77-9F3F-40AF-A788-AFB19BF2F3C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A600-D409-47A2-AA0E-ED5B6BF5563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E098-2092-40C7-9891-92BE58A8A75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2B22-F1C8-4432-955E-B9821E1E506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4BCC-CA46-4FB9-89C0-92B19B4AAB4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F88A-B6AB-4834-BED5-3CBB0D9B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34BB-13A7-4E0A-9CBA-3B4926FC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89C99-55F8-4AEB-9C60-C18FC7A0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CAE2E-8D91-4765-8599-BEE582F2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8C5B2-1FF8-4F5C-98CE-6EA5660D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E1141-0DB3-467A-A759-416F07FD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B962A-6D7D-4E8F-B450-C3D0F659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1BE68-DB0A-4499-820D-E2B22DEE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F6701-012C-4DF9-86FF-06F2859A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4FD38-D64E-4879-8739-B6DA69EE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C6F3B-5ED6-4570-B550-3541E687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1BBF6-CD68-457C-90C6-B227AE98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888-93F1-4097-AC75-60929EC1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81AB8-9E3A-4CA4-9744-2D2E1DAA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0AFFE-67CC-4BEA-81C8-0C2564DA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F0E51-04D5-412B-AF75-AF21B5BA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299A3-A707-43EA-B6A4-72C0379D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B817D-8730-425B-97EA-3F5B1F73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26F0C-EEC0-42CA-B56B-CEC7D2A3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7CCE8-4DDE-4D83-88B1-9493F9A2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371CC-0BE3-44A2-9561-1000DA0E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B27C4-775B-457F-BD86-BDE173A0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833E3-5882-499C-A61D-1950925A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3517-1941-4CD9-802A-F94B4C99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5F2C8-638F-4CF1-B42B-2C314F5F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25CC5-98E6-4954-89E9-F559779C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4FCE7-09B7-4BAF-A4F0-61257DBA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C6EDC-E0FA-47B3-A426-C489901B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74A75-6802-425E-BDDD-A1D3C4BE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515BF-6F44-4E40-970E-24423B1C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824DF-F1CF-44DC-BAAD-CFFECC88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FBE3D-4B6F-4C48-9065-4CB60DE1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2AA9F-9448-4F09-A680-9609F42A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F0048-39D6-4A15-AD2B-635D42C2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EC35-A047-4490-B9FC-C0B1C303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9DE93-7F75-4F36-8DBB-2F7A73C6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361CE-9221-4B8A-959C-0329710D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011E8-176C-4FCC-A710-277E18FE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8D7A5-E9DF-4825-9977-311FD2A4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EE235-1066-4283-BAB7-543E81EB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63FF9-A24C-47BD-BF7B-BFA73B3E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2EFE8-C642-410B-BB01-831231A2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A0052-F87B-40CF-9C89-40D6D710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FD53E-9789-4491-8276-8A1CBE62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9E137-69D2-4C39-8704-927BACA5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79AD-B64F-4F91-9ACB-F9C49BD3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62668-8134-4E16-8FF0-1FE5911B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564E2-FFC0-45D6-9699-CDED2561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F4162-6B3E-450D-A866-567536D2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47E37-5451-458F-B034-28A9E37C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7A4D7-68FD-4CFD-9140-D0D0AC0E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A18CC-0191-4849-960D-3D729821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D5D2AE-6413-48A9-8C9C-D627B3A9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9877A-44DC-45CA-B012-90CA971F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E0149D-9C4B-471C-95AA-034B701E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16D098-13CE-452F-8FC3-567F9D59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5BEB-D01E-43FF-8950-C19F0860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180B8A-46C3-4F28-819F-E6452B61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C926D-F0C5-4209-A1B5-D8D76DBB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A97E66-8D92-4D41-B627-0BE2B660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E6C1E0-3250-4447-874E-F6D31122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34E167-0C12-4DC2-9D09-62711FA9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EBC7FB-BBDC-43D2-8586-D801586C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30F3E-5563-4DD2-9AFA-B8B6E6FD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C04D19-36CA-4966-B3C7-5C4C4F06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992706-647F-4B16-A05C-4A1AA170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37A434-8FA9-4E8D-9707-73B9557B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FDD3-C0DB-4F4E-B57A-21145FBD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D5048F-D3A6-40AD-A2B9-763749B6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F13D9B-360E-4A2C-ABEA-14C027C3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66CCD5-59D0-40BC-B69F-17D8C9A8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2F63F2-5AAB-423A-A61D-89576CCC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0A26AC-B1C1-4515-911D-9CED1F58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DE71C9-6105-4D9E-B9CF-5B2ED053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242A43-FB3C-4BCA-B3BD-70FB1DB0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929ED0-C33B-48A0-A256-88D27B60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2450A9-FBDB-46B4-9758-462A6DA5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D42B81-6572-4509-A172-E435C980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9C31-F8AF-4F48-9183-4C485D79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680628-64BC-4D61-96BA-6495BECC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89E7A8-DA6F-48FF-A5BB-FD466BD3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C96BF2-A0E8-4063-B1D4-EFE5D7AD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45B7D0-47FB-458C-BE9D-CAEA8ECD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57FBC2-2704-45D6-83E7-DB9B72EE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8B55D2-EB28-4E39-BB19-8F4F1B98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CBBF04-2863-469B-BAC4-1285F9CC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B05422-5B80-469C-883D-3F871464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F06F40-8AF7-42DD-AC65-EF68BF3A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760AD0-6CA2-4EA4-8668-E413B98B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51C4-8892-42D4-B8F5-A2211CDE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9D69B3-5D61-4209-A43B-E86BE01B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4BB8DF-A967-44B1-B63D-DC0ADE0F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A6B87C-F666-4254-A940-DD7E7072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04CF5B-9FFD-4C37-AF99-B0D741A9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41020A-1396-463B-9559-4BEB1E7D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6310E6-C457-492F-92B5-5AECE251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DFF79B-38F1-41E8-9668-FE9A143A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F3D96F-1353-46C9-AD82-F79E2B09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0766A1-550D-45EA-9B9E-2711BE23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30DCB5-63AA-4040-A6DB-BBDEB4B4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D30F-72CB-4395-91D6-B625D50B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A57ACF-5D69-455E-8434-E4860A52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7D825A-2DBB-44DC-9A1C-BFBA393C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2B0589-49AA-4210-BDF7-DE833E97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0DA6-714F-441A-82DB-1FA8BD75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4DEB-3EC5-4C00-882D-78E6957A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A15C-B6EC-41DE-8A47-D35CDE3F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BBA4-434F-404E-8E07-615338B3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A7AD-3EB0-42CA-80CC-E14B9F77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0F07-8116-4A7C-8AA2-DC286F85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7BE70-C944-4197-80CB-6E82685A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A3739-0359-405F-B6E9-7432409E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0A489-8BDD-4F30-AD81-F467DA76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E6277-F53E-429D-8A06-3648438C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A001F-40D2-465D-8A81-3C2121C7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BF65-CEFF-4D7B-9F5A-2DB7C89A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D2A60-17A0-4F0A-9908-FF0D8EAB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4205F-3EBF-43B5-B03B-0C5BF70E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C8A00-3CBB-4E6B-AD5E-AF1660C3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B47AC-1571-4525-86F8-A7BAE934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F5584-DF40-40FA-AD6A-E1A2645F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3F61F-5FBB-4956-B169-133D7F66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47C59-6651-4CE0-82C6-608DAAD4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AB03B-3955-4FD6-A971-432870EC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66899-635C-4E98-8B4F-39DDAC72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BE8A5-05E8-4CA8-99CC-7EF97F87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1B6F-F9DD-4DBB-9E49-E4831D43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503D1-DC02-45A3-A0E2-CF8DFC40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A36DE-B0DC-4438-B5DD-33F88AD8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E54D7-83EC-4BFB-A0F9-4B418748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CF1F1-51D8-4FE3-BFC4-887D1B0A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32409-B0E6-41AC-8799-7F7C73B5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EDB1C-51EB-457B-8898-E8946A83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89FDD-F875-452E-B927-7828BE41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D4A01-3A86-4CB8-B81B-5B074735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19073-4B66-4956-89F0-D722D17A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2738E-E220-41A0-90E0-41520305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36CF-79A5-4634-B0F1-69D352CC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0442B-C22A-452D-976D-B0E572AF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6DC65-6BC9-4ADA-BE67-8E38E027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DF745-DC0F-47F6-A103-EE0BBA04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99B10-E5FA-44D4-914F-17F4C83C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41142-313A-4576-B9AE-56F99765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88F8F-9E20-4EA9-B6E2-B2AE4DEC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6F305-F18E-4271-A340-5EBD5688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620FD-4242-42BF-8010-8F8EE33B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CC11A-5ECA-401A-870B-E1267176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AC964-92C4-4385-9875-6BCBD4EE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F3AB-B254-4057-8CBD-02C9D058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2D348-9DC3-4198-B23E-C0AE6DF5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CEE7D-A07F-41D4-A153-C60F0F9B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BA557-16A2-4C02-BF10-65A4F8D2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7956E-D20B-4297-BF09-0CBB98E6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77673-F08A-494B-84F4-C9B67D4C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55B78-D830-4D73-BB56-8C52740D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21853-3123-442B-B3F8-5D07874A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C5E45-D548-4DFC-8547-8076A9FA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D07F3-F590-4E4E-8AC1-3F300811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17435-8772-4CB2-BA9B-0B66D5C7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0BA6-CEC4-4B56-8362-A7A4C694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A1945-FAE9-4D87-89DE-185F3EF9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A82F8-430F-4F76-B042-2AB642D7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63BD7-7182-4357-9766-21D515FB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CDFE5-C8B7-4757-9626-7C38DEBD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B8027-51AA-47E8-8920-C45BEB48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37B01-C697-4475-B0D7-9B662FB2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8F11E-9F8A-4BE9-B6EB-0247211C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1CF32-780C-4B27-9081-2340EBEF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AA702-DB5B-4E1E-96FE-99305598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5E48C-2379-48CE-94C2-F52C466A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7569-9D2F-409E-8216-76FFE833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0D01C-2039-4DF3-A13F-2FA0E61D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2A6F3-056A-4129-BC65-8D8E6DCE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521C3-D789-419B-A716-9EC22AC6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671FD-5271-4040-8728-8CF49577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F8CD8-DEE9-44F0-A8F9-E719D238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78794-2F99-429F-9AB5-627C1CA8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93456-93AB-4A31-AB77-C5FFEE01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16233-837E-46A3-97BF-2DD6BF5D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3306E-2A1C-4586-9DB2-06A71D40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0C2FB-58C8-44CB-9944-C8391A02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0F2E-379B-4D7C-9117-ECA489F8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97233-10D5-4579-8B35-76132788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42701-359D-4D6C-9D91-5B63D6C5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DE7DC-9ABF-4972-A306-DF0F7190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F2733-E78B-4580-B2C7-EE7472F5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B1AA0-1619-4AC9-8DA7-0F23F1D5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8786F-EC80-48A8-BBC7-A46A6C6C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5D087-1F96-4734-9D13-492B98F4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56D57-68AF-4512-92B1-5B1B8617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4C28F-DCD0-4D4B-A06E-64EE463D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B8D61-B599-4C3C-87C4-03512219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72C6-F94F-4260-B2CB-E99A655B74C8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65AC-E622-43EE-85E3-3161B45CCE3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CAEE-D899-480B-9E65-F6D706C05DD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E4FC-8A52-4270-8FA2-0A7793D943E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1167-9A55-46BB-9D54-1EB79AAEA80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7430-65D3-4FBA-BAD3-2F641C3D285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BF54-1ECC-49E6-98EE-B4A2B4E1D9F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46F5-6719-4250-B04C-164D72699A7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5EB3-C596-4FD2-AF26-0F36C403B9EB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517C-DA5A-48EA-ACEB-77FAF4C734E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DB80-E495-4103-9B83-4D06AF3FBEDD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D59B-5130-4E30-A73F-9BAE397BBDBF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E202-3FF7-4673-9AAA-3E032D7A57B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DFB2-6BB5-4995-81CA-F4D5BEEE006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155D-1DF7-4379-AF09-2366259579F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08A5-DD5F-4772-817A-EE96646FC25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 / 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What should you use in your presentatio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whitebo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video-recorder or a dvd play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cre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lide projec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overhead projec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extension le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What should you use in your presentatio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lms, pictures, sli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raphs, char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mples of your produ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talogues, price li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iting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f you have any questions, ask m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d now it´s time for your questions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s there anything you would like to ask me…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lease, feel free to ask any question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anking peo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ank you for your attention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ank you for coming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ank you for your tim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t was my pleasure to have a talk with you here at the presentation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rezentace společnos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důvody prezentování společnosti nebo firmy, typy prezentací, jednotlivé části a uvádí typické fráze používané při prezentování firmy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rezentace společnos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THE PRESENTATION OF A COMPA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y to present a compan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introduce a company or a fi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introduce a new produ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introduce new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offer products, services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w to present a compan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hort tal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tour of premi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film, video, dvd or a slidesh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arts of present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1450800" y="2362320"/>
            <a:ext cx="7693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2" name="Organization Chart 6"/>
          <p:cNvGrpSpPr/>
          <p:nvPr/>
        </p:nvGrpSpPr>
        <p:grpSpPr>
          <a:xfrm>
            <a:off x="833400" y="2343240"/>
            <a:ext cx="7632360" cy="3670560"/>
            <a:chOff x="833400" y="2343240"/>
            <a:chExt cx="7632360" cy="3670560"/>
          </a:xfrm>
        </p:grpSpPr>
        <p:cxnSp>
          <p:nvCxnSpPr>
            <p:cNvPr id="763" name="_s1028"/>
            <p:cNvCxnSpPr>
              <a:stCxn id="764" idx="0"/>
              <a:endCxn id="765" idx="2"/>
            </p:cNvCxnSpPr>
            <p:nvPr/>
          </p:nvCxnSpPr>
          <p:spPr>
            <a:xfrm flipV="1" rot="16200000">
              <a:off x="5853600" y="2606040"/>
              <a:ext cx="734760" cy="31435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6" name="_s1029"/>
            <p:cNvCxnSpPr>
              <a:stCxn id="767" idx="0"/>
              <a:endCxn id="765" idx="2"/>
            </p:cNvCxnSpPr>
            <p:nvPr/>
          </p:nvCxnSpPr>
          <p:spPr>
            <a:xfrm flipV="1" rot="16200000">
              <a:off x="5067720" y="3391920"/>
              <a:ext cx="734760" cy="15721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8" name="_s1030"/>
            <p:cNvCxnSpPr>
              <a:stCxn id="769" idx="0"/>
              <a:endCxn id="765" idx="2"/>
            </p:cNvCxnSpPr>
            <p:nvPr/>
          </p:nvCxnSpPr>
          <p:spPr>
            <a:xfrm flipV="1">
              <a:off x="4649760" y="3810600"/>
              <a:ext cx="2160" cy="7347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70" name="_s1031"/>
            <p:cNvCxnSpPr>
              <a:stCxn id="771" idx="0"/>
              <a:endCxn id="765" idx="2"/>
            </p:cNvCxnSpPr>
            <p:nvPr/>
          </p:nvCxnSpPr>
          <p:spPr>
            <a:xfrm flipH="1" flipV="1" rot="5400000">
              <a:off x="3496320" y="3391920"/>
              <a:ext cx="734760" cy="15721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72" name="_s1032"/>
            <p:cNvCxnSpPr>
              <a:stCxn id="773" idx="0"/>
              <a:endCxn id="765" idx="2"/>
            </p:cNvCxnSpPr>
            <p:nvPr/>
          </p:nvCxnSpPr>
          <p:spPr>
            <a:xfrm flipH="1" flipV="1" rot="5400000">
              <a:off x="2710800" y="2606400"/>
              <a:ext cx="734760" cy="31435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765" name="_s1033"/>
            <p:cNvSpPr/>
            <p:nvPr/>
          </p:nvSpPr>
          <p:spPr>
            <a:xfrm>
              <a:off x="3976200" y="234324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PARTS OF THE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PRESENTATION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_s1034"/>
            <p:cNvSpPr/>
            <p:nvPr/>
          </p:nvSpPr>
          <p:spPr>
            <a:xfrm>
              <a:off x="833400" y="454572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WELCOMING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PEOPL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_s1035"/>
            <p:cNvSpPr/>
            <p:nvPr/>
          </p:nvSpPr>
          <p:spPr>
            <a:xfrm>
              <a:off x="2404800" y="454572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INTRODUCING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YOURSELF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_s1036"/>
            <p:cNvSpPr/>
            <p:nvPr/>
          </p:nvSpPr>
          <p:spPr>
            <a:xfrm>
              <a:off x="3976200" y="454572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PRESENTATION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ITSELF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7" name="_s1037"/>
            <p:cNvSpPr/>
            <p:nvPr/>
          </p:nvSpPr>
          <p:spPr>
            <a:xfrm>
              <a:off x="5547600" y="454572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INVITING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QUESTIONS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4" name="_s1038"/>
            <p:cNvSpPr/>
            <p:nvPr/>
          </p:nvSpPr>
          <p:spPr>
            <a:xfrm>
              <a:off x="7119000" y="454572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THANKING PEOPL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FOR LISTENING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elcoming peo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ood morning and welcome to our presentation…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ood afternoon, I am delighted to see you here at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ood evening, we are very pleased to be here and present our company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troducing yoursel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o are you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at is your compan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at is your position at the compan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y name is Neil Bradbury and I work in General Motors as a sale representative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esentation itsel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esentation of a company, firm, product or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7:10Z</dcterms:modified>
  <cp:revision>22</cp:revision>
  <dc:subject/>
  <dc:title>BUSINESS ENGLISH</dc:title>
</cp:coreProperties>
</file>