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991D-5E92-45AA-89A5-3015035295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9C8-4305-40E2-AFCC-A7CC890A085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9137-8C91-4D65-8178-6FCFE3FDB51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521-5B47-40D5-8AB3-A370F917E3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4684-B69F-471E-B71A-A73F9332D4B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9BC-98B7-4839-BEF4-5B80D1F2193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51A1-9C38-4783-BBE8-925AD8DE2AE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D89-5B35-406C-B011-FC6B20DEFD2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1DE-A742-4EA1-A803-6F8261CF359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B7A-7014-4F04-BE9E-F50628A7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67D-BEF7-4B11-ACBC-93E89707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DAD04-7108-4D4F-A001-6D37C94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607C0-1DA3-4EDE-BED5-ABF4A718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0F743-6C74-4C10-AFC6-86F8B9C2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61F4-0EB5-4A19-B88C-35B6B92C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D0023-D66B-4A4C-B1A3-9D0380DB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14269-6BE7-4BF9-AE41-B3A6B03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80827-5C3D-4D21-AFFE-B5A2D99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C7A3F-7817-4272-B477-C891CAFC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4B99D-86E6-4353-8ED8-457D105A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2ED74-B4BC-4370-A64E-0A0D5647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119-2697-4124-ACC8-B9A2E738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9BE41-D980-41BE-AC5B-A9D2430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8CA60-266E-4D9C-BECB-F680F6F4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74B4-D68C-4A4D-B793-EFE6B1C9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5AB10-CCED-498B-9542-37C7B897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176FC-C1E9-4C05-A42A-3040018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5C2F7-F171-4FEF-8FCA-D45A80CD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E3E09-29D4-4E7A-8A73-57322D60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09677-3CEE-464C-BCB5-5F0636E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D3F6C-D465-4CF0-83B0-7ADB945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D82B8-420A-487B-9AE0-CEC0A45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941-4A54-48F9-AA53-0385C215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14A1D-C2CA-4835-9F15-51430B19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C4393-7686-4811-8E62-E17AB4B3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07D7B-DB51-4FD5-9002-D423C1B7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00127-6000-4A58-8D1C-AA4FA777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21E04-94CF-4854-A62B-FF2627EC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CF836-77E8-427F-A770-51D366F2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1E506-B145-40EB-8258-0C2B895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D4682-3404-4FA4-ACE2-EC1ADB8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54DF-654F-4E42-A7BE-FE37148D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A68D6-2154-4F28-BDED-0ACEA8DF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277B-50BB-4223-9C6C-EFDA0C56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77334-C0EB-400C-A261-D6D5820E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1FA27-5899-49A2-BF80-2611A040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F274-58DE-4CE2-95EB-EBD069C3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0A1BC-42DB-496B-B96B-CD945568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CC35F-04C0-47F9-A153-F1FEA8E9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6CD5A-6EF4-47F9-80B3-CD3A482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C98A4-4593-41BC-9CC2-7A6E128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5A821-D7B1-47F1-96AF-91A3F027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ABBE-ACE3-4431-B75D-8E00CD57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0B35B-3013-4E08-AE8B-774BA12F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0220-8D39-4E22-A9BF-6397B2B8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7AAE1-C5FC-45DB-A822-639AF0A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06DF8-BEB7-4C44-8738-9A0711FC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176BE-B051-4534-89B9-FD387A1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10DF9-85B7-466F-B8E3-4E946780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5EF2-512F-4941-B192-CE86C347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76443-D40D-4CD5-B4EA-A2466741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97328-6046-4196-9FBD-2FC64BC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76396-5539-410A-A7AF-CFF1597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2FC8F-3674-4C2D-91A2-ED1E79B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62FC0-BEB9-45CD-934C-CDCC150B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8D52-1B14-4E0E-90A8-7B3CDE20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D6319-05CE-48F2-82D0-A77E418C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918FE-A49A-4C71-B570-49F4169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6B52B-5FC8-4970-B300-B0E3CB28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9FB02-22A3-42A5-B7EF-8BFFEE0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DD1D6-8932-4EBA-B129-A31464A5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1202A-40D4-49FE-8FA3-9D33441D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D43E5-5009-4E5D-A9B6-B5CBBC97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EC39A-D627-4542-BED5-E8E2F198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A82E50-2D29-48BD-A9EB-B14BC5B5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7FC5CA-8C3B-473E-AEA0-E2ADB31D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1A98-A286-453D-9F2C-8505AC52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19239-ABF3-4E61-97D0-A59F87C2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272F1-8347-4B14-98A4-C909F7AB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E3FCD-0593-4BB2-84B2-BF421900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106E66-01A0-4EAD-8349-6AA9A0EA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EBF9A-EFEE-4B51-A629-D5ABBFDC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3B57E-BF51-487B-97F8-E3F24619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85B271-A562-4730-A23F-97E665A2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98D44-F154-4C1C-8FE8-8B9C87B8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2564B-C6B3-41C1-86E4-9A33AE03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538D0-7B2C-4261-B1C4-623723BE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CFC8-80BA-4E82-84BD-A12D28D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CBD965-1C4B-4920-83E7-20E56D2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8E119-2248-406C-9286-89F0C830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12189-412E-46A1-9809-4F811D11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52091-6C50-4336-B95E-109147E7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798DD4-12B5-4A85-8C7D-22733D9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30105-C248-4C1C-A5D5-F26D18C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3A47DF-7CBD-4E24-BFA4-834ADE0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1DBD3-6256-42B5-A647-5CD30C06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6E8E0-6F83-4471-B1F0-462231EA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46A945-3A2E-4214-BDFF-31C10CD0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CB0F-C5EB-4D6F-B3DF-BAF21058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8F336-03A5-4ED9-8191-42F713C5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A49E2-6B32-47C5-AB24-7824FB7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E7E64C-8FF7-49F3-9B64-97FB9DA4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CF970-B9A4-4405-8E37-B763EFA8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D105F-2FFE-457F-989F-EEFEA1E4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2094E-BEA2-4592-8049-C754C3E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5E099F-1801-4CBB-BA68-6805CD4D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3CE58-E443-49E8-8B0C-D38EA24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191A65-9A22-4B89-BC43-5DA8DAC3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FA682-0268-4634-86B3-7799D043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C47F-453C-4C35-8264-7AFE9CA7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8F5F0C-CE67-4DCA-80B3-03DAEFB8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6FCDD-3795-4B5C-94D9-5C010A49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CD28E-79E0-4A6E-8BBB-63EAE76C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C97-A83B-4CBC-A299-DDB017CF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5F7B-C98B-400B-AB69-0CA5A332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4EFC-93C0-49A5-859B-4C882E1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801-22AA-4D0F-A14A-619582CA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258-E71F-4431-80BE-3C1F5935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B8A8-32E5-49A1-AE4D-B6FF0A80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7DAB-3A1D-429B-8C33-A7153DBE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D2CE-8334-487F-B3E3-F9B8D52E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19E0E-6BEC-469C-A4DC-F3DE1CF5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BF72-FA4C-46F3-9DF0-2991880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2269F-77D7-4B82-91A8-AF79D7D9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837-041D-4B80-B19B-915C654D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A389-C1A6-4ADB-AEBE-743BB24C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B8F2-9D43-4AC0-82E5-314B092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B35ED-C2F2-4AA4-AF57-24379AA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31BF2-BB3F-4BA4-8F81-E636E40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472E4-B1DA-4370-9986-7AA7A046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42DC-BF72-4E82-8BDF-01C068F5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439F-5E04-4EBC-80CC-4841B81A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30233-B7DE-499A-9F72-511A654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3AC82-16CD-4B20-8FD8-6F59150C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E3361-3C71-4B73-B32F-4F9567B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851-5900-4BA0-8806-D322B3D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499E-67B3-42BD-A68B-60C5E84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D52C-F027-4865-9E7D-3B362568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1D06F-AE7D-4224-A5C1-D051A34C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3E31-C6F1-4DFA-913B-625F177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FCE1-3B1B-4FE0-B660-52F29F2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24D3E-84CE-4792-A8E4-1725576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6387-68E4-4A77-91C3-A2999C02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A615-A954-42B1-A785-1BA401E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C1F9-A2C7-472F-9E4C-0AC29D79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C963-41CD-4403-A429-8CD5701B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07E-1689-4BCF-A193-5D568D5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92B4-B67E-4D11-BF80-21FC3B2D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C04C-ABE0-4A4A-9948-19635CA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B6025-17A0-4591-9217-47A8E810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47F89-41D2-4B0B-9EFB-1A15E1FE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499C-FDFA-4C72-A913-C77198AC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D571-709E-4C12-9BE5-7B5FBD90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3260-A2C7-4DE3-B8E2-09943C08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923B6-762F-4437-86EA-1C76067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2BB4-95D2-4919-9A5B-329FDA57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537F-497D-48DE-B9F8-701499CE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D52-C38C-4007-B009-146A297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E2B0-B2C0-4C37-A425-84181A83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08C7-91CB-40E5-8D98-EBD42F8C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8808D-CD21-4584-9318-39DA9FB5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DDE30-65EF-47DD-BCEE-994D6FF7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5D31C-07B2-4352-94C3-5BE3E05B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A962-D929-43C8-9EA5-3CD57FB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CD66-F2C5-461D-85E9-1712C3A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349A-A2DE-422C-AADA-A67C41FC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BDDB-D14A-4550-BE00-356AAB46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16655-2C33-48E2-9F2D-42C62A9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153-CB07-490C-819E-3D5BD16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DB86-B8EA-4677-9EB5-32F402C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909AC-46B4-4460-8F77-FC3664CC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DFBBF-78D3-4893-B2AA-198EC370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1D2A-9C6F-4BCB-B7DA-F1C3B507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9BAD8-A324-4E0B-9885-F8E1413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A9FC0-6D5F-48A0-A9D2-614E5D10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FE88-FDFF-4E57-82EF-C6880582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A6E24-EB61-4150-82DC-7FCC5B29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C065E-25D6-457C-A7C4-2E6F5144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0C92D-BDC9-400C-A696-4068E3E5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34A9-4CD0-4EE7-8100-8C720506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648AD-4F45-4A0A-AC8E-BB12199A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844AE-9565-48BF-A13B-37F0D044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8FBAE-5D21-40EF-B1B9-00C88E5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8DD0-3BC8-46D0-8166-C775CB45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372F1-10D1-4237-9300-7DCC9860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CDB1-F46D-4D23-8117-7270A152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44FBB-19F5-42BF-BDF9-34D34F61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6998-F5F2-40BF-A45A-3E4CF9E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0E96-8C61-4635-BA8C-A768613F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516B8-5109-4749-99D7-1E925B2A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BEC-6384-46AC-824A-5A650081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F369-5EF9-41F6-9B81-5BC4A148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D022-D638-45EB-B57F-753D1D3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BB876-DC13-48A0-AFB9-FADA1EF3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2259E-399B-4133-B2E4-4599DD3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AE2A7-1539-44F2-9B6C-A83895F7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3B15F-F915-41A2-9BCA-F1298FFF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32260-24DC-4B3B-8F45-4F07EA6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A31D6-189F-42F1-8024-BBF1B9AB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DE74C-A086-4FCA-8E79-4D4361AD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51952-208F-438F-9CC8-D2033EF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2B2-E914-4071-B9EC-53DD2A55280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6588-9BCB-4950-A7E7-E17AB57464E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ADCA-45A0-4C9E-B799-1EF9509738A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149C-E214-46C9-9015-A2FC08A76D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5DB6-078E-4DB3-BD00-AC3E3A0770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5203-E551-414B-9AD9-1F785654DE4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ED82-1C55-4CD2-9EA8-A90A1A44740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A4E5-2F6F-4435-AE86-FAA360A689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FF05-10D8-410C-9FBC-5421D9BDD88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158-6A3F-4DDB-AA90-F342D2FA29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763-1B43-44C2-AF35-3A34A27B374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6782-2DCF-4A5C-8D4E-6F26741C394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40CC-1873-4126-87CD-F996F90D0F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ED8E-DCF6-4D69-8A29-FB759BF12F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E6F-60E1-4690-8B81-E169D90E47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96D3-BF07-4AD0-A1F6-3E29CE184F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st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ney market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x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investment strategi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uaranteed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mov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ying a house, flat, piece of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urchase through real estate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possess the immovable and can use it (house, flat, garden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make further investments into the immov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 an individual you can buy many various things which can get a higher value in the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, silver, cut g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intings, ar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pany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investmen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PROFIT (OR LO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pojmy investice, investiční příležitost a typy invest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ment, profit, shares, bonds, valuables, stocks, immov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invest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oney that people or organisations have put into a company, business or bank to get a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omething you buy or do because it will be useful for l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opportun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8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sto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movab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uable things - paintings, g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4670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for a certa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become a shareholder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et regular dividends according to the prosperity of the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e risky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dium-term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way how to inv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at a fixed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stock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ferent portfol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invest into different companies at the same time which can keep a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under control of the Comittee for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56Z</dcterms:modified>
  <cp:revision>18</cp:revision>
  <dc:subject/>
  <dc:title>BUSINESS ENGLISH</dc:title>
</cp:coreProperties>
</file>