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484-2707-4A2C-8C15-A6909739A5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47D-002A-41FE-BFC6-5834AD54717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8603-37F9-4844-A612-2B0947E8AE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60BA-D04F-4D43-9BD3-0CBBB3C60F9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CA1-8F66-4881-8961-01676D09A03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A424-934E-40A6-BA3C-A1218D24632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D588-4CDC-4FB6-A326-E6467CBB3F1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3D14-0F32-46E2-802A-6E91CD0A03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6C1A-AE69-45C4-B82C-873603295D4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280-AEFE-46B2-A926-2267E59A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2AB-CC92-4E51-9EE7-893990F8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D7B15-B725-45F8-9EA0-C1608B91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0F8A5-2443-4896-ACD7-FEF32908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E8FF5-1AB6-4CD5-A687-25A518D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40041-DF1B-4E54-B057-B309CD6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88722-E68B-42CA-8A97-3C5CE1B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0DFDA-097B-4C5F-9142-965247A0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A989E-D378-48DD-B037-53BA4713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1E386-4A98-4191-AB3D-5D136FFD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84E0A-6F0D-40BA-B63A-4D1729A2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7069A-4DF4-4207-9A1A-65D0BDC2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518-5133-401F-89E8-DA98F99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FF5D8-499B-4EF0-BA08-7F689B1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31A9F-E9BB-4833-AFF7-292F72DD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E9664-EAAB-42B3-9F27-2B8A1BA8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61F01-2F89-4B11-A08D-2F31ADE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73258-F37A-4577-9BBD-32026C8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A8352-EBBE-4DCA-B537-9DD67BCB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F2A95-BD69-4107-AB6E-478E6DD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C82AF-60D9-4CD6-8E86-19E9AA40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1CB17-4A5B-4431-AAF1-654118B6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D9549-2D61-4554-AD95-DABE3DC6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77E-8353-4300-97DC-50420BD5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06FFD-BBAE-429D-81A5-29CFBC6E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9CDF7-3D44-4A5A-88BD-460929DD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436BF-3A5D-4709-A8B9-5C4D4A6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8C82A-5CE7-42E7-8F8B-EE9AAD1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E115D-FE03-4139-A94A-211802A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0A179-E689-4CBC-8A87-7989BE8D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A6C7-FA1A-4129-A581-A6C7192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05B2E-50CE-4B47-A62E-D6DACC2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FA4DB-CE74-4F51-8666-8BE11F8A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EA874-A8DD-4ADF-804D-85C23E83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85A9-7BBA-4250-BE9B-6F689528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B6B5C-C75D-4EF0-81AE-0A8F43A6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F7F29-77A6-4CF0-9E1B-58BBA10B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90AF0-CB42-4179-9704-3BF07DBD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54B5A-FF2F-4E2F-BFAF-7DD8B50A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B6B11-FDB1-4A0D-A857-5CD0336A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E7066-C66E-4901-84A6-FDEA73FB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6DC24-E71C-4DD3-ABAE-60A5770A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D26CA-BDF9-44A0-8E22-40908505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6F033-57CE-4597-965F-56005DA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40972-90F0-4577-B074-D003A8D3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1BAD-CAA4-4CE8-84E0-7C140481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00FF6-3035-4B27-8786-7D001981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8D10B-FFE6-4A58-B846-3756EFF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31D94-F0A1-472C-A936-203E64B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21523-5B6E-4397-A623-7F078F08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DCA61-A551-4173-BA3D-F2DA1B5E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23C07-45C6-4B62-BDA3-63F3A917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5E495-3B26-4171-AD9A-8119E7FE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6DBF3-AE3D-4B79-A08A-909D8BD6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49F50-A0EB-459A-B4FD-A7A7D5FF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979ED-D6F5-4885-B5C3-CE48D6E5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ABB3-91A1-41C1-B8F8-BD19C3B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E9D92-5824-4411-BFCB-53FA7F1E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1F0F4-9057-4559-A5DE-BF5AC13C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9332B-0CAF-429B-B313-55BBC8D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950CA-011E-4AA7-A530-58648F98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6221F-78CB-49D2-834C-AAFAC39A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B0425-BBC8-47F9-B188-3D8E276D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1276B-85A1-425C-87EA-E726F571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C65AA-CA3B-4132-814B-F69E1CCA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117BC-B8A7-4806-8A9C-AF955C31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1A932-FD8D-499A-AA10-30D6ADA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BC26-0A72-4F1C-9816-03539B7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98E5A-5E25-4BEC-BDE6-36C80368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2ED68-A71C-4680-A5E9-BDBA7A68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B7BFD-9282-49DB-AD33-813689AD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E0174-7A1B-4E2C-90D7-2821943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DFAD1-7A9F-49F7-9FA9-463601A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354F9-E45E-4B11-9479-881E830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5FE71-973E-46A5-982C-79C4689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560A6-DF75-4622-A531-4125C7BF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6B2D6-B7C9-4F8B-9B41-ACB961D2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2A60D-2167-49E7-A6F5-471F1902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252-6858-43CF-AED3-8978633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242460-A08C-45C4-9D34-E6AAFB8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35BE00-ADF1-404E-859A-3DFCF170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F46097-84A6-4C66-8B9F-A511556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D5705-0BA9-4097-8ACB-1BFC4F1D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381BF-4976-44FC-9B4C-BE329DB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F2DA65-9ECA-42A6-BDEA-E1734C5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386A9-AE97-4E72-B693-91E9E0A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7693E-60B9-4D7E-98CB-A0C8EE0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79564-B71C-46F7-B7C2-074FD0ED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88FFC-4567-4D8C-A8BC-8A08F666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F101-61FE-46A1-935A-0F6A26E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FC576-E1A1-4394-880D-7A87C988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2B829-2240-476D-80FD-54F6E9E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32B13-DFCA-4A63-B41E-C8A12D7B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8AFF1-D735-40ED-AD3D-BA469FB9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382BF-FFA2-4B3D-BF33-A236ED7A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CCC3F-D853-4B1D-B2DC-EF6F610E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1CB4C-3F70-468F-A5CD-B6FE415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4BE6F-1F66-4AF5-837E-2780F827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D4222-476F-4DD9-B7B0-D5A9FB9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0B85D-0D82-473C-96C3-B1FD3BFB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3584-5DB3-46DB-8EA1-C557499E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1115C-0866-4800-91CD-69C30666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5AFF1-5ECD-4EA7-A347-AB39E405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C9DEDF-37E3-4D66-B706-D9B224A0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06C-F67A-4FF5-887C-E0BD4E25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14D3-27FD-4484-95AF-5339B6B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6697-51B0-4F11-88D6-942A3450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7DD-2A7D-4365-95C3-A96702D7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DD5B-B904-45D0-95AD-6BB40C03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B58E-2A13-45B7-A7C2-CE0271BD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68D89-EBB7-4DC6-8DC3-F66DD1C2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ED0A-1C63-454D-A027-893CB6DA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4D663-A257-42BB-A980-E962D8E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1FF2F-C87B-4013-9417-81A7997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D19D-CD42-40A0-9BE5-DDDEB56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03-9FAA-4F02-8AEA-56D176D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12012-05E9-4D8C-8D40-5281B48A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3BA1-EA79-4FBB-B41A-33515C50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1936-2E16-4219-B1D9-7C6139A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00CC-11C9-4DC6-87AF-3BEEABD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3CA6C-D156-46DE-B231-7799F5D6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499A-1A71-464D-98C8-FE217B84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814DF-64FB-430C-A2A7-B8F5A009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C936-CA44-4054-9052-728E2608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2D25-9B1E-43B8-8C3C-516ED7F7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6CEF-B1D5-4E59-9E8B-9C403491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9E7-CCF4-48EE-8552-3E522536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CCE2F-F281-4AFA-9F28-1088244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FDAE9-8C6E-44CC-B7CF-938A6B0D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2208-5A72-4310-A76B-05C87A7A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6D53-4D4C-4EE4-9980-DC10B76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FA7A-CE4C-48B8-9E4F-902A185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B2B03-83A2-461C-9411-BB891F9B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7DA7-65BE-4901-A9D2-9EFC943F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48B1-3E70-4BC8-8130-DD5FE1AD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EA14-AFC3-4D92-BF7C-D70EE5A0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0B33-D9FD-4984-8C67-CE3C3AB6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E74-5F1D-4A95-83AF-96C97DE9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B718-76C5-4216-9224-4F21ABA0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F7E4-1D2A-4E7D-A6C1-6BBD1BE5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AF594-2005-46BF-A6BB-D01F795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8A87F-A0E8-4B89-967E-B290B31E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6779-FDCF-4DA0-97FE-C9431916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0838A-2E94-41A1-8A20-C685144E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92DE-ED16-4FC9-8843-078E576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8F7EB-D53A-4C1C-A355-0C8AA32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49AF-E37B-4075-BE0F-7DA565C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AA933-2B2A-4D7F-AA77-81C4F8F1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8A2-C323-4265-8630-F2110C2A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860CE-6554-4CD7-811D-9421854E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89BE-820F-4306-A789-CB49C7AA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FED80-6DD9-425A-84EE-23E2C74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11BFF-E278-43E1-87B7-E63682C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1786-31BA-47A3-82A4-5EAECDFA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08DD-E8A5-4A83-8C5C-A57B27FC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08C6A-A428-469A-BAAA-4DBD9573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5020B-11DC-49BA-9418-6947E27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66D16-46F2-4BA5-AFFB-56730E56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D2A50-6259-4BDC-991D-A3DF8B0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597-E5E9-46A0-89DB-B816358A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82F8-BFF0-4F64-833D-5017EC88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4549-F65C-4FA9-A4C2-E28D2627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F41C2-9D2D-4B82-A1E3-85C6B543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CED5-5F22-4378-B043-8E11D0BE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92F7-CD15-4CB4-8230-C4CAEF70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29815-2D84-46F3-A67E-1D88DDD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3693-7C51-4A2E-8098-E44FFF3F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9BFA1-0B3E-4393-BBE1-B467E2F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78C5-2964-4914-B1D7-7AD59E30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7803-2CFF-48C1-8C94-16651FB2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3C1-41ED-47E1-BCB0-1AD1E82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D6F80-450A-4208-82E2-86853AB2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CC7A7-FB0A-4001-88BE-F5F5D940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0F4D1-EEAA-4C92-9FC7-DC7D61DC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B81E8-E3E3-4C77-856A-1889909B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F301C-DFD4-40A8-BE0F-672B090D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F61B-B28C-4CC2-936F-D1F1397B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BF495-A16B-4BA6-9A49-A44ADB29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20524-63DE-4AE7-A716-9E3388C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24C2B-3D2E-4421-8062-7E41C658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1BA9-B460-4B3A-A419-564CAAB6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5B5-14CA-4C63-8D6F-77795C6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1CAB8-9C50-48EE-A3EA-2563765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7FDC1-D93C-41DB-A72C-C8F6B6A7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80BC-F29D-44D0-9624-0FD56B64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4B397-651B-4051-A954-CD12105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25EE-2088-4B8B-A34B-4A91090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B39A7-97B8-4214-ADD6-8B434761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2207-EAEA-4D13-A572-A319ED48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228AF-DCD2-42D7-ADC9-3F08EFF3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112CE-88CC-498C-A83F-894575F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1ECE-C19B-456C-9051-0B3C2742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739-6C4F-49B7-8120-9016B5269A0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0A9E-3EED-429A-8A5A-B93F10768D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D08-7980-450C-8B95-191FA96ECC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0E3F-6502-4886-8573-7699B44C3A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26F7-9415-42D3-A12C-5DAD3BA37B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1056-EF18-4835-8988-73BE4D9D59E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B5E1-9C86-4BC6-A4F4-A01EF48DB9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DE8-BE4C-48D4-90EE-5D27811B07E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74B2-53E5-40EB-AC5E-9B8AFE0221F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EF8-4642-4F00-8E71-468178107D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53D1-1E4F-41DE-A49C-952F9255434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E8E4-1EC3-4973-86E6-B1BAC28DB96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9A5B-D608-47B5-BF56-962FA0C93E0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3832-6ED1-4F00-8A1C-89A92ADD86C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7A94-F051-462A-9D84-432C8AC0B8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08A8-1CC3-4A78-A39D-85443274C4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 -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quency of sending your bank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 / 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„overdraft“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 = withdrawals from a bank account exceeds the available balance which gives the account a negative bal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Úč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typy účtů, základní rozdíly mezi nimi, pravidla při otevření a uzavření účtu a zavádí další pojmy bankovní angličtiny spojené s tématem účt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open an account, current account, deposit account, giro account, FC accou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ir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C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urren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ding 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rect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via debit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 fees or even no fees for running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ust keep a certain 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ch higher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rate is fixed for a fixed length of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withdraw money you lose the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iro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 of 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very high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aries are transferred from your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pay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nt, gas, water and electricity b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C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current or time depo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major convertible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is usually paid transferred into F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ent can ask for euroche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need your ID and you have to fill in a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some personal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a specimen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agree on the conditions of running your account and th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39Z</dcterms:modified>
  <cp:revision>14</cp:revision>
  <dc:subject/>
  <dc:title>BUSINESS ENGLISH</dc:title>
</cp:coreProperties>
</file>