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74BA-85F2-443C-970C-48BAF9385BB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B4E8-FEB8-44E6-AF90-75C62BBFA19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72E0-2933-4500-8504-B5FD86AD30A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E293-6DD0-4B6A-B75E-E09843449A3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488D-8B72-4E48-A113-EC87563784C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59AD-5EA7-4858-B5B0-5799ED7DD15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4931-9634-4596-8870-4DA082E5C1E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0E06-330D-49E2-A481-0FFF573EA81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27C4-F1BA-4EC3-A1F3-2661D276D31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9CB3-425F-46FD-9BDB-60451C12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44D2-B5A6-425E-8F4D-5F1193C5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46F0A-CCC5-43BF-BCA0-78A92561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693E7-2FE1-4572-A3B3-993380A2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B4AEC-6BE2-4F69-BCFA-BE78580E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188FD-181C-4118-AA5C-0AD66218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C251E-0D3C-4CA0-BDB4-4F83DCBF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86160-7636-4928-A435-31AD36C4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E46A2-9AE2-4742-BE84-156DF764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669E0-F4A4-4285-AC1F-6E7DE19C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2E016-F07A-4489-96DB-5253CA85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5A8A6-A134-4C3C-A182-544CE39E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A0DF-191F-43AA-8E44-C36003D4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C69F6-0175-4892-A6A1-A1301713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BB8B4-F99E-44B4-9018-6DEA4D2E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DB5A1-59A3-4BB1-AFE5-BBE4CF4E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1C3EC-3AE5-4713-9273-386FD848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D3606-B28C-4593-8A08-6E2D6978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2AAC9-380F-4E64-906C-5C6AF765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2A18A-2CAC-43B3-BA6B-CCBE66A0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96701-2894-406F-87DD-F18E9F2B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20651-EA78-47B5-8CD4-787BF336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4867E-C73B-4C89-884B-8056A5BA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D1DE-4233-4F91-9382-F7FE13A5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6627B-E3B3-4919-840B-13EEA08F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D70DB-0E31-4C91-804F-25F1ABBF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01DA7-B5CC-42AA-905A-A6E572BB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2638D-3A26-41D4-8365-88E3F0B2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D3FBC-FAE6-4CF0-AE58-7BE6A979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B46B9-6FC9-4020-AF2C-316DA9FC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667D9-AF49-424B-99BB-14A76DE4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7857E-E10E-4C11-9301-71898CB6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74356-4FF8-4657-B789-6EDEA896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BF18D-B291-4690-A844-37C2F8BC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3614-08A9-4833-8576-E91608E0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E7107-496E-491D-8067-459DA165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26CD4-08C4-4787-A129-98BD75C0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C22DA-1F60-4300-94FF-4889CC51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608F4-2521-4920-BE40-C3349345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16359-D621-4DD0-A64C-48ED2574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660C0-A77B-426F-9583-F69B49A4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E04C3-53B6-431A-AB8E-3E5CAC38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5B725-73E0-4667-9A3A-85B149C7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8363F-E342-47EC-908A-2BF0B310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1768D-F582-4F11-898C-A1ABB559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C6C9-8CF1-4FDB-8D19-319ED55F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96FD1-35C4-4AB1-B1ED-E2BDF87A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2AA14-02B1-4737-9736-2BBF3BE5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1F407-92EF-4692-BCCA-55B9BF4C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4CE51-5344-417D-BE85-65DCB5F8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84439-C287-40BA-8A4D-60086F18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9829E-FAB9-4448-B5BD-E2714333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9708A-D69F-438F-A5EA-94279784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A18D0-AA5C-4BC3-863A-70651A1F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A8950-78F2-4E66-BD09-4DB0D294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DE85C-F215-4DF4-8550-0957BDAC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7838-2E36-426D-91E5-0EBC6C2C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3D8E0-79AD-452E-9A49-A6D56649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C853D5-065F-4FDD-917A-FEB25571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F785C-3BEF-4DCD-8060-BF8B4CD0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7F9204-F075-404D-8E5A-8E13C177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B6FB5-5F9A-4F3C-AC1C-B1439846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F79B25-D6A5-4EA3-9F68-6F1CE6F3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7B145-AD95-4446-82F5-6C54724E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F3CC68-1D91-47F1-A885-12144374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BF5017-AFC0-4453-9C2B-9147E85B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6EAFAB-A63D-4988-9CAA-80CB20EF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FA58-7C40-4CD2-8C30-4C2687AE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0C7D1-1FAA-4F4E-8428-CEA5634E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B7C3CF-8573-4014-BF85-63123841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7943B5-A1B3-404A-ADCF-F8E0CE31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2CD0C0-1EE4-4FCF-A02B-28FEFA1C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F4FEF-8F91-4ED3-9972-C2047ECA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FD2202-F9EF-4A6F-A60A-063EB6C2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0EC7B5-2950-4E55-9978-81C39C7A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239BD8-9662-48D2-BC60-AF734750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233847-EB66-4D60-A868-D775A454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AB2BA7-F4ED-4A4B-8735-7E2AF385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6C91-FF8F-40E6-9EC7-B3E6A39E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80E0A9-69C1-4CC1-BEAB-A870DB7A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75603-8649-4760-BFD7-86D75630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0CEFFC-F4DA-43A0-819C-A91B2B3F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B47F5E-6E07-4BBA-9A34-E28F28FD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AAF0FB-68AF-41A4-8932-E83ECC19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79B09C-D667-4282-B22F-CFE5ED9F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4284E0-23DE-444C-9781-1549D3CF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701126-693D-4834-B653-3C6D4215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75948B-F6A7-4B61-BF4A-72BD2A51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8EDF40-6834-4565-BEBD-FEE5128C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88F0-9780-4190-87B0-A3E1532B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132839-D7DB-4F5E-9740-9286EF05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7AEC90-0BDE-4585-A433-0FB78A2D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93AEDA-AF75-49BF-90BE-F6F6A166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22DAF5-9346-43D9-8335-71FEE335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BAB603-90AF-4898-908E-B930A81F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C4D9F8-AB33-431F-A6C6-F025E99E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843C62-391C-4213-9CB8-01131DD1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A939A7-41F7-42E8-88CF-2908AA85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687E67-4CA2-4E02-882D-D56ED2BB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1D7BBB-2E3D-48F7-B4DE-0AA2B282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3F07-83ED-4231-9809-450B0540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A5CE82-7DEE-487A-9921-A1EE412F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1DDE4D-BB10-4D8F-9CD9-FD5AA72D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92DD73-E041-4AF3-B2BA-E67EFE82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CDE-F4CA-487F-B45C-AA29A45C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5DD6-62DA-4026-BC87-62C742EE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E35E-955D-40C3-88C7-DA1D5D34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F1A6-AA3B-42DD-BE08-F99466F7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6F1D-1243-4EDC-B5C0-74A6EE7F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577D-7064-4C37-8CC4-B8F7C11A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8C367-CB86-4E4A-A529-06156E47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DAB0F-F9EB-4301-B149-93941FBA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A5CC4-CF80-4596-8B5E-26C6A6DC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69AC6-41E4-42BC-BCC6-7F13FF34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843B4-26E2-4349-A854-3F07DAB8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198A-C8FC-4B80-93F8-D2611050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60891-259D-4827-A814-DD996A93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89348-E1D7-43F4-8F0C-7AB904D4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25CA8-A101-4ADC-9043-C65E1A36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557FB-D22C-4760-8503-A0278E23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7DF92-8D3F-4397-BC61-B2E7DBA6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6F09F-EEE4-4387-B5B7-D5BD23B8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4D88E-FDD6-4D36-B403-BC59A2CF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AB182-A16B-418D-9EAE-54AF4E57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61484-42CD-47C7-BBE0-1B77381E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6749B-3F67-48DC-9708-6768EA6F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9288-F055-4727-8323-4452B2A6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55C81-1BAD-477D-8859-B668BB69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761A0-CFBD-4E69-91FA-BDC2EB2B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56A09-F3ED-41B6-B281-4906EA7E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FA1CD-7588-44A7-B2B3-AA709EFC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A6CE2-F5B8-4F4F-B75C-78D9E132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1F80C-2626-41EA-AB6D-A75ADB01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AE95D-6FCE-4A61-AD94-2D2F2086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DA005-35F3-4342-A74E-7B7FF26A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44300-0D7F-4E43-AF71-293CC3F9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B85BA-F37C-4BC1-85E0-4B5EE309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89DB-AC6C-42D7-93FC-458D1FC2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1AF68-E4C0-41BC-A058-D6C87879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6AB44-E51B-4201-8EAB-9D3F0D0B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D1791-28CE-4846-A675-B39456F4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B3407-AF38-4550-8B96-0357C49F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8813D-4423-4F7A-8E81-E7521D54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32581-141C-44C1-AD92-3A39F0C2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16698-0AD4-4BA6-9EB4-EC7E14CE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0470A-AEE2-4E4E-B2A9-222FF584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E0CE5-1307-4931-9130-05D2EF12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C46E3-A724-48EB-829D-4FFDE981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148F-0A79-46A3-9464-DEB779FF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E38F4-0735-4D7E-BDF2-879F93D4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A2889-C15E-4C9A-924B-4433CAA6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DD60A-88C5-46D5-8F10-97D11525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6850E-36E3-45FD-91AA-03CC3984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31F51-8436-49CE-B9E6-F641C868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C7652-B9DD-4017-9469-AF906760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BB293-4012-4DD6-A267-FAAEF498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5336D-8201-4AA2-8CEC-2190D7D6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CD475-41DE-43C7-B76F-BC0EE92F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D16AF-CD34-4BEF-BE3E-F599921B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26EB-1958-455B-B92D-275EA4CA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80246-F5D9-4536-B1D6-4FE72C35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A0EF7-659A-490B-9FFF-A6BE706D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9DF8A-6CEA-4184-A8BD-66FDCAA1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C85E7-3832-403D-B001-92AE9414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EFF1E-CB47-40A1-B560-75E23B0C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6BA94-D646-44D1-A881-8E16B960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615C8-C74F-495C-BB94-B19FDAAF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FCAD8-E96A-4748-B518-46430AFA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70014-2EC2-4583-9AD7-ECCC5502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45471-3722-4D38-BF02-40C5E54C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FF16-D201-4A1E-847D-C4A219D4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C3C47-F033-4B10-89A1-9C98F48F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174F9-1CD0-41A9-82A9-28DCF3DF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A002B-5311-427C-8183-762539EA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0B077-C6E2-4766-90A2-A47E89AC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28F84-22F1-44EC-B4AC-165D4988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3996F-B49C-42A3-8AD9-CCEF5423C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5DE6E-C778-4589-857C-F37829E5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02883-A4B1-4515-854C-60DFBBB3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86CCC-D01A-493A-8495-85503C34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73E8D-3AEA-4A5A-85DE-E0A546BE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A6D-C121-4A23-886F-BD7BA75D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98CE7-CB57-4787-9F39-B6153D31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0D85A-568D-49D3-9475-CC055FE6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A613C-F2E9-443A-9765-5B3B7AE4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186A5-2859-4787-B170-104BEB6D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61142-8AA3-4055-9B9F-9E9887C4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2DF69-252F-42C7-A0E3-7C6678B7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B07E7-DC22-4330-96A6-A884DF17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D3C3A-65D4-429F-AFD4-1FB2CBB4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B3CB9-502C-4EF4-9B52-F9CA6012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6BACF-4B7B-430C-9B4E-FEE78257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69DF-4F2F-480C-8BD4-9747959C80A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B1DB-69FE-4EB1-BC26-BA4C98EC7D7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534F-8B55-40D4-85AF-CEF977AA71F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4B49-AC35-4F99-B97D-C33BB74EE21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799A-89B0-4D1E-9058-1DCF9361323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2618-807D-43BB-AE3E-4A3F1EB6E0A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59C7-E953-4FB3-B931-AA20C606187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D66E-5E67-474F-8552-F020CC81306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A5DB-2E09-4746-900F-9F177E988CD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AA4A-69DB-4196-AE0E-38FEB9468A0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76ED-7E21-4553-B3F6-20245A2A0799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A16F-3998-46FD-BBEC-6640B75B0A6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2E73-D1DE-44D4-800D-93A4F06E179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8600-23C9-4830-85DB-ADD1AB6CC0B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E4F1-3D7D-41FC-8A84-822F131DD34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BCA6-3FB5-41C5-B77B-1E6953A0527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2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0188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.W.I.F.T. co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code for international pay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8-11 charac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4 characters – bank code  (only lett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2 characters – country code (only lett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2 characters – location code (letters and digit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3 characters – branch code (optional, letters and dig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avellers´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ecurity which entitles the drawee or the holder to withdraw money in a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90" name="Zástupný symbol pro obsah 2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826080" cy="163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avellers´ cheques must contai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words „traveller´s cheque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order or promise to pay a certain amount of money to the drawee or the ho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name of the drawer or the company and their signa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měna, cestovní še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nejdůležitější zahraniční měny, vysvětluje směnný kurz, SWIFT kód, podrobněji se zabývá cestovními šeky a představuje odbornou slovní zásob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Měna, směnný kurz, SWIFT kód, cestovní šek,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0188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3573360"/>
            <a:ext cx="40132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66"/>
                </a:solidFill>
                <a:latin typeface="Arial"/>
              </a:rPr>
              <a:t>FOREIGN CURR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6666"/>
                </a:solidFill>
                <a:latin typeface="Arial"/>
              </a:rPr>
              <a:t>TRAVELLERS´ CHEQ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CURRENC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Currency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is a system or a type of money a particular country u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oney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in any form used as a medium of ex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8" name="Zástupný symbol pro obsah 2" descr=""/>
          <p:cNvPicPr/>
          <p:nvPr/>
        </p:nvPicPr>
        <p:blipFill>
          <a:blip r:embed="rId1"/>
          <a:stretch/>
        </p:blipFill>
        <p:spPr>
          <a:xfrm>
            <a:off x="5411880" y="3300480"/>
            <a:ext cx="2466720" cy="1847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w to pay in a foreign countr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760" name="Organization Chart 3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761" name="_s1028"/>
            <p:cNvCxnSpPr>
              <a:stCxn id="762" idx="0"/>
              <a:endCxn id="763" idx="2"/>
            </p:cNvCxnSpPr>
            <p:nvPr/>
          </p:nvCxnSpPr>
          <p:spPr>
            <a:xfrm flipV="1" rot="16200000">
              <a:off x="5657760" y="287712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4" name="_s1029"/>
            <p:cNvCxnSpPr>
              <a:stCxn id="765" idx="0"/>
              <a:endCxn id="763" idx="2"/>
            </p:cNvCxnSpPr>
            <p:nvPr/>
          </p:nvCxnSpPr>
          <p:spPr>
            <a:xfrm flipV="1">
              <a:off x="4684320" y="3851280"/>
              <a:ext cx="3600" cy="74520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6" name="_s1030"/>
            <p:cNvCxnSpPr>
              <a:stCxn id="767" idx="0"/>
              <a:endCxn id="763" idx="2"/>
            </p:cNvCxnSpPr>
            <p:nvPr/>
          </p:nvCxnSpPr>
          <p:spPr>
            <a:xfrm flipH="1" flipV="1" rot="5400000">
              <a:off x="2964960" y="287748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763" name="_s1031"/>
            <p:cNvSpPr/>
            <p:nvPr/>
          </p:nvSpPr>
          <p:spPr>
            <a:xfrm>
              <a:off x="3530520" y="23623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You can 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pay by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7" name="_s1032"/>
            <p:cNvSpPr/>
            <p:nvPr/>
          </p:nvSpPr>
          <p:spPr>
            <a:xfrm>
              <a:off x="83808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3366"/>
                  </a:solidFill>
                  <a:latin typeface="Arial"/>
                </a:rPr>
                <a:t>Cash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5" name="_s1033"/>
            <p:cNvSpPr/>
            <p:nvPr/>
          </p:nvSpPr>
          <p:spPr>
            <a:xfrm>
              <a:off x="353052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redit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2" name="_s1034"/>
            <p:cNvSpPr/>
            <p:nvPr/>
          </p:nvSpPr>
          <p:spPr>
            <a:xfrm>
              <a:off x="622296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Travellers´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oreign currenc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Australia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australian doll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anada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canadian doll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Denmark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danish cr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16 countries of EU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EU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1" name="Picture 4" descr="austrálie"/>
          <p:cNvPicPr/>
          <p:nvPr/>
        </p:nvPicPr>
        <p:blipFill>
          <a:blip r:embed="rId1"/>
          <a:stretch/>
        </p:blipFill>
        <p:spPr>
          <a:xfrm>
            <a:off x="4716360" y="2924280"/>
            <a:ext cx="5400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2" name="Picture 5" descr="kanada"/>
          <p:cNvPicPr/>
          <p:nvPr/>
        </p:nvPicPr>
        <p:blipFill>
          <a:blip r:embed="rId2"/>
          <a:stretch/>
        </p:blipFill>
        <p:spPr>
          <a:xfrm>
            <a:off x="4716360" y="3429000"/>
            <a:ext cx="5400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3" name="Picture 7" descr="dansko"/>
          <p:cNvPicPr/>
          <p:nvPr/>
        </p:nvPicPr>
        <p:blipFill>
          <a:blip r:embed="rId3"/>
          <a:stretch/>
        </p:blipFill>
        <p:spPr>
          <a:xfrm>
            <a:off x="4716360" y="4005360"/>
            <a:ext cx="5400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4" name="Picture 8" descr="evropska_unie"/>
          <p:cNvPicPr/>
          <p:nvPr/>
        </p:nvPicPr>
        <p:blipFill>
          <a:blip r:embed="rId4"/>
          <a:stretch/>
        </p:blipFill>
        <p:spPr>
          <a:xfrm>
            <a:off x="4716360" y="4508640"/>
            <a:ext cx="5400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oreign currenc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Great Britain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british pou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Japan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japanese y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oland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polish zlo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Switzerland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swiss fran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The U.S.A.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american doll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7" name="Picture 4" descr="spojene_kralovstvi"/>
          <p:cNvPicPr/>
          <p:nvPr/>
        </p:nvPicPr>
        <p:blipFill>
          <a:blip r:embed="rId1"/>
          <a:stretch/>
        </p:blipFill>
        <p:spPr>
          <a:xfrm>
            <a:off x="4716360" y="2924280"/>
            <a:ext cx="540000" cy="360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778" name="Picture 5" descr="japonsko"/>
          <p:cNvPicPr/>
          <p:nvPr/>
        </p:nvPicPr>
        <p:blipFill>
          <a:blip r:embed="rId2"/>
          <a:stretch/>
        </p:blipFill>
        <p:spPr>
          <a:xfrm>
            <a:off x="4716360" y="3429000"/>
            <a:ext cx="540000" cy="360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779" name="Picture 6" descr="polsko"/>
          <p:cNvPicPr/>
          <p:nvPr/>
        </p:nvPicPr>
        <p:blipFill>
          <a:blip r:embed="rId3"/>
          <a:stretch/>
        </p:blipFill>
        <p:spPr>
          <a:xfrm>
            <a:off x="4716360" y="3933720"/>
            <a:ext cx="540000" cy="360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780" name="Picture 7" descr="švýcarsko"/>
          <p:cNvPicPr/>
          <p:nvPr/>
        </p:nvPicPr>
        <p:blipFill>
          <a:blip r:embed="rId4"/>
          <a:stretch/>
        </p:blipFill>
        <p:spPr>
          <a:xfrm>
            <a:off x="4788000" y="4508640"/>
            <a:ext cx="36036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1" name="Picture 8" descr="usa"/>
          <p:cNvPicPr/>
          <p:nvPr/>
        </p:nvPicPr>
        <p:blipFill>
          <a:blip r:embed="rId5"/>
          <a:stretch/>
        </p:blipFill>
        <p:spPr>
          <a:xfrm>
            <a:off x="4716360" y="5013360"/>
            <a:ext cx="540000" cy="360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xchange ra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hange every d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pend on many different th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 fixed on the London FX market by dealers from over 200 ban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y be different in different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ow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selling price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buying pr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nfluences exchange rat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conomic sit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litical sit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mount of government 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rket t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6:09Z</dcterms:modified>
  <cp:revision>14</cp:revision>
  <dc:subject/>
  <dc:title>BUSINESS ENGLISH</dc:title>
</cp:coreProperties>
</file>