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D608-C578-46E5-9EC5-FB942A5A78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309-B2E9-4909-BADE-523671769DC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73EA-F261-4B91-AE8C-E18448D69A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A49-1654-48D7-9575-1D517E78DEE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02EE-A2AF-4CEC-BAF3-4175F92FC3F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8CD-BD03-4BF5-B3D5-7C7A443D12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9534-B708-4DD9-B3DB-413E8777A2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7FA4-0A93-4BB3-9478-96770D8A397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3B1F-EF41-402A-B3C9-D21BA5AC847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6F8-F194-4F3B-8090-03D97999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5A8-3FF6-4C32-B2C4-EB7E6009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9E7E3-3112-4702-9452-4D903320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17571-CEF0-4E5B-90DD-0F66069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14974-2CA3-4C39-BFD7-E54F2887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ED440-B48D-4856-94BC-BAACD09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8A464-30C7-4CF9-8575-83FC0CB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72909-BA69-444C-886B-7A048D35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9129D-EE3E-4F5B-8DCA-DF6D7516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4D1EC-D0BF-4005-9F5A-1D062524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C70DB-B240-4799-A906-8B6EBB33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09F3A-7FB5-4A2D-AAC3-5C3ACCF0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45F-861A-4693-9F9A-EB8DEF68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87C70-63FA-4587-B6D1-E3B9B7E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0E62F-D655-45AE-BB7A-01103BAC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A5767-A315-4C63-BFAF-61EDBD6F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B884E-5266-4EF2-8A60-548D930F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E649-854C-4FE8-90A7-9090EFB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64B2D-62B9-4034-B17E-E50492F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5AC51-786F-44FB-8A35-A87630E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5C75C-88C7-4754-956B-3F1EE18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DD97A-107A-4A0B-85A0-269AA115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89DC0-5E00-4569-9DD7-082EE830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DD4-6B98-47CD-A1F2-3B19605D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41800-F419-40E8-A7C0-75AE119B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64B6A-606F-4A62-B3DE-100A24CB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8792A-E843-483E-B9D1-73BECC23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7447-1A91-4DFB-A9BE-25714A42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B99FA-7627-440C-9BED-98ABE719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DBEDE-5DBA-4106-9305-2AA02054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B9772-BEF0-4E14-A9AF-AB85BC12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AD66-5D2E-4943-A069-9ED19083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B720D-A401-45F2-8BD8-1AA45236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E70A1-E381-4353-834D-D09D5E8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865E-BC84-4B5A-A7C7-890D4B92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5516-B966-4E12-B19A-CDB4EE1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80FD6-0FE7-4415-A184-C585BB32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B72C9-F9B3-4EE3-8AB4-2794BFFA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B4F052-5D7C-4C8A-889F-66B4C5F7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23733-FC14-4889-9E51-A940AB1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B0760-05AB-4BEA-B8A3-F78001D3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0EC4-A0F8-4208-9585-057FE786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07D14-A973-471A-9118-8FE8B4F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82574-10D4-464A-8281-C4C92E2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E1C32-2A2D-4B10-8645-2FCB5CA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E429-96C8-4E2C-B991-C6B91E1E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80345-1B0B-4F6C-98A3-7E0034B4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B6B3B-F1A2-4CE3-B332-FF26B5C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102B9-9153-40AE-B0CC-2F30EA1E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6248D-FF58-4F70-A5AA-3ADD940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BC61-45BB-45F2-8858-3D095DA7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53F54-945B-4AC0-A6D4-4D3AE538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C6461-B092-49EF-8BDB-650FE33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D7AE0-543E-4B8B-B860-749D0F15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4FA43-B91A-47CE-A6F9-0D84B76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F72F0-4929-41BD-9A19-1C3103D5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A115-B40E-4BA2-BFC6-6EB81EB1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BF7DB-BAFB-4B63-AA95-853BEDD7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75883-67FC-41FF-81DB-DC2146B8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7D6D6-535E-4B5A-8BB1-675B6451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8450A-BA63-40D4-BE13-5C508B6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F47D6-D54E-4337-95CE-CCFDA13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3319F-0E18-4E8E-9567-592815BC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04901-0FFF-4DB1-B49F-6696A63B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F7A462-5BDE-47B1-B622-81383D29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5A85D-8E05-4FB4-A704-CE4C55A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81F780-0D8C-41A3-AEF1-18A76828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2B4B-6BC0-4B0E-A68A-E5867B3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3C5E6-D5DC-44F9-BADB-0CA5BDE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DB56B-B62F-4EC6-B341-44A56CC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B6BB6-CF50-4D51-A870-E1716A86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7B315-9EB9-4A10-BB97-794976FC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C92698-6D81-47F3-8044-63590F19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BEDC1-81C8-41B3-BD05-4F5EE551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4C33A-97DF-442B-8D3A-8DF19250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31F16-6FD5-435B-A1C1-2894E4D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A83D5-BEC7-4940-8416-8C494DE5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ADC9E-B887-45B4-A349-0DA19BC6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6D6A-B607-41AD-B543-06B875A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C9019-CE14-457C-B1BD-C7AA61A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A4A10F-E468-4621-BABF-E79A9E2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E8A96-DE53-403F-97E4-2EA8293B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77684-FD7E-4C21-8D48-718C38D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F5869-09C5-443C-AA06-FE0CF62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0CE0B-A5BD-4D5E-A081-1FB2C1C3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3AA9F-D79E-4E36-9C52-F47D7E42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8C2101-9DBE-4F1F-875F-A57C71D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50D56-D90A-40BA-8237-136E7F3E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BE9C7-1F7E-430A-B33C-CDCE20C6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0053-5329-4482-AD20-2A215D47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9554F-7EA7-4EE2-9E07-01EBD09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4CB6E-74B7-46EA-AE1F-49D00AFD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AAF47-A37E-4345-A451-DA7C3554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50FAD-49E4-4471-A187-B7DA68F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094A2-F803-4DD7-BDE0-CB6C48EB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02D3D-BBB0-44FF-99E1-5633E67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46CB2-180D-4C67-BB0D-C3809F6D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AFAD6-32C3-4B2D-A810-E3ED829C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30708-F171-4AE4-A63E-1C59569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55355-0D44-472A-BCF7-797C9D8F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08B8-1F33-4E8C-B2FC-C79FA16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47ABC1-13AA-4E7A-B947-C918856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660C6-4AE2-4ED5-95B0-E0223E22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E774C-A9E6-4298-814A-5B5B7A5F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C4262-4E2A-445D-AB74-C6CAF6B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710F68-4898-41C1-B621-60527FF9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F57AB-F9BC-4057-9BFF-189CCF94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6A3D8-E12B-4CC5-88A1-C087150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D0B34-36CB-4E9B-9306-1D0BCB84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6E1CA5-DA47-4222-9097-C8962DC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A5ED4-9162-4293-B65E-34E2E0AE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71A-AD9D-45EC-A862-B982754E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2AA5-3E3D-4B4E-B5D7-4C10A90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976F90-80E5-4E30-84E9-31BDC0B6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B37A1B-258A-472E-BB27-05435318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B2E99-8F48-42BE-94EE-6FAFCAFC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02F73-67F3-4E47-8F8A-3F3E7789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65F07-E56D-4C22-A3AA-C4D4364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17B4D-2796-4767-8337-3C96CF06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26DF6-63B3-421F-9696-CC99FBE6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BA233-3A88-4AE3-A818-627FD78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24E5F-B883-40BE-A076-1ADD13E1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E7B0F5-6FC8-4D35-959B-7BA6A2FF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E052-32AB-45F6-9C4D-3CDD950D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315501-AA11-4836-9098-088EE0A7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81455-D4E5-413B-8E97-6FF547B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998CAA-9346-4DDB-A067-9C49F3E1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09FA4-04FC-4CEF-B1C1-2529126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4D369B-2441-41A7-B1A5-0B946F8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7EBF5-BD77-413C-B98E-077D71D6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9F09D5-0E79-4EB9-8C10-99E206C7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D098E-653E-4822-8727-5988A29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54500-AF98-49A5-AF3F-B4162024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24E82-B5A9-4E69-A73B-3A31727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6DDF-8F00-4B91-BCA6-B4EC9CE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A4CBF-873F-4649-AB03-5EDA7490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EAB8D-C0A8-4DD8-B8BA-EF940221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C9E6B-69FD-4B09-83C8-32060F7B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91B721-1D97-4748-ACBA-0E6D3FB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E2322-1B19-447E-B455-E8FD7F5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8031C-EE87-48B7-9A5F-75B220E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35230-A485-4B65-BCF7-8290B9E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81E1A-B5E5-4A99-B1FA-2036BCC1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64FD3-7525-49FD-BEB4-8A650596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AF451-1A3A-4FD9-89D4-FDF5FF41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D985-E526-4345-8E65-261E3C6F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59A064-5DF4-4609-8DEA-3C9EDEEF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338366-9BA1-42E6-88CB-CC9D79F5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A2345-FEDA-49C4-8F38-C73C44E0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75B11-FA70-428D-9868-262CD305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C209A-A479-40C9-9CD6-C21FC69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A553F-09DB-496B-9D35-BCD48CAB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3F6A8-A1AE-488E-AC1A-07093D3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05ACF-2A77-47C0-B5C5-F7A5A360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E6C97-3871-415A-8958-413E28C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619E4-671E-4BB8-BB15-8BD6BF29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A654-1B83-4BFF-81BA-A2228295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C6EB4-3283-4F41-8ABA-7CC2DD2F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F8BD-31DD-4EB8-B0DF-6615CF9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D977-12DC-4363-8F7A-1E5194EB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C2CBE-BE69-4A16-BB49-16FAFA0C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9C7B-6015-457D-85AD-3B07093A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F9421-CF84-4C0A-9CFE-6D48F4C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5BDA-1FDF-4018-A9BC-D6605018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89F7-9A43-4933-93EC-9FB7D3AD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B6AD1-4273-45F5-AE19-17BC38E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F5650-5ACA-4873-B153-4F9D5DA8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4028F-9286-4A6B-9E7B-754AA1D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FD59-0B23-4A2B-B80B-F23F326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680B-C5D1-4474-B0DE-C66307E4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639D-4B27-45B6-B24C-E4C9BD55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D3D7-10E9-411E-B1B3-987B9AE2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E450-4026-4558-AC1C-D4D016B0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78AB6-E02B-40C0-AA36-622FD2C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AF2-BFB7-451F-8AFB-FA4D795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9A8C-AAE1-41B7-9085-58886D2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E452-3C79-45A4-B695-1A59991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D289-0D8D-4C99-A22A-DDB90251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146D-7A27-4302-831A-67A75E7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45D8B-434D-4CE4-951B-B223E7A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60321-DEB6-431C-99CC-4F5AA05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96380-6B73-45C0-A21C-7CE66997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29FC-D554-417E-A637-0A694F1D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3146-DAD8-42D2-86A7-56E7A0B5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5701-92F5-4025-9347-77EFDFEB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C87-6D6F-4FB3-B281-4A9C9AF9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EADCD-5059-44A2-8B35-B791A53F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DCC7-E3E2-4C18-B62A-87912BF4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65A3-E77B-44EC-B050-68F584B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B8BD3-3290-48D7-801C-D733B0B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1180-A48F-455F-BD8A-63589B7E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C015-25EC-421E-A696-F77F9854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E2E4-9FE8-4500-84C3-6DC1540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EDD65-ED44-4D9D-BBC4-635E563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84D57-5551-4A2F-B076-25A200B0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9BC7-2DEA-4183-BCDD-C032EFD9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77C-3C79-4A3C-89BA-66486438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6131E-002C-4521-A01F-A73E425D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EF7B-C91F-4D62-93E9-8280F970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4678-B786-4021-AE05-6706D5F0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8A0A3-8D20-487D-A3FB-EF3D4065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9B9C8-4DAE-4697-AF04-320662A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D6D34-A404-4097-94FF-416E391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2AA3-A767-4EBD-9031-EAC3F07A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98BA5-098F-4630-BAF6-9F5B290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92B1-1E92-4201-BA4B-2A70688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846B-A635-462E-90C5-1926EEE6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BDE-4046-4B7A-B3AE-475F76B7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079ED-583C-40DF-A7B2-4E0E0A50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F254B-905F-4EAB-8026-32064648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2D03-8E86-4260-B319-3AD7D454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EA208-9794-4400-A108-DDC4C858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86B4B-C45C-4294-8C56-C76DCE39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0807-0B99-44FE-AA70-5F23E71B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7C7DC-9FDC-4881-B412-BD91B56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30500-D39D-4F45-87D7-CD4EEBBC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232D0-A564-4332-B9BB-622E522C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6A1B-57CF-4B0B-8569-D182A1B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EDA-E1B4-401F-B891-4D1C2C8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0D36-EA7D-496C-9D55-4C8379F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5CA3B-6352-426C-82FD-5626BCE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2EDF7-8BCB-4471-BD56-5D708BF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B93ED-E615-4FFB-BC83-1C8E48AE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0A818-E74A-405F-95FF-012EF5D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A81B-2DA0-446D-9707-31BDC14B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E0190-C372-4CCA-964C-471FE41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7ECF8-5593-4529-904E-5C4F52F3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DA70C-CF5B-4243-9E5C-B87651D2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28D47-F57B-47A5-AB91-B73CB44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00B-5BA0-425B-897C-2FC97562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991D1-7C57-4214-952E-443B9D8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4C5CC-1D09-40AC-98C3-A8DD6737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CEA49-D975-472C-9C88-68D43D8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AFFF-2CB3-4248-8051-889AD0B1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0047-10B7-43BA-A85F-90720D7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833FD-0F8B-4699-B0EF-C26CDFC3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072E7-498F-4C97-A01A-CE59D50B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06C9-3A6D-45B5-9A55-BFBE8669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2343B-4929-4A26-AFD0-8692724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751E7-2B08-4AF2-B10D-44D14F4E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AA80-7EE5-43C3-843B-DFCF32D6DB6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53DA-8C47-45AB-82A7-5A530F4480B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EEB0-3083-4FCB-B84D-DB9205E1AA1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2D6E-1E24-45C5-ABA9-0CA588FDFA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4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F607-B016-465E-A753-829421AF1A2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8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1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2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95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E0E-D994-4050-935F-BA8F9D74089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63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DF1F-C1D5-4800-B33D-87CDEB509D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68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3AB0-5188-41C4-8996-D52D3C01464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D48-43FA-491F-A22A-C8D5AEC63D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76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D6D7-14DB-4C63-AF5B-33750A945B0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133-0E49-4924-A560-FE916DD5240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ED1-70C3-4563-A254-2294FEA07D4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E288-CBC9-43E0-8B7C-BBDA2BC66E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1068-6D0B-4BEF-B7E4-D6B2ADDBB8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C62B-15A1-4261-89CA-7A35E84F04A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9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37BE-5068-44AE-B1D7-2D6387A4C0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4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81B5-059E-432F-87C1-6DCA560450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9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7AE-1F41-4425-8830-5BBB921B20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289-6E6B-4E1A-81FE-02C55125E9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CCA3-D521-4E3D-9F12-2382A2BBD5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3" name="Obrázek 1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 „cheque“ in the language in which the cheque was iss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where the cheque will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32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33" name="_s2052"/>
            <p:cNvCxnSpPr>
              <a:stCxn id="934" idx="0"/>
              <a:endCxn id="93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6" name="_s2053"/>
            <p:cNvCxnSpPr>
              <a:stCxn id="937" idx="0"/>
              <a:endCxn id="93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8" name="_s2054"/>
            <p:cNvCxnSpPr>
              <a:stCxn id="939" idx="0"/>
              <a:endCxn id="93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35" name="_s2055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_s2056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_s2057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rivate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_s2058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´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by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request of a person for anothe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ork as a cashless pa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vate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drawer is a person who has an account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on forms which are parts of a chequ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´s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ually issued by banks or financial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in most frequent world curr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travelling eas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vantages x disadvan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You´re always able to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ying for goods, accommodations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cheap way of pa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ank checks the identity of the dra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F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Sometimes a long time before it is p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You have to keep your cheque book with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258920" y="1557360"/>
            <a:ext cx="7634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y a šekové kníž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šeky a jejich typy, způsoby použití šeků, výhody a nevýhody používání šeků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, šeková knížka, vystavitel, cestovní šek, šek na doručitele, šek na řad, platnost šek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5" name="Obrázek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HEQU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ritten order directing a bank to pay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inted piece of paper you can sign and use instead of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0" name="Picture 7" descr="šek"/>
          <p:cNvPicPr/>
          <p:nvPr/>
        </p:nvPicPr>
        <p:blipFill>
          <a:blip r:embed="rId1"/>
          <a:stretch/>
        </p:blipFill>
        <p:spPr>
          <a:xfrm>
            <a:off x="5796000" y="3429000"/>
            <a:ext cx="2432160" cy="12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2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13" name="_s1028"/>
            <p:cNvCxnSpPr>
              <a:stCxn id="914" idx="0"/>
              <a:endCxn id="91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6" name="_s1029"/>
            <p:cNvCxnSpPr>
              <a:stCxn id="917" idx="0"/>
              <a:endCxn id="91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8" name="_s1030"/>
            <p:cNvCxnSpPr>
              <a:stCxn id="919" idx="0"/>
              <a:endCxn id="91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15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Order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ear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ount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only to the 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will find „pay to the order of…..“ on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ar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anyone who is in possession of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re does not have to be any name of a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the „bearer“, to „cash“ or „to the order of cash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unt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ed for withdraw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ually left bl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you run out of cheque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your cheques get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que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th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ature of the dra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23Z</dcterms:modified>
  <cp:revision>20</cp:revision>
  <dc:subject/>
  <dc:title>BUSINESS ENGLISH</dc:title>
</cp:coreProperties>
</file>