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C487-1904-45E2-BCE7-4DD4672CD7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7B31-7FCD-497C-A5C7-287DDBF1F5F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AE47-71BE-40A3-A84E-E4DB774A004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EEF8-D419-4750-BB2F-6021EB85456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C401-AA45-416D-95D7-1118C9D510D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A092-4D73-4979-9F2B-D0BED0DD7CE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87B3-1406-4530-A95C-DEC9B414986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B918-C733-420A-BB3F-3AFD547C568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1096-F3FF-4822-9B7F-DB0ED7E2FF5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3B4-AD3B-458B-90CC-EE2FA3AD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BCB-F05C-47A5-A33D-47B3FE4D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26F40-BA79-442A-8283-A80795CD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26FB9-1C9D-4EE7-972F-7EDEF453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2DF2E-D613-4CE7-9613-0DF0D165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A631A-FE37-4F45-891B-22FCE262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CA54B-F8DA-4815-AE00-2E88C909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98E35-FC0A-4B4E-9EC8-C54F5344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2B841-91B3-4E29-B5F5-536FF801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B2244-109B-4A22-91AD-D483E1AD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96E4F-F122-40A6-B7BC-FC4E818B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C093D-FF82-47B2-8864-E1A3FFC9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612-1D46-4F2F-AB59-9DAA8B1E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44A50-18F0-4D11-BCD6-D3EED86B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AAE25-A87F-4727-B16B-7F1DE843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E9C16-C739-4F3F-B3F5-970CDDA9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2ADC7-9BB2-4179-8002-C3D96600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029E2-2157-4E32-BBBA-A3F2F73F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83680-4C15-4813-91E3-69EA3F07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3AFD3-E4AB-4896-906E-C5E3112F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ECF5A-3032-41CA-BD2D-F544B9E1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26A60-3472-42FB-A27D-57B71821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B0853-0868-4D05-9056-48D8E031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64B-E022-4A5A-83BE-F1FC1EFB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31383-5134-43BB-B833-0990C40E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80889-7FAF-4F8E-A4CB-9438FF0A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A9605-C41D-41B3-9FE4-B85E60E9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B9223-0CFB-4AC9-851F-CC05D3CE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9995C-D45E-46DE-A0A1-C68C3C44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ECE72-95CA-40DE-881E-6FD1F0E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134E7-7734-4FA0-863A-40710023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2A32B-C497-4610-AF57-47D03A0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790BE-90E3-4F70-9594-8C4ADF53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8447D-B928-46F2-BEC5-0AA10B36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B18A-99A0-4174-AA2E-0B4093D5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C7EB7-1333-4C98-BBD5-EAE4C656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ADB5B-8401-432A-BE83-5699BF32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54778-EA57-48F1-9483-3E06EBDE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157F0-CE90-4CF2-97CA-4D12297E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84634-2A06-4308-836F-33E4CC7F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7EF2F-E7B5-4E7A-996A-1C668FB1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3D246-C366-4C0E-B649-58A51797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FB04C-3C8A-4EC4-B9EF-8F1B85A1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470E3-2D92-475A-BE44-045B4387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8267C-5A8D-49DC-9EEE-D6868BD7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2142-1BC9-4137-B28E-16B44A4F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119E6-62EA-4276-B0A3-B653AAF9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C3A5D-BF0F-4ECC-9B39-AFE59D44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BA754-F26C-4FEC-958B-84DC6CA4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E84F7-236D-4883-BA71-4922CA20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CE9A3-AB1A-4C27-9611-AC703067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13B3F-09D8-43D6-BDE3-370743D6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FA4CC-6CD5-4A68-9AFF-00069C27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DB118-2D42-4D1F-9BDE-E51CAD50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E135E-F23D-4D64-A723-08039252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50DF5C-2B20-4C08-A243-1FAA46A3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0AF6-66D2-40A7-8B28-4030184B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08B88-3ADF-47CB-8D98-6C4C96EB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5FDE2-C180-486F-9EA7-C61A888B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27257-E4C0-405B-8230-AAC4FA67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1158C-300C-4F93-9F3A-BD84F346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9CDEA-354C-46CE-93F9-C3316C1B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E1D19-7A8D-4FE3-A5DF-7B44DFB1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27999-5BB5-4CB1-B5BF-8D8A5C46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FA4-989B-42AE-B29E-BDD3ECF5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2FCF-7E76-437C-8C7D-5A5F52D7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9BA2-68C9-42C7-8D99-1C13088F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DDA4-EA63-4E11-B06A-0CBB7ABF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67D-7B22-4CD8-9267-A679C2F4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C00E-6DCE-446A-B4D6-501AF768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1A9C-3A63-4B9A-BCA4-90045551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5F5C-1480-446C-AD0B-81F12E19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0D8C-0945-44A9-A4B6-E89D7938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3D12-C935-4BBE-B5DD-577C44CB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807F-1029-4400-8DC6-2C1BA722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19F9-5EE5-494C-AFBB-A26DA2E8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556B-4511-4D28-8950-118BD547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3E81F-70D4-4E55-A94B-11D4510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2872-05BD-4927-812E-28C61387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3D6-12E6-4155-896B-BBA99BD8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0C32-49D1-4718-85FB-B91582C0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ADA0B-1D4F-4018-8D87-A3F2C27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33A4-6F07-4412-91D9-63882864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DBA2-75E5-4F3B-875D-6B7B5833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E670-0F1E-4D63-BEBE-2A578AD0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8A34-EACA-4E1A-9046-C9B77CB4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5748-C7FC-49D0-B39D-B0C7328F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0CFB-36D8-40B0-AADD-AE6DB1AA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DD106-18E8-426F-8FE6-E287BBE3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7BD66-4AFB-4DE0-A55B-15E1CC57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3ADD-3E5A-46B0-96CA-64FA35B9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57633-3DE9-4FF3-9A6E-8558EECB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5CE53-A54B-4090-9F3C-9483CEFF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8914-1354-4822-896E-452181BE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DCF7-546C-4490-8F67-A9CCDC16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86833-B5FD-4B8A-84B8-3A79E6CC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02B98-D16E-4325-8E80-4C6A489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2DFF6-C7CF-444B-9E00-9C486986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EAAEF-E748-4328-A819-34CD98D6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54DC2-1B75-4581-BEEF-CD1C6D3B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DEB77-4E42-4590-98C6-02AB4AD9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566-4FD6-4A3F-8EF5-64277833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85CED-EA2A-4227-B1FB-FC66812A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A0F64-9FAA-4E97-9C94-C9761301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8CFAD-DBFD-472A-B85D-E4CF9AB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61A2F-88BD-4003-A015-0B3A3BC1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4769-5BDB-4F0B-8DCC-6187EB1F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8CB2-0672-4B5E-8A61-BB7E8215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9412C-F551-4EF5-80F6-E0CABE83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BED6-3920-4F91-AB73-9E8AACF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9AA4-A028-4732-A2DE-016B388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D2335-0864-4568-B215-63299AD3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C1E-5957-4724-808D-10F23704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90827-84FF-4A24-A71A-3E5495DA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83097-EB5F-4124-9C41-A26CAF1A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293D9-8F1F-43A1-B863-D398E60D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DA1CF-E8F4-4F66-B620-40775B65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E2F2C-DFAC-460F-A338-43F00AB4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CD8BC-B292-404B-85EE-0D951061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2B685-50E9-47B9-9B2A-7D6771FD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BAFB2-E9A9-4E06-B2AE-AE6BB415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5F6FA-4A13-4BD8-986B-050D0D9D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D2848-FC1B-41F5-B391-CD94BEE8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DA3-7548-4C9F-8807-7814FF7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277F7-AC13-46FA-AC6A-4B7BEA88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ADEA3-2972-4835-AE37-D38F4A68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A34DC-312B-499A-BF3A-F879257D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727ED-427C-49F7-8608-FAE078AC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3B596-97AE-4FE8-8BEC-EE0CEC6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604E7-D2B1-43F2-B222-D8BB65FA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AA600-33DD-4DCF-A666-ECCA086B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EB22D-0678-4632-9DA4-70CE4B91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8772-ADDD-42D6-B933-F30A80B5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06521-C390-434C-B858-BF4F7B5E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BCE-A6F2-49B6-9805-98A18273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53F0-41AC-4881-95E6-DC6DF214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DD847-0AAE-45F1-94E3-AE632683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ABB7-DC9F-40D8-A65D-174A4415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AA016-B42F-4AF7-941A-BD52C154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EF0E4-33FF-4181-8A59-2EEB35CF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3035A-46A0-43A5-B76F-FFF9F4DC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697F6-93A6-421A-A980-1005377D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D5202-525E-4087-B1B4-30E5A1D0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AD1AF-6CF6-46CB-B59A-CC9B2364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420F-FBA7-4845-BC11-CCBB3989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FB1-1ABF-4696-96F2-DAA70CF1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36AA6-84EF-4E64-A28B-DBADF8B5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758CA-D13D-4AFB-B98A-7924076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3DE08-C927-4EAB-8A01-EE9F0805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35DCA-6F83-410D-9304-A02D44EC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68C8-ADCA-4662-879E-2541C0A2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3D714-7D0C-45B3-94EF-558CFCD9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FEAAC-F389-492C-84CD-4841B6A6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EF8B9-70AE-4C58-8028-A999AB65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611FF-A124-4012-8642-EE4EC550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9D0A0-E6E6-4CB3-B4DF-B4D75801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1CB9-FB1D-42E7-9908-6941F033B5A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751-2573-4E2E-8C03-50AE729406F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488E-72EE-4165-A8BF-FB1412A3D70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9799-A884-4960-9BFF-E14A861589A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DBE4-D7E8-41CB-BD27-D498F98B96A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E7AB-7838-4EB3-BED4-C7995A916AE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F13D-3649-4244-99ED-DA50030D1B3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F050-4F29-4A23-B51C-7C403E03F85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6348-5A7F-43C0-A2CA-74D6EBF768D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98D-D898-4490-B850-C2560D3BD11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2925-E896-4E23-9DC1-68EBDB79189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144B-025E-4074-9CCC-AA8D81726A0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6DAE-987E-4FEE-A399-64915091351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1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your card carefully and visib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eep your card at a safe 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keep your card together with your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lend your card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er say PIN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any card data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the identification password for communication with your bank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sure that nobody is watching you to type the P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use your card when there is anything strange with the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the statements with card operations regular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yourself sure you have not lost your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bankovní karty a jejich typy, způsoby použití bankovních karet a pravidla bezpečného používání karet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, kreditní karta, debetní karta, bankomat, výběr peněz, PIN, výpis z bankovních kar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3" name="Obrázek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 CAR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lastic card issued by the bank to help you to get to your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10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611" name="_s1028"/>
            <p:cNvCxnSpPr>
              <a:stCxn id="612" idx="0"/>
              <a:endCxn id="61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4" name="_s1029"/>
            <p:cNvCxnSpPr>
              <a:stCxn id="615" idx="0"/>
              <a:endCxn id="61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6" name="_s1030"/>
            <p:cNvCxnSpPr>
              <a:stCxn id="617" idx="0"/>
              <a:endCxn id="61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61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ATM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Deb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TM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marily for ATM us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nked to one or more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so called bank cards, client cards or cash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not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quire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ed with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 you to spend money on credit of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b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for paying at a merch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withdrawn from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designed exclusively for payments on the internet (no physical card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r withdrawing cash (like ATM car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SING YOUR C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in shops, restaurants, hotels, petrol station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purchases – hotel accommodation, flight tickets, purchase of various goods via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8:01Z</dcterms:modified>
  <cp:revision>23</cp:revision>
  <dc:subject/>
  <dc:title>BUSINESS ENGLISH</dc:title>
</cp:coreProperties>
</file>