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3338-5D17-4594-80E7-E0F5A55C60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FDD8-4FBA-41FB-8E10-4297BA624C5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B1D3-7214-4F88-A499-B51038E7E76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8576-B728-4CD3-8BC6-B3647330699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145C-4E37-443B-B2B2-9D9A38F5E25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BE3D-739A-4D52-8707-B14D074A6AB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CD02-0B4C-4BB6-9587-2640391B83C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43A9-69F9-43BA-B39E-9B167933D94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A798-7349-4232-BFAC-3346151A206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5D0-0718-45AB-8768-A2829660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411-0E9F-4B91-B19B-CBABE700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E379C-9A89-4DE6-9065-D9E60AFF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34E5E-9434-46E2-BD62-9026911F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44824-7240-4ECD-9B22-241ABC1F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31E2D-B5C8-465E-8200-F601AFFB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09A17-C62E-42CC-8B81-A97F3B0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94558-1C83-4172-BEE6-4FE1950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929BA-2F0F-4E13-AC57-8B9C4850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4A62C-760C-4D00-AED3-71C92F3DE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484A6-53CC-430D-BFD1-592E3285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9699F-B8ED-43CB-8782-E9049D0A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D46-DA12-4CF3-AA3A-3931D6DD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F35D6-A4ED-4D6B-84D4-4AB6512E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57890-7595-43E4-AA50-61A4DA5A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EF9B3-B9B6-4564-919B-C79EB308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7E6B3-C795-4D94-A57B-4B09639E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1DFE9-6E19-480B-AF25-9BF6D72D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F2F2C-9D05-41FB-8E08-F9AC370A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EF3CF-72F8-4053-93E8-DCF90A04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DBFAC-726B-4B27-ACEC-5223EA2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B0EB7-4C6F-4A6A-954E-61558D3E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8675B-E88F-4C37-A8C8-7832B8EA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348-37E2-44A0-BAA2-E454851E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D4FE6-BE29-40ED-9D7C-53780795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17A32-A5F6-4A45-B5C3-30C7E075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C282A-8DAD-4FCD-914A-85603E08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AE56B-A2CC-446F-A32A-1E9D1E4F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34992-E5DF-4EBE-9B9F-59821F57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13614-F30E-42E5-8E67-8B4DC34D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ED166-443D-4881-98F9-230F90B4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2C896-2A4E-40C0-BF1C-E752CB7F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ABFA8-DCF3-4911-9C83-EFBE10E1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8D463-162C-43D3-ADE7-835FB0FF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061E-C704-4F87-8002-27DA7772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E7A60-35DB-4181-93F4-102EF5F9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1702F-3C39-44FD-9DA2-8AD4D222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90561-A3EF-4933-B5C9-3368DD68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84E18-0B3F-4368-AC29-7C4412D1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41154-A385-449D-A2DC-5F901365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D813D-10A6-4426-AEAF-2F94591F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20095-1A02-4D26-A70A-C5CD1FDD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62AAF-3B14-46C1-8D2D-C93F2FEE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0E0E9-3256-44E7-8714-A6175BE0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770DA-B847-458D-AEC1-11B89672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2C88-1DBB-4825-9C5D-A1C36969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A024E-9A71-4DB2-9BBC-D7D3755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B2EB5-DA93-4239-87E0-F954588E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5E325-927F-4C0F-AF67-40ED9134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1F027-45EF-4D26-BEF6-7F0DBD48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59211-928B-496A-901D-2556BFC0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D41D2-210B-423D-9093-B5CE25AB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02432-CCDC-46F8-BAA9-F84928C7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0A3E80-C3F3-4428-8058-68A2DE43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C621CD-73B2-4789-8124-80243E5C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FACE7-5ACF-495D-90ED-759CD7F5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2925-5E8F-40D8-B7D3-F1D0F40E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56039-9537-46A9-8EEE-0C40A96B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7571E-C440-42A3-A9E3-676EBFCB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9D525-8DB4-468E-BD76-272D53F3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1A3DB-C4B2-4136-990E-09CA040D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4C21CD-083C-4152-AC70-25786D33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D8B5F-0D00-4D51-9680-17B134A4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E0A37-0D6D-43A4-9ACF-53D142DE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82367-87AE-46AF-B95A-E8A1795F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B34A5-FE96-4FE0-97CF-3AA7E327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DED84-E76B-403A-B73D-8B661430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8884-2D03-4724-8056-6E9715B7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D4DFB-CD9E-4ADD-A81A-74849F0C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C16CF-5772-45DB-A790-4EC691D3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3C965-001A-4680-8F71-825B4B9C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7B9EF-A3C5-45CA-B4C1-3EFA5ECA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5E1341-902D-4239-BD0E-C41B0EBD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0A336-BE90-4B07-864C-F2207A34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89164-1E30-4C2C-85D1-F917B6D1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F2068-5184-4E3F-AE7F-940847DF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6D060-1ADA-436D-AC74-3D3BBC74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D924A-A520-44D6-A6FD-6926C54F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75AC-CAF1-44A1-9018-B7223E64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A3BE3A-236A-40AA-B621-0EECCF3D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CCC0D-DF33-4398-941B-560A7D9A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99F4B-A52B-4465-A8D6-DF742917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429FFA-C52F-4FC8-A244-372CDCFE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D6F2E-82C6-45C5-BE6C-4DBFDC16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01D3E7-6080-4D39-BFCE-5F0C7B3C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1258E-4024-4241-859B-DBFD64C9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A40556-BA07-434A-BFFD-8C37BF1E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6F56D8-80DB-4A00-813D-544E14B5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02D36B-CE68-482F-ADBE-F9FFFF52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FEDD-459A-4ECF-9E12-7B347F6D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625572-1E66-4E4F-B2AB-F9DC8F3E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AC73F-B9F9-43B7-95D3-CAACB408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62E6E-A77C-4587-87B1-18BFA1C7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8CC61-E3E4-4F74-8BDA-04166FF7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A398A3-E862-4AEC-879E-10953184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CCC93-8F35-41DF-A81D-5A8745F7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B48AF2-A98B-4F48-B736-3250B1B9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3017F8-2B48-43F2-A4AC-53E8422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367D8-A935-4A3D-980E-A31046F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6E6CA-4A18-4E0F-8C77-20D2B2F8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9C9A-2C7F-44D0-935C-F110719A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20963-A9B7-4AD1-8DEC-F057E3DD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0796E-8A11-42A4-AA88-54F9524E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600A85-5FBC-418D-8563-45F173FC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89F03-D3B3-4DB4-A77F-8ADB6372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43033-742A-4F20-B12B-711CD3F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7EA6FA-3B9A-49C3-B72D-126B97EF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E5269-9B6A-4866-9002-F9392FA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362E0-F8A9-4948-899B-1D256D08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F6074D-F9B2-46C1-AFD4-77506F95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3380A-650F-464D-B35F-B990388E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0ED-46B9-44C4-8655-D3B1E737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02E7-70B1-4B00-ACC7-0FEDEAEC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7A2071-7D3B-4E7B-8B45-7B5FB2AC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DDB446-C85B-45A0-A264-A8B4324E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0E990-A40C-404C-9AD9-E9B17135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DA9EF-49D9-48D6-877D-27459F19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617A6A-A8DB-42F3-9457-A051759F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FCE1C-E4DD-4FC4-AF7C-3C471B86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3F529F-010C-4723-943D-2CE55D77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9C2807-DD22-477F-8FD3-12C6B3AA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8364BE-B71F-4C5C-A5AC-B11B67CF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24336-5985-427D-BAE1-ED72CDD2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8794-E667-4E51-B78F-D04DCFA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81E58A-3E65-473A-8AE3-6C207B7C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B615F-3F00-429D-BF3E-B878A5D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733AF0-6AB3-4D9A-A471-BDC43836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1E0298-456F-4E08-98B1-D46F16D6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F1D1A9-EAB4-4F60-9E48-E88F6FF2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E2ABAF-E864-472F-AACC-9CB7AC4C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E29D1B-C987-4ED5-8443-CC2534E1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335FD-542F-4BB7-A34B-6E8EDF35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C8C7DE-43A5-4B41-A604-955D7634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E6F16-9B27-4675-8D44-1AF5F6BB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11E2-05A9-42D4-AD09-B14E71DB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413209-4045-420F-9BC4-5E43EC66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4D3590-AB90-43A7-8799-0DBBB95B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A94C8C-BD26-4866-A033-33D006D7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EBDBD3-1C63-47C9-B6AC-F2C074BD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2F39D-9290-4D8D-A1EF-FF4E2F9C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62FA0-4E7B-4947-9464-518C6E5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78DC7-939E-410C-BC2A-C8B46499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EE8C38-6A8D-4F8A-9CE0-31459B8E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B5A33B-C110-4F75-9391-D9420147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33E02-951E-4F2E-AEAF-FA7DA4E3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159B-2976-47BE-B65C-CFCAB92A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01B3AF-7EF1-46EB-99D5-6ED2F3C0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1635D7-EEB2-4683-81DC-F02DAEFF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C83C3C-4571-470B-9D50-F968F581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F80B0B-650C-4115-8A16-C9827A9F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3DBD9-675A-4EB5-A381-8A585A32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EF7741-2B71-41BB-B5CD-09E6BF9A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980899-DCDD-4E39-9FA5-B8A67363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68D99C-1773-405F-8ADB-76826902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02A457-F702-4A39-A268-EC12ACEC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B7BA7-2DB2-49EF-8AC1-333FF8A8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A885-9629-4794-802F-0358CFBE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F34ACC-2AE2-4CD5-ADFF-3053C7AA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46D3E0-0666-48CA-91A3-0CEF8C9B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C46E9-CFC3-4006-9460-6BD8F3EE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C24D4B-A51D-4269-B08F-AF463B17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1B54D5-67B0-4667-AF84-7EAC1FA0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A3A1AF-8A81-42E7-AF58-F43A35A8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0EA251-4004-422B-BF60-18FC1464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2B423D-5784-4ECE-9F0A-7578BBF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5DECF8-5123-4FB4-9A8C-6116012A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F4110-E1FF-469B-B493-C816D6D8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FCC6B-4C52-4147-BBE1-B9B16917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23603C-06C8-4776-BD39-BD5CB0B6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9A017-2032-46A1-A1AE-6E25B3D8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7A69B3-FA8D-46C2-8B6B-B8331BC2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A085F7-9E2C-4F19-BBD2-B889D213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1A578C-3FD7-4B82-88B8-1D2AB668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23068E-EEB4-49FC-90F8-A8227CEC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229938-3CB1-40FA-88C1-134E6E92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506AA5-9B75-4A87-9648-284DCCED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E5D322-856C-4C4B-8C8A-5F6EC80D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441B2-FAC0-4B16-8574-B91BE419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6B21-DFB0-4632-8C06-C0F362C4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3F697E-E5F1-40B2-A426-D7AD9F32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2234F5-93C4-4435-8553-C1ADEF7D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D0CB51-75C4-4B7C-97F8-2243DD24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4C7827-3F9E-4165-9AB5-C8F452DE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18F4B5-AE24-4577-ABA1-CC2EDFFA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8AF9CD-696E-42CF-AB47-10A473FE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E633F4-43DC-47C0-BA18-C094B8C9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EFBA5C-4A0B-46CB-9ADD-4A2B1D47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D25DB8-A5E4-45F3-8D5D-A2BF5754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7A7D71-4716-4E54-8355-909D354D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7DEB-AFEA-4471-862D-EF357D0D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9DF158-38EC-404A-AE1D-D68A03A2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51D5A6-4D5B-42AF-8639-FD74B8C5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2CB630-AE8E-4CE1-87EC-6BE43BDC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FACD53-7F41-4258-BEDF-E97C7EA0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6B3AFB-A511-4D2A-8126-18E98F55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C7F20F-8B9F-469C-8D39-64C54894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723A5F-2657-4833-B0CE-9B08C587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E51634-C1ED-4AB9-91C2-D4450FD3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A66C16-5586-4B6A-BB1A-F0876D07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A7FA6F-5C2A-43DC-8933-4D8E529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8605D-3B4C-4AA2-B3ED-81895F85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1C7BC9-F783-4194-BAAE-C1EE111E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440AE0-36C9-4AE5-9E0A-8B0E5924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BD228A-A1BE-4010-A952-73EADEF3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868FA4-9FD5-43C5-88BA-39C2F914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601A64-72EF-47BF-B115-F2C031C1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41A2CE-CD3A-421F-8998-3143BFB3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7B8EB6-C958-4701-8E30-C0D4434A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A8A7F4-878A-4B15-9649-8CFA6A0F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FF8EC0-C7E8-40B2-A19C-1CF30D7A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C641E6-A16B-47AD-86D9-58FB6C46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27B6-FAEF-498D-9397-BD8B84FD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E18793-C16A-40F9-ACD4-F8EDE0AE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31A7BA-FF61-4663-95E5-DC6174A1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D8B7A5-D23F-4591-8151-947195C2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89EF47-946F-44EE-8726-6DA7BD95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9C0D67-DBB4-471A-A075-871BA425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374515A-556C-49BB-9B37-2745BB79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E51A88-8CE1-4D49-87BD-7CBEB01A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9FF3B9-F918-4833-A3AD-FBF06D88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2591B6-2588-45A5-9698-72B5B77E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8940B1-5E2B-425C-8F4C-A636A550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2DD-F868-4CC3-879A-865444FC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E9279-7A2D-43BD-AC8E-CD9FB154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8744B8-F3F2-430F-9B31-7D35A7E4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CB921B-A12A-4212-AC88-89EEBF59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CE222B-A2A4-410F-B512-17CF4AF0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404056-5A43-408F-B913-AD867B94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99C1AC-A1BB-4F8E-A1DC-8C4BBC77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B1CE4A-F27C-4BBB-A5A4-B0C00DF5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BA278E-4EA9-4970-AB6A-D21CD240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0BB1E7-1732-49F6-914A-9AAD0C95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4F000B-E4BB-4218-9EBD-C2F53B88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ECF9FC-06B5-4BAA-89BD-8D226CA5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8F15D-9C0A-4477-BBDD-3C83A44A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79F4E7-96BE-4720-9929-C9D53418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7E4117-D1B5-4719-AE1E-C3549558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63D462-B54A-4DBD-9616-2148D5AA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5CC05E-FB70-4379-B4E7-4743E90D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0C8881-1923-4FCF-869E-DD7C8263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27CE46-9DC0-4C1E-9BD9-B685AE2E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55DE3D-4C8F-41E5-8F60-AFD9C950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698615-BFB2-4F52-96E4-3A112AC4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BCB128-E993-4FEA-AB00-1450FF36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3E380F-245E-4BF7-9F55-6034CA70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2D63-F0F5-40FB-AC93-6F32454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3A7A9B-2BD0-42B8-8ECC-E233A955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55581E-0E8C-4CC5-8EB2-982CCF00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CDEA6D-BDC7-445A-BEB7-FAB696A8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3D0E22-1646-4984-9F78-306DE8CA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01848D-CFE6-45D0-B660-FED42942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B8F1BE-7E66-43E7-A842-426EA132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FC8A4C-1DB3-4004-9319-41FB6032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FBC11D-ACC7-4496-89D4-633092BE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2719FA-12BD-4DDA-B219-B7417249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0AB9A5-B360-418F-B36E-3EE2860E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794A0-B5F7-4E40-8A26-3C0850F1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2BE004-36C9-437C-95DA-4CE250F7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2171C5-CD89-4E95-B5A8-55F31AE7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237337-2C93-4081-BA73-C397EE6E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1F60F1-B2F8-41EE-A498-8A249197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38FE5F-1058-4776-A05C-1441F781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9BAAF0-FDDD-4CD7-87E3-FC1DDEA6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FB7FCE-D01D-49BC-9482-1F8C1531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6893-3613-43BB-8CB0-130DAE96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29B2-011B-44A9-B08C-6CB94078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05E3-24CC-4B27-86CB-776532E9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16A1E-35A4-4000-AC78-96D1E383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8E700-02E1-4B4F-840A-4064148C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D7D19-110F-4B1A-A560-A83D475D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EEA-45AB-42EF-B82F-1D2F4CC3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59A4-EEE4-423A-A5A4-ED434A0E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AB72B-A404-4361-9D31-683D83C6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6BBFF-E1B0-4214-B09B-D3BB7654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33A72-7C32-4AF6-9AD0-C1C4AC36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55A5-9CC5-40DE-B0F8-BE57BB46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ACD8B-F641-42A2-97E9-518A698C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85B64-0346-483A-8712-4E3F699B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829C9-3E7F-40E7-98F6-78A57F87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A196-CF2B-4BD4-9DB2-8FE5FCD4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73FEE-A469-406B-9205-C0C6039F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8CF-E62A-4B23-B6FE-B94C8DD0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72478-C466-4C06-BCF8-CC7A9AAA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DCD6-9E85-4726-BBA9-9690C61A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4603C-D183-4C78-8FAA-D41A110A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36394-9835-4D67-91BC-E9BDBC6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29A5E-0051-48F3-97EE-B0065346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72217-3418-4C5C-B335-0EE7856B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42B2B-C548-4E98-BBBB-32D66B11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663BC-B7E4-4677-ABEF-2A1A7FF6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E9E9-E732-4614-9D4A-5E632EA3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437F9-4136-478C-84EA-A50B29A5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2CC-BCC9-4AFD-ADA9-892B4042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DCCB-D781-4A61-BC5F-6C58CD93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B4DD9-1168-4146-AA6C-19A09B9A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ABF8E-288D-470E-8AEF-D37AB4F6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0BDBA-BE0B-4408-B7D7-5B419CC3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38203-C755-41D3-B1DB-D1E21756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8A7F2-1EDA-4793-B4C2-BD91BB05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0798C-1E80-4D71-9A21-3A4095EB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94D37-1B36-4B5B-9579-8F91902D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B06A6-BE92-4373-8E2F-A917B9B9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B4584-798E-476D-B2A7-4881D473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C034-03CF-4586-B27F-1C9F0A6E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62031-B7AF-4ECC-AABF-E992D472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AA952-7E0A-4191-9062-F832C9B5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8B13B-9833-42BE-86A2-847DFCBB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CA88A-88A2-4088-AE2B-F9B9D626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CA69B-609A-4BE1-BE00-109F1F3E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36E7A-5A45-4EAE-8E58-D02EFFB8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C1369-0ADF-4321-9412-77029C0E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8995F-E088-4EED-8A6C-AAF505B1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EC9FC-3B5B-4C14-865F-B5531F0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C5988-428F-47BC-BA51-BEEEA847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782-0B28-4696-B71E-707EDD04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A96AB-9F0D-4D2C-A3A1-E9C84BCF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AC364-5BA3-47DB-93BC-F831E4A3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E95FF-2853-4597-9C1F-C16B4FD7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CC975-16C8-48F5-8611-AAFF8B81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907ED-F81B-423D-B618-1D4CB290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6E361-655C-4427-BB18-8BF6C3D5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84F0E-456D-4A74-A7E6-3351AF58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41DC6-7B5A-49CE-B514-97467516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C2490-0F22-42E2-9A6F-20E091B8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F61AE-757B-49BC-9F98-AB50A256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4A2-6C9D-49DC-8AC7-F577CF1F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EA3C3-822D-4E89-BBB6-A7B67B42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261CC-03E4-44ED-AF45-3647F2EE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C42B7-6D65-4362-8788-F8CF3DDF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DC0A8-B21C-4D4B-9076-37247D79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D8977-11EA-411E-8221-B0B4FFDA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CAC95-7596-42CE-84F2-0DEEDA65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54C6B-6E33-42A6-A670-57AFAE41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DE5C7-D35E-4232-B1D1-820FDC92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37B5F-8181-459D-9AA6-B7277EB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5D38D-6A5C-43F3-BF7B-75F5351C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FF45-6DD6-4B75-AC36-ECD989DB50C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3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A82B-899E-47AB-B104-662B7F4CDF8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0E7F-716C-4F08-BC7E-C10A44B8A12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1662-982E-411E-89F3-4B486D6FC70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947A-2EEE-4D67-9BF8-A060F60EA0B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1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9081-EE24-4634-802A-24335B60150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FBDD-753B-4652-8E11-D8D2627FE93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E594-2097-42C1-BCFD-BE18E5F62D0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9141-C43E-425D-B074-4C04D0553A3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79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1FCF-3312-4A92-BA58-035C1025BC8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4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4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5F35-A524-447F-AE46-693CBE8F29A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4801-C82E-4F34-B12B-9E7E7DEAF0F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88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A4EF-494F-4D11-AF2F-35089C63914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3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4887-BD38-44B2-9197-BC8CCCEC53D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98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0A75-D757-42A3-BDCC-0F3BDF59682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4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3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BE36-3C8E-4A1B-8A0E-3FBE4E1D4B8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F35F-AA73-4DDB-826E-06F113A5797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1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EA9A-A6E7-464C-A613-D722BC87B77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4722-3AA8-4CD0-B3B2-AB65819B338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0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8927-716F-4999-BBF9-5BAA30D6F52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758F-61B9-4DEA-AF8A-CB1563B52FC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9ABA-6D3A-4402-B6B6-ABCE5F11980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8F6F-A63E-4279-A665-C363C47BA71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D66A-64C1-4F77-A2B6-B1B46B78FC9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6DEF-D5AD-4271-AA8C-1531BF3B4EE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9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85BA-E21D-430C-BDF9-D0D5066A5BF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4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2E36-A67D-4A04-83A9-2249E9DFEE5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8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7776-906F-4CD1-AB07-EA9522E4B28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0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sultancy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tg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surance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20" name="Organization Chart 10"/>
          <p:cNvGrpSpPr/>
          <p:nvPr/>
        </p:nvGrpSpPr>
        <p:grpSpPr>
          <a:xfrm>
            <a:off x="833400" y="2637000"/>
            <a:ext cx="7632360" cy="3023280"/>
            <a:chOff x="833400" y="2637000"/>
            <a:chExt cx="7632360" cy="3023280"/>
          </a:xfrm>
        </p:grpSpPr>
        <p:cxnSp>
          <p:nvCxnSpPr>
            <p:cNvPr id="1321" name="_s1028"/>
            <p:cNvCxnSpPr>
              <a:stCxn id="1322" idx="0"/>
              <a:endCxn id="1323" idx="2"/>
            </p:cNvCxnSpPr>
            <p:nvPr/>
          </p:nvCxnSpPr>
          <p:spPr>
            <a:xfrm flipV="1" rot="16200000">
              <a:off x="5918400" y="2576160"/>
              <a:ext cx="605160" cy="31435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4" name="_s1029"/>
            <p:cNvCxnSpPr>
              <a:stCxn id="1325" idx="0"/>
              <a:endCxn id="1323" idx="2"/>
            </p:cNvCxnSpPr>
            <p:nvPr/>
          </p:nvCxnSpPr>
          <p:spPr>
            <a:xfrm flipV="1" rot="16200000">
              <a:off x="5132520" y="3362040"/>
              <a:ext cx="605160" cy="15721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6" name="_s1030"/>
            <p:cNvCxnSpPr>
              <a:stCxn id="1327" idx="0"/>
              <a:endCxn id="1323" idx="2"/>
            </p:cNvCxnSpPr>
            <p:nvPr/>
          </p:nvCxnSpPr>
          <p:spPr>
            <a:xfrm flipV="1">
              <a:off x="4649760" y="3845520"/>
              <a:ext cx="2160" cy="605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8" name="_s1031"/>
            <p:cNvCxnSpPr>
              <a:stCxn id="1329" idx="0"/>
              <a:endCxn id="1323" idx="2"/>
            </p:cNvCxnSpPr>
            <p:nvPr/>
          </p:nvCxnSpPr>
          <p:spPr>
            <a:xfrm flipH="1" flipV="1" rot="5400000">
              <a:off x="3561120" y="3362040"/>
              <a:ext cx="605160" cy="15721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30" name="_s1032"/>
            <p:cNvCxnSpPr>
              <a:stCxn id="1331" idx="0"/>
              <a:endCxn id="1323" idx="2"/>
            </p:cNvCxnSpPr>
            <p:nvPr/>
          </p:nvCxnSpPr>
          <p:spPr>
            <a:xfrm flipH="1" flipV="1" rot="5400000">
              <a:off x="2775600" y="2576520"/>
              <a:ext cx="605160" cy="31435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323" name="_s1033"/>
            <p:cNvSpPr/>
            <p:nvPr/>
          </p:nvSpPr>
          <p:spPr>
            <a:xfrm>
              <a:off x="3976200" y="263700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1" name="_s1034"/>
            <p:cNvSpPr/>
            <p:nvPr/>
          </p:nvSpPr>
          <p:spPr>
            <a:xfrm>
              <a:off x="8334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LIF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AS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9" name="_s1035"/>
            <p:cNvSpPr/>
            <p:nvPr/>
          </p:nvSpPr>
          <p:spPr>
            <a:xfrm>
              <a:off x="24048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ENSIO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7" name="_s1036"/>
            <p:cNvSpPr/>
            <p:nvPr/>
          </p:nvSpPr>
          <p:spPr>
            <a:xfrm>
              <a:off x="39762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ACCIDE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5" name="_s1037"/>
            <p:cNvSpPr/>
            <p:nvPr/>
          </p:nvSpPr>
          <p:spPr>
            <a:xfrm>
              <a:off x="55476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RAV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2" name="_s1038"/>
            <p:cNvSpPr/>
            <p:nvPr/>
          </p:nvSpPr>
          <p:spPr>
            <a:xfrm>
              <a:off x="71190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HOUSEHOL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fe as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insurance (usually over 20 yea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certain amount of money would be paid to your family in case of your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accompanied with an insurance against serious ill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ll be paid to you at the end of the contr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can back out of a contract under certain condi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nsion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saving with a state bene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gular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for the time you ret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usually cannot withdraw your sav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ccident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yourself against acci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against damages caused by your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an accident (broken arm, leg etc.) you get some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yourself before journeys abroa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avoid high bills at doctors and hospitals in case of illnesses, accidents, car crashe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your hospitalization abroad a member of your family can 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death the conveyance of your body will be paid from the in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usehold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burgl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f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floods and other natural dis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rt of the loss is covered by this insurance and paid to yo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accounts, deposit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ilding sav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1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oderní bankovní služb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moderní bankovní služby a zavádí další pojmy bankovní angličtin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count, telephone banking, internet banking, insurance services, investmen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2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MODERN BANKING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BANK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unning an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ing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change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DERN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lephone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nsultancy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ance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lephone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payment orders or check your balance via teleph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ansferring money between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ing bills and invo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ing your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rdering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you 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 movements on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money transfers to other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a collecting dem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t e-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-charge your telephone cred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you to make a contract abou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ilding sav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rious types of insura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suing a bank card, credit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ans and 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does internet banking wor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 a contract in you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t an access to your account and a pass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n the web page, log in, sometimes you get a password via s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financial operations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nfirm the operation with your pass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g o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7:35Z</dcterms:modified>
  <cp:revision>17</cp:revision>
  <dc:subject/>
  <dc:title>BUSINESS ENGLISH</dc:title>
</cp:coreProperties>
</file>