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EE39-559D-4670-A152-D8F32673722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83FB-253B-4581-B25B-CA65A770A0B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3D0D-48D7-4E84-8FC6-5968D3C2DB6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6C17-A566-415F-87F5-3A4631AF223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DD75-4727-4234-A55A-59DD7C913F7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F22B-7A43-40C0-B783-7AF7FD68EE3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1D03-27A3-42DD-B371-A10FB1566DE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BE10-3D4A-4C95-AE41-8FC0C428924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A313-44AA-4682-822D-14D383A845C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303-3F14-47BE-9900-9F57EF9F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B2D-D270-4A95-A0F9-8B862A4A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570A2-CD38-4CEE-BA23-817F2C0F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0004E-F358-4267-8477-6A5CD2F6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E37E2-22CC-4A3F-8A29-4B80B733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A3E92-5EDB-4BA0-8AA6-CE3E412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437C9-FB0C-4836-BDA8-731354CF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97A6B-B784-415C-85D4-93EA115D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D54F0-2835-470F-823D-F620DF0C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533D4-8085-4229-8B27-FF5C7A1D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E1E1E-02E4-4DC2-940A-A51DB575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EBD33-FB2D-4B66-9405-9AF79835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8B7-6EB2-4F04-98F8-4DCFED83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B670C-B10A-4289-9BC5-1F5118B3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F8A70-0037-4700-A5D5-9027E677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6B1B8-6B1D-4B18-A045-B9474242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B7C55-5187-4F23-B6CD-18D1CAF3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EBE07-CA59-436B-A992-2D0A16DF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314D5-D173-4C8A-89FE-E51F370F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3950A-ED35-4250-9590-351B97C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2BDD2-CA5D-4E44-9343-2EFE614A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938AE-0595-45BC-9437-5B1544B6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E6108-040F-4F16-B0A7-A6BEBDBF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711-B4FD-453D-9972-565CE3D9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6E5E5-533F-41EB-AA3F-E057FD7C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059B0-5689-4F82-BD6B-D9965BD6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A0F9B-D652-4D2A-9A04-D0EE6CA2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833A4-DD0C-4883-8F1B-907D1021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722F7-6312-4D10-9124-A034808A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49143-E7D8-4608-AEC2-E1FE861D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0D3EB-0F3E-466E-A64B-990C8E1B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ED35F-8FB8-406B-98BA-D07929E4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CA59E-C189-4CD7-B7ED-74ADC4A0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FD9C8-3B6B-4BA8-8F33-45F852E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4873-4545-44FE-BBCC-D1CBD711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143C8-2C73-47D5-80A6-5A92B502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4DAB7-7FAF-409A-A576-08DF16D5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95D52-BEB6-4BF6-9C79-33A28D7A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64C6A-5612-46E1-AC4A-97659595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548DC-BC03-4CF8-9D73-130FDA39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3073A-0F66-4E07-AFB9-B60E2ECE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CB140-4082-466C-BB8C-16F02F79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1AC7B-DFED-4D9E-9AFA-5D81E516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4F350-8780-4DAE-8845-6F9999FB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9FA6F-1453-4D8F-A2EA-D3F55486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D7C8-084B-4DD8-8333-E57227D5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A6325-B264-43BE-891F-B26B1987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AD150-6345-4B15-B561-8120A21F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B2199-A577-4524-91C5-C120AAC5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5EEF7-E1F8-4BE4-BBE7-662D1B74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5C00C-AD24-46CF-A902-E9589ADF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2B16B-9C8D-471F-9F4D-22E03BC7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110F1-03A8-40A4-B16B-7F807ECB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75E73-ECA4-44E2-AC7A-C5DD6434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703C6-9FAF-4A6C-B0EA-1F3349AB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A50DA-9782-4161-A558-795F99C6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C38F-15DA-4998-88B5-9D956BC8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83904-6800-4788-83A4-D90C0762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687A2-C837-4A59-93E3-52740F7B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84598-5A16-45B7-B174-0C4298D7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347A9-62FF-4AB3-BD99-34EC926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FAA06-07CE-4C3C-AEE1-568C8737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AAE3D-CE14-403C-9BB5-4D4AE8EE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27F4B-1FC6-4DCD-A316-AF816A01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8265B-980E-4EBE-841C-F5D8FEA6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CA8CF-7277-42DC-8141-75C577C8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3F671-5601-4C98-9249-F8BF10FA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13D5-A96A-423C-9319-8CE097BF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D4372-1060-45B3-979E-8F91E4AA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D2026-38EB-484C-A700-A395F3F6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8D582-CECB-425B-A572-E11BF176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B2F1D-D4A9-4E82-9FBC-D5A8946E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ED349-1A98-46DB-88B6-D7DDBF34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CA1BB-1C37-40A0-9317-F6D581CF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8E2C2-0D20-4F9D-A1D2-AEA30F61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8D132-185A-4AAE-85F3-2169DB3E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F49DA-9B54-4CA6-91A1-F76A8108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D8C5E3-1F05-4D46-85B0-C30398D7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A63B-E68E-44B6-9390-C00719DE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49569-B739-4C64-BBC4-D89C9CB5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35E9D-DF8F-4ABD-BA0B-B280CE96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ECF821-3B57-48C7-BF56-83E394B2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0D41C1-3D6F-4B2A-9EC3-DFFEADB7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D6F98-447A-4887-9357-E1988E29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CBF31-3584-4211-B8EC-62DA37CC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00426-4773-4BAD-A000-714E7ADE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BE91A-8757-4DA7-B893-7A3F8706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B0FF87-0107-4911-82CE-DD64502F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09E91-DC42-44A4-9B94-66395533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E802-A756-4A1B-8E86-18DAC1AD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F38F6B-B197-4C0C-9BD5-792FE188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05459-3288-45A2-B613-61AC1EF6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5A004D-CC8E-4D34-AB51-E09BC685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60DE3-4756-496F-83D2-8CF14628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F84DE-CC34-4829-B8AF-4723F294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A8867-D4D6-4EBB-B8F4-FC5CC13A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FC9C16-33CA-4337-9EC8-EF0020B7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B0CD7-40CA-4B17-A812-0F2B01A2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68EAE-2213-46B3-9AD1-BAD27C09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3BC45-0BFB-4230-93E3-0FAFB065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E7E8-1FF9-49A8-9B7C-948B0608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4AD8C-C3D7-4679-BF37-F4380C2A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15D32-AF70-419F-913C-13C8FD00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4E0EC-1B11-4E0E-B05E-8C985A38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52694-C1B1-4167-81A1-27EC3043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6AF92F-31FD-4E1E-9498-28013830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C023D-16AC-40C9-AD42-EE063A4F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D2C9E-E293-4C5E-A100-A9BC8633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EF539-4C1A-4BA2-B901-64DF0A30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F0859-F684-4838-915E-5D93634A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65560-070A-43C3-AF1D-F00B5125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D92-F2E4-491A-AB9A-A9AFE78E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891B-3241-487A-8C8B-2FFA2750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446AB-5BCB-465C-9D96-635BF41C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4AB02-9757-4857-812A-31C198BA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5769D-6E98-4435-9B65-2C0B3DEC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60A7E-500C-492C-AAEB-F3344687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63998C-2D6E-4A2F-A172-8CD8C24C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45DBE-54EB-427C-9454-F94EA42D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98F69-69E0-4742-8CE0-56B5D8F7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C3D5A-1E18-4FA9-BE1B-1970DE72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1CB43-ED69-4DB7-9C3B-FE12F8FD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83AC22-9B8F-48BF-8D51-FB10A528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6CDF-4658-404D-923E-E1906ED8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EBAF6-407B-4779-B08F-998562AD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9A3E3-DB33-47F8-8309-2059A650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39E02-AFD4-42C4-B8E5-806FE858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FE6F2E-00E1-4307-9359-2AEF0089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2E5D3-82AC-4BB1-9097-0C8C2614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6C8E2-8B20-4598-A685-8EDE38F9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99BBD-7279-42CD-8BBF-CA40AC1C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73F87-91B4-4FCE-9BEA-EB47C68D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83AE6F-E8AC-4168-92B3-C4D4EFE7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442FCE-C396-4F43-8D88-42869209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1882-C14C-45CC-B866-92A55247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693509-E3EF-4BE7-9FEF-6A965E02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2C587-631E-4D69-A366-4F4CF6CE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A08411-4B8E-4343-A6F7-5B7D0A8F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D2229-1CB8-47C0-9AA0-40CBBC6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050EB9-42A0-459B-A958-5E84FC55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2324A-CE04-4BD4-AD67-13561E28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D114EC-E470-4D54-B40E-2881EA9C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E37115-6C2C-4C09-9BB2-126072E8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31866-6ADF-432E-A20F-48AC24B4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9DEC84-1422-4869-B8FF-9906CDB8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2670-97D3-46DE-BE52-5A0719AC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089FB1-9ADA-4DF2-A802-43C5387E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B8802E-8357-4B41-8165-11BB47CE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3BE06-645B-47B8-96E0-7A9AAA6D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ADD19D-2870-4408-8DA2-D8600416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304058-5D88-4F39-B5D8-8D438345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E754E-8240-4490-B4B8-C97D006D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02A55D-7A55-4C6B-B41B-7539418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34C8ED-6A70-42CA-9805-76E619EA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ABD5FE-67DE-48F4-905C-208622F5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DDA52-5D22-4AC7-BE9D-7CDC2AA7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B1AF-04F7-4113-997E-F9EF7960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D0182-6EF2-4DBE-811D-783D5EEF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168446-2E7A-4C05-9850-334775A4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3CD500-5BF9-43B0-9C1D-D81A5EDD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9C979-C0D7-4439-8E2A-12880C15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629F9F-2698-4151-B1DC-AB70C167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44B30B-8E9E-4B34-ACCB-DB6CF357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80C976-976C-4F07-BF9B-F0C750F3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698F5C-BE18-487D-AD22-91E40949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C86E86-1481-4CB8-BF50-B2F6EDA9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5D246D-EAA4-4E00-9DFC-E57A06C7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D359-64FD-41C4-B730-5463D6E2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83CF47-AB8A-4E6A-AB70-BA24D2EA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BEC09-3EFD-4DAD-B55E-25793CED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DA574-49A8-4B21-958F-CE02E138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C5BAF7-B8E9-4661-A4C4-3E575693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BF4E90-AD5A-4C82-BBDD-49D4A20E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76CB02-5EFE-4942-8BDF-A73F7DA1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6CAD35-6473-470B-943F-E1561BC2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A87090-EC92-4AF6-B005-015D84BD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782629-98C6-4B43-A3B8-F4C6C289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4AD622-1504-4301-8BD7-41AEF43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8C735-90EB-439D-8E6D-DC50B187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A74953-5EE0-4279-91B2-D2955DFE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EF0C0C-1E8B-430B-9887-5115F868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134A57-0D10-4D1A-B621-6C67F0CB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BB727C-45F3-4085-976E-022C4E74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A3F6D7-1621-481E-BC24-6C543D61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DF305B-3788-4BD7-BEBB-6747E8C9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DE690C-8565-46AE-8E69-5906C5C7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0E9B7A-C91C-40C7-8687-660BE9C5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44B7E3-6B81-4034-83A8-F27FA695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0E21C6-4F8F-4128-9720-EFCE8A85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CC7D-57D9-40ED-BDAF-4C066E24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BA3DA7-752E-4A9D-9DA8-18787E52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EAB863-1887-4643-9559-0BAC59AD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DB1443-7C7E-43D5-B5E6-B8E02D39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BD0C07-B8F8-4004-969B-5D36A53E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B7FFFE-62B4-4B35-82C2-E317A3AB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9804CB-C76A-4670-8961-70C6FCB8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48204E-DD55-45A7-BBE0-E6B4F1E4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B6DDBB-6E03-42E7-9BF5-3234E389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0AB8E8-BEB8-47B4-B523-1D6B3240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5D99EA-D616-4DCE-9723-7BC16FC9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55922-CB29-4594-905B-2873C8AB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B48D1D-0D3C-4C44-8D90-5854E54F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6EA753-7564-49A7-A462-A2CAA842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C5B2FF-AF13-4773-846B-D1AE1B2A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018A98-0B1B-4DDF-A1A0-A90B1200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9C5254-BBFD-477D-BBEE-7E844160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A103AE-9525-4181-B786-E1037870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0E5403-EC52-4F98-B54E-D043A2F1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53ACB6-03AE-4B3C-9AA6-C6FB3EC3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22E30C-2D7B-4DBE-9608-0C04E371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8DDAE8-2D52-49C8-A074-EAD60940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77DF-3BCA-4988-9ED3-85830CE6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420EEF-E174-4E74-A149-CCAC11C2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BC8D1E-8BA1-44EC-98DA-409F1173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9513EA-7ECE-4EC8-A8B3-789D6C4B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BE9D84-191B-4A8D-A596-7CBD03DB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221D9C-906F-4445-956F-D915E633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FC593F-C611-4315-8D98-2AF03B77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E7065D-2B7E-481F-90DD-EAC66759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06364F-F4E5-4508-8883-317C93A8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DFDCE6-F876-430E-8887-C3F4F7EE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1B7D86-468A-477A-AA5E-3CF32A33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D4C-01EF-4F94-BBD8-098451D5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BF67-3FF3-4C6E-8053-95C42B31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53B6B8-15DF-4012-AECF-F0AD6855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EE9142-28D1-4FCA-896B-EDCBD0B2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E72FFB-ED6F-4837-9F1C-59AEFCAD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4C0E41-26A9-4597-8182-78A13CC8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5E9E9A-2467-43CF-AAA9-D820B09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D33EF4-27ED-4B1F-99E9-86330A3A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678BC1-EF91-4F81-AAB7-E9CBC0BD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BDFDA7-397B-41C9-99D7-0E5A8255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895310-75E1-4F66-91E8-504BB0AD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91AB99-ABB8-456D-BFED-8D7B5F5F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1F2B7-23CB-48AC-A536-7A064045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BD91B4-C5E5-49BE-90A7-FF410A39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2A1E97-EF41-421B-B260-4DA754E2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5B01AB-51D3-447C-8403-CE161541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AC314F-0C34-4A21-A11B-29EA494B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EB4C79-1533-402D-B702-B0B927D1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667334-C97E-4816-A168-11E6F9D8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1B9753-9992-43E8-8571-5BD2E56E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7217E6-D541-462A-AAB4-F55F67A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70D623-7346-4039-AA4E-52BB216E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32BC9B-85D8-4BF3-830B-5C8AF809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D974-7270-4B49-81D7-02653421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C62C26-8FBF-409B-80A4-CE3EF01E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63EE26-4BFD-4D43-8BB4-E6E8D1AA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A35B8C-1CE3-42A8-AD92-5BE64835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DC24BB-2803-422A-AED9-B1676F84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EBDD67-CB8C-4C8B-9FB4-95F33439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564789-21C7-472A-878A-F84F075E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477047-461F-4222-8890-35E6428B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5B7DA3-8B0A-4702-80C2-3C5352AC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7EAE09-31F6-4C2B-A6EA-62B94E1E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4C95F8-8449-4529-8F51-6F3E27D4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A469-AB8A-4578-9EFE-201E6E0C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B1EBC5-72C0-474E-BF78-646593B1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858A23-D900-47A3-9405-2B4ED514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42F928-46BA-4ADF-B13F-B6751D3E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1B0F16-602B-4129-9775-69E2704F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137F50-0751-40E5-A90F-B442D18D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981757-F867-4E07-8434-434E2C35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075F35-A072-412A-BD32-5E6F171C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79A4-281E-442B-951F-AEEC581F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E515-3CC8-44D1-8DD6-2C9004C7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BA95D-3B87-4ABB-8440-A011AE1D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30C11-CDA0-4952-BBED-803FE245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DC51E-601D-4C42-8A7E-B130928C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1031B-9E27-4380-B2ED-F9395840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983-2524-4323-B5BE-E01D0FA9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18DE7-D15F-4B07-8018-C6D4F76C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FDF7F-9594-48C7-8C52-6DD4089B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677B2-AC86-41B2-8A54-617244A3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E607-55E3-46A3-999A-E49A12BF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F01E4-EDE8-4A0F-8331-C3CC6DAD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27FD-E527-4426-9BC0-EFBA9DBA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4E069-5BA5-4E3C-8749-2D2BB1EE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EA591-E7D9-4A7D-8C6D-C624A98EA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D0E7-C7C5-4D37-B747-C3F642EA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D31F4-E0FF-41A3-BFD7-66A4EFF7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16F-C58D-44C2-8351-D35FE121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5A2DC-128A-48CB-BD43-01655DC2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CBF8F-3032-429A-9B20-B5E2BB5A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0E8DE-4098-4C6B-AC21-5D5468EE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C2C34-3BB1-48B3-8AF8-EC7FBB10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E84C6-89E7-4202-96B7-95C2A9A5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6327B-D37E-4EEF-A955-A9BBE1E6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B1792-A29C-4BB8-AE00-5753E587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D6233-168A-442D-9B20-241B2FF1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7BB35-5F35-42E2-B22A-3B5C83A5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99114-3B25-42F5-AA1A-D6B0F0BC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A85-1FE0-4AB1-8888-E42B55B1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A1917-7802-4886-9428-0094C19B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4DCB-BD5A-4BB2-8C56-49601BD1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50875-830B-459F-AAE3-18534704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D3905-0541-4046-9729-335C20C0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2F1BE-AE81-448E-A9B2-2B6A2DAB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D32F1-9C30-4C41-91CB-807B23C5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5B483-740F-4CF1-953D-F7899D10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5FECE-C541-4CA1-BC9C-694C6364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230EE-CFA5-4DCB-AC16-49BC876C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3DCC7-6400-44BD-ABAB-2995AE45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57D-1770-4FFC-82FF-2A0DBA36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E3241-2E6C-4265-97E1-D7280609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49DF0-B734-4236-A80C-04FF3417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59480-842F-426B-B76F-748DAB71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88749-8551-486D-855A-884013D8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09B28-E32B-4EC4-AD92-9C539557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88825-E70A-4375-B825-E701D604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B2A40-B086-4EC7-A336-4BA380BD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C5123-9207-4084-95AC-DD68B66F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F7FA-74D4-4378-BF05-74748463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5BCFB-FAAD-4716-BD04-8C74B2FF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C49-B3F7-4C45-9D74-1A7F3D5D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D25A3-5CC2-46FC-9910-DD4829D9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50614-89D5-4E6D-B075-D9701C8C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B90C2-2029-4220-BA73-3A0D9ED1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FD05A-BD67-423B-8FA4-DDF103E8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6FE8A-B7B0-47CB-9CDD-0161C629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209C7-7A1A-44EE-B290-B4B17BE9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07539-EEBD-4D15-ACB9-71B4C777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3012-9750-4FDB-8814-482E4DC0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6C09E-BE2A-49D5-87A0-B7EDACF7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1F551-177D-439F-B21B-386242ED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F9E8-5075-405A-B40B-C63557E5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0183B-088F-4B9C-8CE7-13637C64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E5E40-8EC7-409F-9EA5-BED4B11A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4467D-95E9-4345-9EDC-D09A70E9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617C8-AC30-46BE-B6D3-06927D80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F0F43-CE9D-4850-A2CF-6C234C9D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E5529-0900-43E5-9E6B-39ACEE78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EB780-AB6B-4A54-8627-2809A6ED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062DA-F752-4D0C-9F09-D93F1E36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55ED3-80DF-4A85-B394-F15DC040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44156-62D0-430B-80D6-19F2512A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3FD1-AC1B-4D89-B0C6-8C1560B254D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3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4ADD-CA81-4244-8A45-D99FEF917EA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3BF5-4F35-45DB-900F-270BB750561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BD4A-8371-442F-BB09-00EF7528236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081F-59F2-48B2-8366-B5B678F1C0F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1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DE2F-38F2-41A6-9ACA-E405EB4A4F9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F80F-AA78-4EF2-9A45-F404A29E8B1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D825-B349-4A12-BFD1-5E23A2506A1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51A3-E208-45A2-8B91-940F620B50A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79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87EF-098F-483C-A26F-CA79907BDDE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4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4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EF28-5825-40C2-8939-DA86463F68E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B1C0-6C04-4ECA-97C6-DA5E58A49C0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88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E49C-0831-4DB0-973D-4923C1517E6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3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3512-0844-484E-B3E0-8105987ECD4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98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B660-0E6F-44D8-AF1F-0F528A8CB91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4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3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FCCE-78D9-44B7-AB9A-0D11A13294C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3767-C23B-405B-A24B-28C7CC282FC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1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897F-10E3-4DA1-9E22-9114CC66627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94F6-CBD0-4D1A-93B0-C078F88E729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0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F3E2-C650-4100-AF1E-63F6CB076D3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C49F-7F6B-4144-9D19-56258F56482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0C1A-0F9D-4A19-B81D-71B389588EE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9341-76F6-4B51-BA93-6D45A62FC74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E817-9C7E-4DCF-B907-1805471607B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F7C2-D969-42A4-A29B-11B40A43510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9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192F-6E83-408A-9F59-9C060CDE4EE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4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C6B9-2E7B-4777-BD18-AB23246B298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8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8087-8EA9-4289-8712-765B3DC126E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0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ndividual or an institution that acts as an underwiter or agent for corporations and municipalities issuing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 not accept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intain broker/dealer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advisory services to inves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rtgage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long-term loans - mortg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ng building or buying houses or fl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wer interest to b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redit un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non-profit financial institution that is owned and operated entirely by its memb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vide financial services for their members, including saving and le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is considered partial ownership in the credit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entral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ve responsibility for issuing 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dminister monetar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d member banks´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acilitate the nation´s banking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k sta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anch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shiers / tell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X tell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tail ban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an represent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les assis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artments in a b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dquar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dit administration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ational and domestic banking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asury and 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e operations division (FX, money mark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artments in a b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formation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keting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ach of them can have some sub-divisions, sections or te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1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y, jejich funkce a struktur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pojem banka, představuje jednotlivé typy bank a jejich funkce a struktur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, spread, fee, account, ATM, loan, deposi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2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N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IR FUNCTIONS,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BAN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 is an institution that accepts deposits and make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s provide a system for an easy transfer of money from one person or company to ano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 is an intermediary between a supplier of finances and their 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do banks earn mone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pread“ – the difference between the interest rate pay for deposits and interest rate they receive on the loans they m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on the securities they h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es for customer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fe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Opening and closing an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unning an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Bank stat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Financial operations at the cou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ayments from your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Consulting 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ome banking, internet ban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Withdrawals from AT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merci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tgage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dit un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ntr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ving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financial institutions which receive savings accounts only and pay interests to its depos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mmercial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vately – owned for profit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ccept demands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commercial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related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7:07Z</dcterms:modified>
  <cp:revision>15</cp:revision>
  <dc:subject/>
  <dc:title>BUSINESS ENGLISH</dc:title>
</cp:coreProperties>
</file>