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1C0-B2F9-42E1-B092-5B15070C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300-DAA6-41A5-A898-5AC89C25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A4A-D0C1-4650-9DF7-C74D56BE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FE3-9AAD-428E-BC68-D361D3BB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2EF-3B41-41F3-8573-371C1585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AA9-D86C-43AE-BF03-A23BE4D5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F6B-6BA9-4C37-B728-D2E4B91F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3E8-B2A5-4B3A-94A1-4D8C18FD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2AA-0DA9-47C9-9B3B-090436E0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5EF-0706-4BEB-90FD-74056CEE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D0A-5037-428E-AC96-5DFED90A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B85-3D24-433E-8CDB-C49CD18F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4279-3FE5-4046-B8A0-F95181FCF8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městnanec má hrubou mzdu 21 500,- Kč. Vyživuje 3 děti. Vypočítejte čistou mzd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1 50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65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 39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45 =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6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1,34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8 900,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(zaokrouhleno na 100 Kč nahor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8 900*0,15 =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4 335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- 2 07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(3*11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ový bonu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 086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ČM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1 500 – 1 398 – 968 + 1 086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0 22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městnanec má měsíční mzdu 25 000,- a vyživuje dvě děti. Vypočítejte čistou mz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postupem výpočtu mezd, počítají základní typy příklad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ubá mzda, sociální pojištění, zdravotní pojištění, superhrubá mzda, daň z příjmu, daňový bonus, čistá mzda, ostatní srážky, mzda k výplat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ff"/>
                </a:solidFill>
                <a:latin typeface="Arial"/>
              </a:rPr>
              <a:t>HM = základní mzda + příplatky + prémie + odměny + osobní hodnocení + náhr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kladní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dinová – podle počtu odpracovaných hodin v měsí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měsíč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tál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ko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le odpracovaného množ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roviz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íl v % z realizovaných obchodů jednoho obchod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pl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zda za práci přes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rady mzdy za odpracované svá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e ztížených podmínkách a na zdraví škodlivých pracovišt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 n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dmě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pevná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sobní hodnoc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měsíční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hrady mz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volená, neodpracované svátky připadající na PO – P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kážky z důvodu obecného zá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šetření u léka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kolení, studium při zaměst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vatba, svatba dětí,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ř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mr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Které zákonné srážky ze mzdy zná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xistují i jiné než zákonné srážky? Uveďte 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a zdravotní pojiště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e mzdy zaměstnance se sráží pojistné, a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,5% z hrubé mzdy na všeobecné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,5% z 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jištění hrazené firm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% z hrubé mzdy na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5% z 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aň z příjmů ze závislé čin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způsob zdanění mzdy daní z příjmů ze závislé činnosti je rozhodné, zda má zaměstnanec podepsáno prohlášení k d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uze u 1 zaměstnavatele), je daň z příjmů srážena ve formě zálohy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otom je pro způsob zdanění rozhodující výše mz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do 5 000 Kč – srážková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nad 5 000 Kč – záloha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mezi zálohou na daň z příjmů a srážkovou daní je mimo jiné v tom, že záloha na daň podléhá ročnímu vyúčtování, ale srážková daň je konečná a nelze ji již zúčt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avot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perhrubá mzda = hrubá mzda * 1,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 příjmu = superhrubá mzda * 0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z příjmu po slevách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daň z příjmu – slevy na d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istá mz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– sociální pojištění – zdravotní pojištění – daň z příjmu po sle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zda k výplat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čistá mzda – ostatní srážky + nemocen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stnanec má hrubou mzdu 20 000,- Kč měsíčně. Vyživuje jedno dítě. Vypočítejte čistou mz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0 0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65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 3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45 =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1,34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6 8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6 800*0,15 =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4 02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-2 07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1 11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po slevá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833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20 000 – 1 300 – 900 –833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6 96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0:06:20Z</dcterms:created>
  <dc:creator>Ing. David Holzbauer</dc:creator>
  <dc:description/>
  <dc:language>en-US</dc:language>
  <cp:lastModifiedBy>Igor</cp:lastModifiedBy>
  <dcterms:modified xsi:type="dcterms:W3CDTF">2014-09-13T15:25:22Z</dcterms:modified>
  <cp:revision>11</cp:revision>
  <dc:subject/>
  <dc:title>Snímek 1</dc:title>
</cp:coreProperties>
</file>