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133-2BE8-48AD-8E87-BD9A2840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49BB-9C13-4B6E-ADEC-D24FA9B2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1FA-5B5E-4ED0-96C8-9B516626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A8B-FEF4-4682-BE5A-AC044686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70C-8E08-47F2-815A-9918B073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6C9-0DAA-4709-A4A4-969CAD28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B19-5989-4266-B0B2-90893211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1B8F-2B07-4B9C-A3C2-C354E2DD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EF4-5BD2-4B47-8479-24431901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7A7-94E5-48B3-B1CB-3B0BF1FC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1B2C-54A7-47A3-8129-50BE3143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1F0-16BB-4396-AE17-33682F82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1921-D457-424B-8147-169F8D8254A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10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68360" y="1495440"/>
          <a:ext cx="8229600" cy="5129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ální 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e systémem odměňování, s faktory ovlivňujícími výši mezd, s formami mezd, příplatky ke mzdám a navazujícím složkám mez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měňování,nabídka a poptávka po práci, mzdové tarify, formy mezd, navazující složky mzdy, přípla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měň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333399"/>
                </a:solidFill>
                <a:latin typeface="Arial"/>
              </a:rPr>
              <a:t>Jaké znáte formy odměňová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lavní form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měňování pracovníků = pení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 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alší form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aměstnanecké výhody, pracovní prostředí, morální ohodnocení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stém odměňování by měl být takový, aby motivoval pracovníky k lepší práci a zároveň aby byl pracovníky považován za spravedliv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Faktory ovlivňující výši odměny za prá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Arial"/>
              </a:rPr>
              <a:t>Jaké faktory podle vás ovlivňují nejvíce výši odměny za prá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kolik by měl pracovník dostat za svou práci ve vztahu k ostatním pracovníkům fir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ráce je posuzována z hlediska zkušeností, iniciativy, kvalifikace, znalostí, stupně zodpovědnosti a rozsahu kompet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cílem je stanovit takový systém odměňování, který zajišťuje správnou diferenciaci jednotlivých prací pomocí vyjmenovaných hledis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truktura peněžní odměny často odpovídá hierarchii funkcí v podniku, existují ale i výjimky – např. pracovníci v odbytu, kteří pracují za proviz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iferenciace mezd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– aby firma získala a udržela si zaměstnance, musí jejich mzdy konkurovat mzdám v jiných firmách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laty a mzdy jsou určovány nabídkou a poptávkou po prá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livy působící na nabídku prá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ografické vli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ečenské no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dalšího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další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gulace vlád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livy působící na poptávku po prá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 národní ekonom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 mezinárodní ekonom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ádní regu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ferenciace odmě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Jakými způsoby se na trhu práce řeší nesoulad mezi nabídkou  a poptávk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šší mzdy a platy mohou způsobit přesun pracovníků z míst, kde jsou mzdy a platy nižší do míst, kde jsou vyšší. Existují ale překážky v těchto  přesunech, např. dobré vztahy na pracovišti, atraktivní pracovní podmínky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měna za práci – může být stanovena jak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ov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ov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íční pl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569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e mzdy je zpravidla odstupňováno do tříd (kvalifikačních stupňů) práce, od nichž se pak odvozují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mzdové tarif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= peněžní vyjádření příslušné kvalifikační třídy za určitou časovou jednotku vynaložené prá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romě mzdových tarifů existují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amostatné navazující složky mzd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ve kterých se zohledňuje výkonnost pracovníků odměny, výkonnostní příplatky, prémie, účasti na výsledku hospodaření,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ákladní formy odměňov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zda úkolová – závisí na odvedeném výk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zda časová – závisí na odpracovaném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síční plat – např. u státních zaměstnan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avazující složky mez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émie, odměny, výkonnostní složky mezd, podíly na výsledku hospodaření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platky ke mzdovým tarif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enění za ztížené pracovní podmínky, práci v noci, ve dnech pracovního klidu,… Jsou sjednány v kolektivní smlouvě nebo jsou dány zákon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Co je to kolektivní smlou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lektivní smlouv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sjednávají se zde základní podmínky odměňování práce, další podmínky práce a poskytování sociálních výhod zaměstnancům. Vychází se při tom z výsledků tzv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ripartitního jedn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ástupci zaměstnavatelů, odborů a stát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7:34:44Z</dcterms:created>
  <dc:creator>Guest</dc:creator>
  <dc:description/>
  <dc:language>en-US</dc:language>
  <cp:lastModifiedBy>Igor</cp:lastModifiedBy>
  <dcterms:modified xsi:type="dcterms:W3CDTF">2014-09-13T15:04:58Z</dcterms:modified>
  <cp:revision>10</cp:revision>
  <dc:subject/>
  <dc:title>Snímek 1</dc:title>
</cp:coreProperties>
</file>