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405-665C-45AD-B541-48CB80ED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708-A72E-4D72-BA57-0A26FC31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E7E-00DF-4326-A31B-2C4C8B88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614-94AF-4B6D-9DD0-70F3CFA4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3BE1-6CE2-4EC4-8FFC-AA543102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E904-F371-432C-B160-561944F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96CE-6C22-48AF-92F6-8E0EDFD3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0302-4B10-4356-86C3-61E12D42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54D8-AF8F-48BB-8934-629ACB1E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6F5E-5B10-4A44-999F-2021B51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506C-AF9B-486A-8631-66CA7A4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F15-C871-492E-B558-F54C789E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94C1-ACF4-4F84-982A-E5ABBB7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4584-669A-4BFC-8FCB-CC0B15D1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E33F-2550-422D-A2F9-381A4AA6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EE75-6C72-417C-9E1E-3364C287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7A79-EB23-4EEE-82DE-74D449E9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358-110C-44D6-A2E4-F2FBAA38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619-F89B-4DA7-919F-143557AE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B1D-BB49-497D-A3AC-8E746D65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0B5-B519-479E-A54F-1D03DFD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A43-67D3-4A21-AB31-B5198766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149-2B22-4C05-958E-A0B9CA18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8F7-68DA-48C7-84EE-E42B9559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91B2-5C28-4784-A69D-736853CD6E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7AB3-193C-414D-A8B2-1BA09A152A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9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ak se připravit na poho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jistěte si co nejvíce informací o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usíte se připravit na setkání s personalistou, proto si zjistěte co nejvíce informací o tom, co byste měli ve firmě dělat, jaký je hlavní obor činnosti firmy, ale i to, jaká je její konkurence a firemní kultura. Přehled o situaci potvrdí vaši motivaci a záj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ezměte si s sebou potřebné dokumen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ktuální životopis, ukázky prací, ale i kontakty na případné reference od bývalého zaměstnavatele jsou nezbytné minimum, které byste při pohovoru měli mít s sebo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ipravte se na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myslete si, jaké jsou vaše pracovní priority a jaký očekáváte plat. Pokud nevíte, o kolik si máte říct, využijte internet – najděte si srovnání plat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míte odpovědět, proč odcházíte ze stávajícího zaměstnání nebo proč zrovna vy jste nejvhodnější kandidát na pozici, o niž se uchází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rsonalista se vás také může ptát na tzv. diskriminační otázky (např. rodinné zázemí, dě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uďte aktivní a sami se zajímej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tejte se na chod společnosti a detaily týkající se vaší pozice. Zajímejte se také o to, kdo bude váš nadřízený a s kým budete spolupracovat v rámci firmy i mimo ní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 kolik si říct na pohovor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.   Zmapujte si, jaké jsou vaše životní nákl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očítejte si, kolik si musíte minimálně vydělat, abyste pokryli své náklady a životní minimum. To je základ pro další určení požadované mzd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.   Jakou výplatu jste v minulém zaměstnání dostáv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emusí vždy vypovídat o tom, kolik si vyděláte ve svém příštím zaměstnání. V jiném regionu a jiné firmě si můžete vydělat třeba i více. 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.   Zmapujte si situaci na trhu práce ve svém oboru a v regionu kde chcete pracovat.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olik je nabídek práce a tedy jaká je aktuální poptávka firem zjistíte na internetu, např. na stránkách Prace.cz. I od toho se může odvíjet výše plat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.   Platy ve svém oboru a lokalitě si můžete zjistit na internetu, na stránkách Prace. cz v sekci Porovnání platů.</a:t>
            </a: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ww.prace.c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68360" y="1495440"/>
          <a:ext cx="8229600" cy="513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 k seznámení studentů s personálním řízením, cíli a organizací personální práce, s náborem pracov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dské zdroje, personální řízení, cíl personální práce, organizace personální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ersonalistika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nik potřebuje k zajištění své činnosti výrobní faktory – půdu, kapitál 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rác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aké charakteristiky práce budou pro firmu nejdůležitějš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Lidské zdroj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souhrn pracovníků, jejich kvalifikační a věková struktura, úroveň pracovní ochoty (motivace, kreativita, flexibilita a adaptabilit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ersonální řízení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řízení lidských zdrojů s vnějšími vazbami na trh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Cíl personální prá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dostatečně výkonného person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sociálních cílů zaměstnanců (spokojenost zaměstnanců s prací, s výší odměny, s možností profesionálního rozvoje,… To vede ke spokojenosti pracovníků a k jejich loajalitě k podnik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yto cíle jsou protikladné – vysoké mzdy uspokojí zaměstnance, ale vedou ke zvýšení nákladů firmy a tím ke snížení její konkurenceschopnosti. Naopak snížení mzdových nákladů vede ke snížení spokojenosti zaměstnanců a k poklesu jejich výko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ahoma"/>
              </a:rPr>
              <a:t>Je proto třeba vytvořit vyváženost mezi oběma cí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Organizace personální prá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lánování pracovník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lánování potřeby pracovníků, jejich počtu, profesní a kvalifikační struktury a jejich rozmístě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získávání a výběr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určení metod a způsobů získávání pracovníků z vnitřních i vnějších zdrojů podni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rozmisť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ařazování do pracovních funkcí, přesuny pracovníků uvnitř podniku, povyšování, ukončování pracovního poměru, penzion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předpokladů pracovníků k výkonu činností a plánování osobního rozvoje pracovníků, hodnocení pracovního výkonu a chování pro potřeby systému 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áce a popis pracovních mís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nároků jednotlivých pracovních míst a funkcí pro podnikové katalogy prací a tarifní systé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vorba nástrojů pracovní motivace a podnikových mzdových systémů a systému účasti na hospodářském výsled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odnikové systémy vzdělávání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identifikace potřeb vzdělávání, plánování, příprava, organizace a vyhodnocování účinnosti vzdělávání, programy rekvalifika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kolektivní vyjednávání a pracovněprávní agendy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jednání zaměstnavatelů a odborů o uzavření kolektivní smlouvy, příprava jednání, dohled nad dodržováním pracovněprávních předpisů a závazků, spolupráce s úřady prá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sociální péče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organizace sociálních služeb pro zaměstnance, bezpečnost a ochrana zdraví pří práci, zdravotní péče, kontrola pracovních podmínek, organizace aktivit volného čas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ersonální informační systém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 potřeby podniku i mimopodnikových orgán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Nábor pracovník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očívá v poznávání a získávání nových nebo stávajících pracovníků pro běžná a budoucí pracovní mí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Nábor se provádí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střednictvím osobních kontaktů, inzercí, návštěvami škol, učilišť a univerzit pracovníky osobního oddělení, z Úřadu prác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Proces výběr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hodnocení zaslaných životopis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ní pohovor, talentové zkoušky, inteligenční testy, testy osobnosti, reference od dřívějších zaměstnavatelů, škol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chazeč o zaměstnání by měl přijít na pohovor připraven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Jak byste se co nejlépe připravili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Kde byste získali informace pro vaši přípravu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5:44:27Z</dcterms:created>
  <dc:creator>klapuchova</dc:creator>
  <dc:description/>
  <dc:language>en-US</dc:language>
  <cp:lastModifiedBy>Igor</cp:lastModifiedBy>
  <dcterms:modified xsi:type="dcterms:W3CDTF">2014-09-13T15:06:05Z</dcterms:modified>
  <cp:revision>12</cp:revision>
  <dc:subject/>
  <dc:title>Personalistika</dc:title>
</cp:coreProperties>
</file>