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7DB3-EC04-41EA-BFF1-8A955FA1F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A0B7-075C-4501-9BEC-47F1C79E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A009-AEA9-43FB-B93A-9A6D65FF0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75B1-A792-43A5-8955-774043B4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B71B-905B-4FD1-A8AD-F0E6D19A1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A9B8-D978-42BD-BFD3-C92D62D4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8FE6-2C60-4BC0-8819-ECEDB661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DE18-6D54-444B-8E5B-01105A7F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6926-C825-487A-9C4F-29D38C9F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5379-C4D6-4E4B-84E0-5D06A2D6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51A8-201C-4AE9-992D-63F3A063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1C2D-FBD9-40C0-AB69-B0E10A91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E0C7-04E6-424B-9435-CA66B13C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61C3-B965-4DC5-9E82-85ECA353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ADA2-A9A1-4CC5-A341-7284B640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DDAC-2EED-4B2A-9FFD-2B6BA7BCB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2CF93-B454-48D6-A93A-4978FFAC1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3E69-6C94-470A-B5A6-9DA3F701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E850-62E1-4105-AABD-AA0835A0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CCE1-AEE8-4A59-AEDC-3AF67DD8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D330-B3C5-4FCD-B7D1-B3C7DB70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89D1-8428-4487-AF66-3C334B0B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8FBB-215B-46AE-95F0-DE59683D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8E8E-4064-4149-87A8-D44C43A6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BEC8-6018-4509-96EC-B0987E7089B9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0A56-8C79-4232-8DAD-35731E27D7F7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908000" y="404640"/>
            <a:ext cx="5295960" cy="1295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900000" y="1989000"/>
            <a:ext cx="7315200" cy="35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39640" y="3573360"/>
          <a:ext cx="7561440" cy="50328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7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39640" y="4365720"/>
          <a:ext cx="7561440" cy="1590480"/>
        </p:xfrm>
        <a:graphic>
          <a:graphicData uri="http://schemas.openxmlformats.org/drawingml/2006/table">
            <a:tbl>
              <a:tblPr/>
              <a:tblGrid>
                <a:gridCol w="3672000"/>
                <a:gridCol w="38894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7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 ročník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dlužníka: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státní C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komunální CP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vydávají obce a kraj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obchodních společnost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soukromé CP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smě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emise CP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hromadně vydávané - státní dluhopis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individuálně vydávané - smě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podle podob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knihované – zápis v Centrální evidenci cenných papírů (dříve Středisko cenných papírů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listinné – fyzická podob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okladniční poukázk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rátkodobý dluhopis, získání peněz pro různé účel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tátní pokladniční poukáz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ovní pokladniční poukáz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niková pokladniční poukáz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epozitní certifiká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rátkodobý obchodovatelný úročený cenný papír, který vydávají převážně ba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ětšinou zní na majite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eho úkolem je aktivizovat dočasně volné peněžní prostřed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atímní lis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hrazuje akcie do doby splacení jejich jmenovité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(nominální) hodno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sou s nimi spojena práva, která vyplývají z akci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Akci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Akcie je cenný papír, který dává akcionáři tato práva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ílet se na zisku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dividend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ílet se na řízení společnosti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právo hlasovat na valné hromad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rávo na podíl z likvidačního zůstat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Akci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Akcie je cenný papír, který dává akcionáři tyto povinnosti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aplatit za akci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Tantiémy –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íly na zisku představenstva a dozorčí rad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Akci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Akcie má nominální a tržní hodnotu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nominální hodnota (jmenovitá)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hodnota akcie na ní napsaná a za tuto částku se  emituj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tržní hodnota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(kurzová)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–výše závisí na vztahu nabídky a poptávky po akciích na trhu s cennými papí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odoby akci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v listinné podob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itulní list: základní údaj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upónový arch: pro výplatu dividen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alón: pro vydání nového archu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v zaknihované podobě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zápis u Centrální evidence cenných papír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611280" y="1557360"/>
          <a:ext cx="8229600" cy="4956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nné papí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arakteristika cenných papírů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nný papír, pokladniční poukázka, depozitní certifikát, zatímní list, akcie, dluhopis, podílový list, finanční derivá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akci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akcie na jméno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převod této akcie na jinou osobu probíhá tzv. rubopis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akcie na majitele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je převoditelná předáním jiné osob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akci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akcie zakladatelské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vydány při založení podniku, jsou zároveň kmenové akci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akcie prioritní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 přednostní právo na dividendu, majitelé nemají právo hlasovat na valné hromad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akcie kmenové 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ěžn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akci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akcie zaměstnanecké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prodávány vlastním zaměstnancům za výhodnějších podmínek, motivační charakt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při odchodu povinnost nabídnout k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dkupu firm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tvoří max.  5 % základního kapitál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luhopis (obligace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ětšinou dlouhodobý úvěrový C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yjadřuje závazek emitenta vůči věřiteli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emitovaný s cílem získat peněžní prostředky na delší dob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latnost je pevně stanoven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dluhopis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tátní dluhopis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munální dluhopis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městnanecké dluhopis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nikové dluhopis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ovní dluhopis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Hypoteční zástavní lis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věrový CP, forma dluhopisu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ydávají hypoteční banky k získání prostředků na poskytování hypotečních úvěr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ryty zástavou nemovito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ízké rizik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odílový lis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ajetkový cenný papír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jeno právo majitele podílet se na výnosu fondu, který list vyd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ávo na odpovídající část majetku podílového fondu (otevřeného nebo uzavřeného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alší typ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měnk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še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ástav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munál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alší typ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P osvědčující vlastnické právo (dispoziční)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nosament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říční nálož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železniční náklad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ilniční náklad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alší typ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P osvědčující vlastnické právo (dispoziční)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letecký náklad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ložní (nákladní)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emědělský sklad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Cenné papí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Finanční derivát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dvozené cenné papíry, právo koupit nebo prodat jisté aktivu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utur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orwar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warra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wa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p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koly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o jsou to cenné papíry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ruhy cenných papírů podle finančního trhu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ruhy cenných papírů podle majetkových práv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ruhy cenných papírů podle převoditelnosti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koly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5.  Druhy cenných papírů podl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ůchodu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6.  Pokladniční poukázk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7.  Depozitní certifiká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8.  Zatímní lis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Akci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luhopis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koly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1. Podílový lis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2. Další typy cenných papírů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Charakteristika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listina, která zachycuje právní vztah mezi 2 nebo více subjek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ležitosti určuje Zákon o cenných papírec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Charakteristika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ruh kapitálu, se kterým se obchoduje na finančním trh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yjadřuje dlužní závazek nebo majetkový nárok vlastníka vůči tomu, kdo CP vyd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finančního trhu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peněžního trhu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(krátkodobé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kapitálového trhu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(dlouhodobé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 majetkových práv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věcné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– zajištění pohledávek věc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dlužnické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směnky, šeky, obliga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majetkové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– akcie, podílové lis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dispoziční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–  práva na nějakou věc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převoditelnosti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na majitele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majitelem je ten, kdo je předlož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na jméno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uvádějí jméno oprávněné osob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na řad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uvádějí oprávněnou osobu jménem, s doložkou na řa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důchodu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se stálým důchodem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obliga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s proměnným důchodem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akci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neúročené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še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20:31:47Z</dcterms:created>
  <dc:creator>Marek</dc:creator>
  <dc:description/>
  <dc:language>en-US</dc:language>
  <cp:lastModifiedBy>Igor</cp:lastModifiedBy>
  <dcterms:modified xsi:type="dcterms:W3CDTF">2014-09-13T14:52:42Z</dcterms:modified>
  <cp:revision>34</cp:revision>
  <dc:subject/>
  <dc:title>Cenné papíry</dc:title>
</cp:coreProperties>
</file>