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DE31-EA79-419F-A502-68F66F34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284F-66DD-418A-AA3A-15B80A58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24CF-9999-451D-908C-3A87F046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4B41-729A-4266-9239-671F8320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2AF3-6C80-4508-AF83-56F17483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72F4-CC36-41C4-A408-5AD71B0A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CC4F-397C-4FDC-B772-D7F20E40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598A-7321-474D-98F7-283336D8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9B1D-A074-4387-8F6D-5F101E61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853F-F226-402F-8996-0DC81521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04F0-D51C-4C5D-8777-3ED23BAC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BA6F-5072-425C-BFBF-580E08F1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2AE0-A138-4587-9EC4-2A5C86A2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0D1E-7B2B-4E61-A57D-6DA9127C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EA49-69B2-4427-967C-763CFBCD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93F5-4028-414C-8755-FB6139CC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4DD2-D5A4-4287-9361-ADA96256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9A7FA-CFBA-4D06-B90C-D6833B3E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27817-2622-4499-9F4A-B12D9852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8C12A-E208-4AEA-B031-C34DA7CB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86EAD-93BA-4F87-88E0-0F8B7717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2564E-2822-4AD5-B787-4E022958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04C8-DF35-40A3-B4CD-8DA35C2D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D78D5-3901-45CD-8852-D60013D1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01ECF-7114-47EB-B5B3-124E8927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1E2E1-B111-465F-9101-8ED26AF1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C6CFA-982D-46D7-BBCC-1AE0AB90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EAF81-9A40-4755-BB5A-C2B556AD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72C2E-DC52-44CC-82AD-7B7C7E37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C6341-D6A2-47B6-970A-7045988B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3300-2A22-4C66-88DC-0B2FF2DF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C12A-9181-4384-BA89-CBCAC12E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670A-828D-4065-B049-D86BB4DB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A3B1-9410-4735-ACC4-C5BC314B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5B07-380F-41B9-A5E9-5AA71030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EEEB-7967-4EDE-8EC2-9B7AAEEA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5E2E-2C86-4E76-93A5-41C51831109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69AE-F13D-42FA-9F15-BC656F348E8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F350-FDBC-41BC-B326-8A7F6540FCD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1835280" y="476280"/>
            <a:ext cx="5295600" cy="1295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900000" y="1989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539640" y="4221000"/>
          <a:ext cx="7561440" cy="1662120"/>
        </p:xfrm>
        <a:graphic>
          <a:graphicData uri="http://schemas.openxmlformats.org/drawingml/2006/table">
            <a:tbl>
              <a:tblPr/>
              <a:tblGrid>
                <a:gridCol w="3384720"/>
                <a:gridCol w="417672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Jednoduch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4"/>
              <p:cNvSpPr txBox="1"/>
              <p:nvPr/>
            </p:nvSpPr>
            <p:spPr>
              <a:xfrm>
                <a:off x="2556000" y="2637000"/>
                <a:ext cx="4176720" cy="24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 ……………….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 ………………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stupní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t………………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úročený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ba, po kterou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 kapitál úroč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…………………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čet období, po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terá se úroč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…………………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nui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4"/>
              <p:cNvSpPr txBox="1"/>
              <p:nvPr/>
            </p:nvSpPr>
            <p:spPr>
              <a:xfrm>
                <a:off x="1908000" y="1700280"/>
                <a:ext cx="547236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ú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1" name="Rectangle 7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6"/>
              <p:cNvSpPr txBox="1"/>
              <p:nvPr/>
            </p:nvSpPr>
            <p:spPr>
              <a:xfrm>
                <a:off x="1908000" y="4005360"/>
                <a:ext cx="547236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2987640" y="1700280"/>
                <a:ext cx="3384720" cy="19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Rectangle 7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6"/>
              <p:cNvSpPr txBox="1"/>
              <p:nvPr/>
            </p:nvSpPr>
            <p:spPr>
              <a:xfrm>
                <a:off x="2340000" y="3860640"/>
                <a:ext cx="4897440" cy="19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3059280" y="1700280"/>
                <a:ext cx="324144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t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3" name="Rectangle 7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8"/>
              <p:cNvSpPr txBox="1"/>
              <p:nvPr/>
            </p:nvSpPr>
            <p:spPr>
              <a:xfrm>
                <a:off x="2195640" y="3933720"/>
                <a:ext cx="5113080" cy="200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t</m:t>
                        </m:r>
                        <m:r>
                          <m:t xml:space="preserve">∗</m:t>
                        </m:r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4"/>
              <p:cNvSpPr txBox="1"/>
              <p:nvPr/>
            </p:nvSpPr>
            <p:spPr>
              <a:xfrm>
                <a:off x="1692360" y="2421000"/>
                <a:ext cx="5400720" cy="21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t xml:space="preserve">i</m:t>
                        </m:r>
                        <m:r>
                          <m:t xml:space="preserve">∗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Kombinované úrokování  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 ………………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 ………………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stupní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t………………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úročený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ba, po kterou je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pitál úroč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Kombinované úrokování  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n…….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počet úrokovacích 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období (ukončenýc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l ……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počet úrokovacích období 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(neukončenýc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Kombinova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684360" y="3068640"/>
                <a:ext cx="756108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∗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"/>
          <p:cNvGraphicFramePr/>
          <p:nvPr/>
        </p:nvGraphicFramePr>
        <p:xfrm>
          <a:off x="611280" y="1557360"/>
          <a:ext cx="8229600" cy="4527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ednoduché a složené úroková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ákladní pojmy a vzorce pro výpočet úrokování. Vzorové příkla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Úrokování jednoduché, složené, dekurzivní, anticipativní, úrok, kapitál, doba splatnosti, úroková míra, anuita, bankovní měsíc, ro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lient si vypůjčil z banky  65 000,- Kč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10 % úrok p. a. dek., jednoduché úrokování, dekurzivní. Kolik musí vráti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70 254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počítej původní jistinu a úrok, jestliže půjčka i s úroky byla splacena po 327 dnech. Úrok 12 % p. a. dek., jednoduché úrokování, dekurziv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225 000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4 525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lik si můžete půjčit peněz, pokud víte, že za 3/4 roku budete mít na úhradu dluhu  200 000,- Kč, při úrokové míře 8 % p.a. a složeném úrokování dekurzivní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88 783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dlouho byl v bance uložen kapitá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30 000,- Kč, vzrostl-li při jednoduchém úrokování dekurzivním při sazbě 0,05 na 36 500,- Kč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1560 dn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rči úrokovou sazbu, byl-li kapitá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 000,- Kč úročen čtvrt roku a vzrost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6 075,- Kč. Úrokování jednoduché, dekurziv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 = 0,0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 = 5 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konom firmy vystavil 15. 4. 2009 vlastní směnku za dodávku zboží v hodnotě 100 000,- Kč se splatností za 6 měsíců. Zjistěte směnečnou sumu, jestliže úrok je 9 % p.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04 500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vzroste kapitál  500 000,- Kč uložený do banky 3. 2. 2006, který si klient vybere 6. 8. 2009 při úrokové míře 8 % p. a.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) jednoduché úročení de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) složené úročení de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) 640 333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) 654 986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se zúročí úvěr 1 milion korun, když byl úrokován složeným způsobem při 0,05 p. a. dek., po dobu 2 let 6 měsíců 27 dnů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1 333 868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dlouho byl uložen vklad 25 000,- Kč, vzrostl-li na 29 246,50 Kč při úrokové sazbě 0, 04 p. a. dek.? Složené úrokování, dekurziv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4 ro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kolik % byl úročen kapitá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8 500,- Kč, pokud za 3 roky vzrost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20 000,- Kč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ování složené, dekurziv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i = 0,026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 = 2, 63 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ff"/>
                </a:solidFill>
                <a:latin typeface="Arial"/>
              </a:rPr>
              <a:t>Jednoduché a složené úrokování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vzroste kapitál 240 000,- Kč s úrokovou mírou 8,5% p.a. uložený na období 22. 2. 2006 až  17.6. 2009 při kombinaci jednoduchého a složeného úročení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 314 873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MÉKALOVÁ, Darina. 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Finanční a pojistná matematika pro střední školy ekonomického zaměření,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strava:  Montanex,s.r.o. , 1996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BN:  80-85780-39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rokován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kurzivní - polhůtn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nticipativní – předlhůtn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ovní rok – 360 dn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ovní měsíc – 30 dn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rokován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. a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oční 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. s.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loletní 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. q.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tvrtletní 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. s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ěsíční 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rokován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ečítací metoda (německá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výpočet počtu dnů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. Vypočítej počet dnů v období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5. 7. 2007 – 4. 9. 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(4–15) + (9–7)*30 + (2009–2007)*360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= - 11 + 60 + 720 = 769 dn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Jednoduch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 ……………….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 ………………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stupní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t………………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úročený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ba, po kterou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 kapitál úroč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Jednoduch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5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9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0"/>
              <p:cNvSpPr txBox="1"/>
              <p:nvPr/>
            </p:nvSpPr>
            <p:spPr>
              <a:xfrm>
                <a:off x="2195640" y="2205000"/>
                <a:ext cx="489744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ú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i</m:t>
                    </m:r>
                    <m:r>
                      <m:t xml:space="preserve">∗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Rectangle 23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2"/>
              <p:cNvSpPr txBox="1"/>
              <p:nvPr/>
            </p:nvSpPr>
            <p:spPr>
              <a:xfrm>
                <a:off x="1116000" y="4149720"/>
                <a:ext cx="684072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∗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Jednoduch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3059280" y="1628640"/>
                <a:ext cx="381780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∗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Rectangle 7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6"/>
              <p:cNvSpPr txBox="1"/>
              <p:nvPr/>
            </p:nvSpPr>
            <p:spPr>
              <a:xfrm>
                <a:off x="3132000" y="3789360"/>
                <a:ext cx="3745080" cy="21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23:34:46Z</dcterms:created>
  <dc:creator>Marek</dc:creator>
  <dc:description/>
  <dc:language>en-US</dc:language>
  <cp:lastModifiedBy>Igor</cp:lastModifiedBy>
  <dcterms:modified xsi:type="dcterms:W3CDTF">2014-09-13T14:50:43Z</dcterms:modified>
  <cp:revision>25</cp:revision>
  <dc:subject/>
  <dc:title>Jednoduché a složené úrokování</dc:title>
</cp:coreProperties>
</file>