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5D9-F070-42F2-8F99-67B599E9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603-54A0-43BA-B04F-52AE1CD5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C8A-97EB-4C06-BE56-6ACDF1F5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FCA-6E03-468A-AA55-7A09901E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585A-E761-476E-A2C4-BFE6F2EE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EC8F-D08F-40BB-A0FE-E64C5232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AE09-827B-4FC9-8524-6A15F7DE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46D4-DD2E-48C6-B8B9-3F8947CE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F260-40D5-4204-B9BB-00B93660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E0FE-1FE0-403D-854C-5FE856AB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5AA2-DCBE-4434-A993-4073501F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EF0-50A2-4A9D-B239-14C9C1A3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E1A3-1B50-45F1-8882-5254E7B4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AE8C-3C94-4656-9C55-34673230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AF56-E643-4E64-BFAB-1651B23D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4693-7D64-4889-841B-41514085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DBE9-1407-4516-91FA-167E759A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23A-C4D1-4D41-9BCF-351919A5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087-479B-4F80-9FD6-E945BF51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003-5624-4B60-BBD9-709A2BD6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B52-25C5-4102-B878-7A0BA38B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874-EAA6-4854-B258-7E84FC27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C8C-2EA7-4D4F-A7DF-42969F5D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E1C-5830-4A3D-B683-7B6C806A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3B2B-8F2A-464F-B694-50205BE0A12C}" type="slidenum">
              <a:rPr b="0" lang="cs-CZ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438F-75B3-4FF8-B99C-6F036E6B8220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inarbitr.cz/cs/financni-arbitr/pusobnost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89000" y="304920"/>
            <a:ext cx="5699160" cy="1431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476000" y="1989000"/>
            <a:ext cx="6705720" cy="13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9640" y="4149720"/>
          <a:ext cx="7561440" cy="15908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do výše částky  50 000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Důvod vzniku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soudního sporu vysoké, často převyšují spornou čás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dlouhavost soudního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armonizace práv ČR v rámci Evropské un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ě poštou, e-mailem opatřeným zaručeným podpisem nebo prostřednictvím datové schránky, osobně, resp. ústně do protokolu v sídle Kanceláře finančního arbi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musí obsahovat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ční údaje navrhovatele a finanční instit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 o tom, že instituce byla neúspěšně vyzvána k nápravě (vyřízení, zamítnutí reklama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plné a srozumitelné vylíčení rozhodných skutečnos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kazní prostředky nebo označení důkazů (smlouvy apod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značení, čeho se navrhovatel domáh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hlášení, že nepodal v téže věci žalobu k soudu nebo k rozhodčímu soudu nebo rozhodci ,že neuzavřel s institucí dohodu o mimosoudním vyrovnání a je si vědom závaznosti nález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nou moc, je-li navrhovatel zastoupen na základě plné moci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a podpis navrhov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radně pro klienty, návrh podává kli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latn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ná proti finanční instituci nikoliv proti klient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ne do 30 dnů ode dne zahájení řízení, ve zvlášť složitých případech  do 60 dnů, nelze-li rozhodnout ani v této lhůtě, může ji  přiměřeně prodlouž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uje nález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ti nálezu lze uplatnit opravné prostředky – námit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z je soudně vykonatelný a má účinky srovnatelné se soudním rozhodnut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5187960" cy="14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539640" y="1484280"/>
          <a:ext cx="8229600" cy="5173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instituce finančního arbitra pro klienty finančních institu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, spory, působnost, návrh klienta, průběh říz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 případě nesouhlasu s konečným rozhodnutím finančního arbitra je možné podat k soudu proti němu žalobu o přezkum rozhodnu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nenáleží finančnímu arbitr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věci již rozhodl soud nebo bylo zahájeno soudní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již řeší nebo řešil finanční arbit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ylo již rozhodnuto v rozhodčím řízení nebo bylo zaháje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Úkoly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4400" y="2334960"/>
            <a:ext cx="67057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stituce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vod vznik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ůsobnost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klien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ůběh říze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imo působno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oslani-a-ukoly-fa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finarbitr.cz/cs/financni-arbitr/pusobnost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ruvodce-podanim-zadosti.html#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515680"/>
            <a:ext cx="731520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4768560"/>
            <a:ext cx="75438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imosoudní orgán k řešení spo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s právem rozhodovat sp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ídlo Kanceláře finančního arbitra v Pra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ho arbitra jmenuje vláda na návrh ministra financí na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je odpovědný za svou činnost vlá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 provádějícími převody peněžních prostředků (zejména banky) a jejich klienty – např. o správnost zaúčtované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, které vydávají a zpětně vyměňují elektronické peníze (platební karty) a jejich držite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věřiteli nebo zprostředkovateli a spotřebiteli při nabízení, poskytování nebo zprostředkování spotřebitelského úvěru (např.o správnost výše úvěru nebo účtovaných poplatk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vestičními fondy, investičními společnostmi a spotřebiteli z fondů kolektivního investování, které shromažďují peněžní prostředky od veřej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apř. o správnost poplatků)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31Z</dcterms:modified>
  <cp:revision>22</cp:revision>
  <dc:subject/>
  <dc:title>Finanční arbitráž</dc:title>
</cp:coreProperties>
</file>