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DE4E-FFCA-4617-8872-6BBF6A86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98CC-77B8-4DF6-9289-8CA865AB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3861-11DB-46D3-9E56-02BAD6AB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6551-C182-4DCB-9ABE-B7695371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B39D-A574-4783-9368-4D753220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C357-714D-4882-9DE0-EA7CCFAD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5480-CF31-465B-AC43-DA25C2A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9ACB-94F3-4227-A14D-0CCE66E6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6637-0C4C-4912-97A5-414AA11D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12A8-7E34-426B-92DE-CF2B1340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B8A4-8549-41AA-A021-803089F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5760-8545-499E-9CDF-3B3D77A4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04A0-E0DE-43B9-88BC-AA7C6C68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91A0-4D34-4A4F-BE4C-B774D819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8B39-F13D-4B72-A63B-95038259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6A41-19A2-491D-8A36-92C0A972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5326-0E35-4376-96B0-C1FCE088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01A5-0216-4AEA-8122-7EB6ABEF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4836-BCE2-41B1-B544-8C41EABD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B604-190A-43E1-82D6-59005A24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8B14-9ED5-46CE-8D5C-900E04FB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162F-E13F-4B5D-B9DA-5CAC3D3B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57AF-755F-4DEF-9E2B-6F8487A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4EED-C46B-44C9-835C-E47ABDBA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8DE7-42E8-4A7B-9C6A-8F19624EAB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9576-EF46-4C65-97B8-8E710C61E1B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uj-bankrot.cz/dokumenty_k_oddluzeni" TargetMode="External"/><Relationship Id="rId2" Type="http://schemas.openxmlformats.org/officeDocument/2006/relationships/hyperlink" Target="http://www.penize.cz/exekuce/18830-osobni-bankrot-petileta-cesta-z-dluh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9640" y="4221000"/>
          <a:ext cx="7561440" cy="16639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roveň požádá, aby její úpadek nebo hrozící úpadek byl řešen formou oddluž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je ochranou před exekutor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ekuce, mohou  soudem nařízeny, ale nemohou být vykoná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řitelé musí přihlásit své pohledávky za dlužníkem v rámci insolvenčního říze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rozprodáním majetku dlužníka ne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splácením podle věřiteli schváleného splátkového kalendář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ou je, aby  bylo splaceno alespoň 30 % celkového dluh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zaváže do 5 let uhradit maximální možnou část dlu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 výši jednotlivých splátek rozhodne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usí zůstat životního  minim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musí pracovat, aby měl dostatečný pravidelný příj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ým soud splátkový kalendář nepovol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případě neplnění stanovených povinností může soud zrušit souhlas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oddlužení se musí podílet manžel, manželka, pokud nemají zúžené a vypořádané společné jmění manželů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šichni dlužníci, kterým soud osobní bankrot povolí, vedeni v  insolvenčním rejstří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řejně přístupný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něm  všechny důležité úkony spojené s osobními bankro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 ukončení insolvenčního řízení soud dlužníka ze seznamu vyškrt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dstaty osobního bankro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, podmínky, návrh na oddlužení, způsob oddlužení, splátkový kalendář, zrušení, insolvenční rejstř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osobní bankr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y osobního bankro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na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působ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Zrušení souhlasu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Insolvenční rejstří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1"/>
              </a:rPr>
              <a:t>http://www.muj-bankrot.cz/dokumenty_k_oddluz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2"/>
              </a:rPr>
              <a:t>http://www.penize.cz/exekuce/18830-osobni-bankrot-petileta-cesta-z-dlu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16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dlužení fyzických os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ákona č. 182/2006 Sb., o úpadku a způsobech jeho řešení (insolvenční zákon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 má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íce věřitelů (nejméně dva)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ité závazky, s jejichž úhradou je více než 30 dnů v prodlení po splat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schopen tyto závazky plnit (tzv. platební neschopno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dluhy z podnik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yzická osoba, která není podnikatelem, podá soudu na speciálním formuláři návrh na prohlášení insolv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se podává na krajský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znam majetku a seznam závaz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klady o příjmech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ísemný souhlas nezajištěného věřitele (= dostane méně než 3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18Z</dcterms:modified>
  <cp:revision>18</cp:revision>
  <dc:subject/>
  <dc:title>Osobní bankrot</dc:title>
</cp:coreProperties>
</file>