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094-91E6-4E1E-9A8B-AB856884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058-6FF9-4D8B-A9EC-CC9AFBE4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059-4520-4A32-99BE-517D95F3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DB8-F575-42CF-94CF-D020F28C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6A7A-FF2C-45BD-A741-86CCDD86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36F1-4078-4CF1-B627-6B182725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98C-8441-4546-B2C0-4C0D47EF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761C-D413-43E9-A4B7-44B1C4F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63EF-1E3D-460D-A3E0-179897EF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94A2-4B80-45FB-84EB-EA0646EA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2F4D-1F32-4B8A-94F0-26D210CA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65B-D7FA-4181-B870-73F03343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E51C-CE57-4D29-B460-D7F520A9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DAAC-A20C-49F2-A192-37A7111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67A9-C114-4B5C-A947-3D34BE70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0475-9F9C-4536-95C9-FD8C02DF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5770-62F1-4CF3-9CB1-C558BA5D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644-2B45-47FF-BD34-7B026B9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CE3-574A-4998-A075-726E70AF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0FB-0373-4D0D-BC01-5EF540C8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7B4-07E8-48E6-80D1-D33C5857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F01-5BAC-428E-878C-197B117A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CE6-FA1C-419E-9016-AD451D7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7AD-AF4C-4514-ADFC-11350DEE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A35D-6F9C-47C5-A0D3-ADC7FABF036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0867-DDBE-4CD8-923C-6B1BAA27F94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 na dobu určitou s  předem stanovenou úrokovou sazb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je vyšš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ankce za předčasný výb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na 6 let s výhodným úrokem a státním příspěv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 spoření není omez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poskytnut výhodný úvěr k potřebám bydl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spořící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ody běžného účtu a termínovaného vklad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 úročen vyšší úrokovou sazb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(některé s výpovědní lhů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ývá doplňkem běžného účtu (přebytečná hotovost se převed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zákona pojištěny neanonymní vklady u bank a družstevních záložen, u Fondu pojištění vkladů do výše ekvivalentu 100 tisíc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u poboček zahraničních bank na našem území pojištěny za stejných podmínek v mateřské ze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anonymní v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jméno, adresu a datum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rození vkladatele u fyz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obchodní firmu nebo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zev, sídlo a IČO u právn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patření proti praní špinavých peněz</a:t>
            </a: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identifikaci klienta se zpracovávají identifikační údaje fyzických osob i osob jednajících za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ce se provádí zpravidla při osobní přítomnosti klienta a na základě platného průkazu totož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utrální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atří do rozv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y, při nichž banka nevystupuje ani ve věřitelském ani v dlužnickém postav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šechny poplatky a provize, které neovlivní rozva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platky ze směnárenských činností a devizových opera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jímání a vydávání peněz, výměna peněz poškozených, prodej pamětních mincí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kazy k inkasu a k úhr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 (úschova a správa cennosti za  popla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užby poradens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u 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řící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ní kníž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 vklad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atření proti praní špina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utrální obchody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447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sivní a neutrál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vkladových produktů bank, neutrální obchody ba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ěžný účet, vkladní knížka, termínovaný vklad, spořící účet, pojištění vkladů, neutrál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agační materiály ba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asivní a neutrál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asivní bankovní obcho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, v rozvaze na straně pasiv, banka v postavení dlužníka, klient v postavení věř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plácí úroky (náklad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termínovaný účet, běžné vklady a výb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 hotovostní a bezhotovostní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vazují další produkty – platební karta, 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dka odlišná pro občany a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úroč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pomocí příkazů k úhradě nebo k inkasu (papírová nebo elektronická form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tovostní platební styk na přepážce nebo pomocí bankoma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 doklady totožnosti u občanů, doklady o existenci firmy- podnikatel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čáteční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á smlouva (úročení, poplatk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ový vz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pisy papírové nebo elektron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starší forma spoření u nás, dříve anonymní, dnes na jmé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, vedení, vklady, výběry zda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duchá obsluh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ehled o zůstatku na vkladní kníž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 výpovědní lhůtou – vyšší úrok, ale je třeba při porušení termínu sank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– výběr kdy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erní – není úročena, slos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ětská vkladní knížka – s výpovědní lhůtou, zvýhodněné úroky, do 18. roku vě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9:51Z</dcterms:modified>
  <cp:revision>25</cp:revision>
  <dc:subject/>
  <dc:title>Bankovní obchody</dc:title>
</cp:coreProperties>
</file>