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003-F016-4581-A004-E17D9CC7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426-0AC4-4963-A7D4-EA83FDB6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76E-B2FB-45DA-9457-63F2B3CB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40B-884A-4E57-B1A6-4B1325A8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602-CC58-4455-B4B2-3FBCCCEC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9815-AD66-4BB1-9EF7-BE9CAE71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E97-B367-4BA7-9300-7499CEE2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B923-6708-4824-8F64-8AFCCAED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0021-81AD-44F4-A2D1-325C5294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51DF-4B3D-4A7F-970E-9C42A475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8BEE-43E9-4B99-9579-5F6946B4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560-85D5-46AC-894E-428546E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27D3-3F04-445E-8716-CA36BA1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FD34-62E0-48C4-BAE8-6C5AAD36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D886-9E5B-44A0-9C21-E816CC5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5943-26AE-41F2-A10C-6FE56FB4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774-7D26-44A9-9836-D04F31F2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9B6-5A73-412E-998B-EF91089A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D63-E7AC-4012-A8A7-EBF2034D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06D-789F-4EB6-8F63-956AF740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E69-FDEF-4DEC-A9C6-028FEE3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0DE-C203-40F4-B263-4ACEF05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C8C-9975-4953-9E31-5117300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9A2-E82E-456A-9AE3-984BD131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1E6-BC05-42F4-A502-1AFC915CB47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9A21-8B23-42D3-90EF-8ADE882FD37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1628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elik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lé – do 5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řední – do 50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– v zahraničí pobočky, v mateřské zemi centrá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uzemské – centrála i pobočky v tuzems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onál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funkce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pozitní (vklad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latebního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ládání a vede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domácí i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ka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840" y="164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árenská činn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vizové oper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ů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radenské služb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inka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bankovních  záru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zijní připo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likvidi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schopnost vrátit 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hotovostní peníze a vklady na úč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vklady u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cenné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úvěry od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ziskov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ýnosy vyšší než ná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nosy – úroky z úvěrů, poplatky, prov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– úroky z vkladů, mzdové náklady, náklady na energie, vybavení, nájem, odpisy, provoz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itř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ředčíslování dokladů, klíčový režim, dvojí podpis, kamery, bezpečnostní služ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ějš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audit, kontrola ČNB, kontrola finančního úřadu, zpráva o hospoda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é - riziko nesplacení úvěrů ze strany kli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é  - riziko vyplývající ze změn úrokových sazeb na finančních trzí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é  - riziko ztráty ze změn kurzů mě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y a jejich postavení v ekonom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banky v ekonomice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působ fungování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a, základní funkce, bankovní soustavy, členění, zásady, rizika, hodnocení, marketing, 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ové riziko - nejistota vývoje cen akci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likvidity - riziko neschopnosti dostát aktuálním splatným závazků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 způsobených lidským fakto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selhání informačních systém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í rizik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špatného obchodního záměru, chybného marketingového rozhodnu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y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tržní -  ze změny cen na trh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ýše poplat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stup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vality person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lasifikace pohledávek ( 5 skupin  pohledávek podle splácení – standardní, sledované, nestandardní, pochybné, ztrát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úvěrové angažovanosti – limity poskytování úvěrů jednotlivcům, skupinám a ostatním banká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apitálové přiměřenosti – poměr mezi kapitálem a rizikovým aktivů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banky (solventnosti)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chopnost, stanovena ČNB, povinné minimální rezer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 v bankovnictv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rketingová strategi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důležitější je přání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zený produkt musí vycházet ze znalostí o trhu a klien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by měla předvídat měnící se požadavky na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ový mix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ora prode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y produk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istribuční míst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iv politického, sociální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konomického prostředí a konkur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bank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údaje o banká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i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tický kode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ady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a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8.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dnocení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9.  Marketing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0. Marketingový mix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Bankovní soustav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Banky a jejich postavení v ekonomic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instituce, která přijímá vklady, poskytuje úvěry a zprostředkovává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ická os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usí vlastnit licenci k provozování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soustav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úrovňová – jedna nebo několik málo bank, z nichž jedna plní i úlohu banky centrál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vouúrovňová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stupeň: centrální ba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stupeň: obchodní (komerční) bank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bank podle Zákona o bankách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ovlivňována ČNB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udělení licence rozhoduje ČNB v dohodě s MFČ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je akciovou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K banky musí být minimálně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00 mil.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vady v činnosti banky důvodem pro udělení pokuty, nucenou správu, odebrání licen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Etický kodex Č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sah kodex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ecné zásady chová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 pracovníka k bance, v níž j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á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y a jejich zaměstnanc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e klien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 navzá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produktů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niverzální – všechny 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alizované - prodej pouze určitých bankovních produktů (např. stavební spořitelny, hypoteční banky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10:29Z</dcterms:created>
  <dc:creator>kabek</dc:creator>
  <dc:description/>
  <dc:language>en-US</dc:language>
  <cp:lastModifiedBy>Igor</cp:lastModifiedBy>
  <dcterms:modified xsi:type="dcterms:W3CDTF">2014-09-13T14:48:19Z</dcterms:modified>
  <cp:revision>25</cp:revision>
  <dc:subject/>
  <dc:title>Banky a jejich postavení v ekonomice</dc:title>
</cp:coreProperties>
</file>