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C2E-860D-4C3C-9362-6C5115E8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CF8-3D9E-44DE-85F1-6B34C5CF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D91-62AC-4887-B67B-9C467B07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CA8-993E-45F7-B4AE-B3961A4A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862F-8C2B-4E30-9C48-C68375F2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00F6-D283-476D-8537-FCA2543C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6D09-5E9A-41E5-A3EA-C6B9640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CD5B-2236-4732-8058-049D1DDD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EA5-BE1F-4071-96FB-453027DE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1541-105A-4E67-AD6E-77F86763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29AF-EEDF-43C2-8CE8-37A52D09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98E-CBF2-4A8C-9D79-A49746C4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FE91-EF68-4397-8528-BA9078ED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4AD6-9F1F-45F8-A796-2AD1B9E6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C2AB-1F80-4012-BB8D-0B682387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689F-2D27-45C6-9FF7-1E7ED167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B87A-9677-4468-A4C6-AB6945B1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D6E-531F-4DB1-B886-94A2952D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DC8-C4CC-4B55-92AE-D74C7FD8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E1F-C6AF-417C-9F09-EC063ADA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4D5-B584-4E35-BEBD-13E0C72D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C3A-30C4-4BFA-BBB0-AC02D6F5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3C7-A994-4ECC-B04D-BD057849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B0B-1F0D-4F1D-80DC-E2E3CCAE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B1CA-6F1E-4AB6-A41C-D347ED29EB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1ECF-C5F5-422C-A089-AA10972A9A7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068640"/>
          <a:ext cx="7561080" cy="64764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4005360"/>
          <a:ext cx="7561080" cy="162720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inanč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řízení majetku bez nutnosti mít cel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látkový kalendář – rozpis splátek po dobu trvání leasing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Operativ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nci sjednaného období nedochází ke změně vlastnických vztah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jemce platí běžný náj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tšinou krátkodob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dej nebo zpětný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prodá bance majet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zavře s bankou smlouvu, že tento majetek bude užívat po sjednanou dobu za jednorázovou platbu nebo na splá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acto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orfa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stata leasing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ční lea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perativní lea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3755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tatní platební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hled ostatních platebních nástrojů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toring, forfaiting, lea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Ostatní platební nástro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kup krátkodobých pohledávek před datem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měna věř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louva o faktoringové spoluprá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loha 60 – 90 % z pohle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ový poplatek a 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uzemsk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portní (vývoz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mportní (dovoz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rizik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 s rekurzem (regresní) – riziko nezaplacení  zůstává na klient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 bez rekurzu (bezregresní) – riziko nese ban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orfa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kup  pohledávek před datem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ávky zajištěny jinou ba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těny směnkou, dokumentár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kreditivem, bankovní záru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ávka ihned proplacena s určitou sráž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poskytuje banka pří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prostřednictvím dceřiných společ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ilná konku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asing finanč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asing operativ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dej nebo zpětný lea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inanč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jemce platí pravidelné splátk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vní zvýšená splátka (akonta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nci sjednaného období dochází ke změně vlastnických vztahů z pronajímatele na nájem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= finanční pronájem s následnou koupí najaté věc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40:22Z</dcterms:modified>
  <cp:revision>25</cp:revision>
  <dc:subject/>
  <dc:title>Platební nástroje</dc:title>
</cp:coreProperties>
</file>