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215-FBDB-418F-8838-FF06C7F2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163-C0D5-4E0A-9BC3-DE698EC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204-20F7-4105-893E-A0F98FBA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428-7C9F-435E-88CF-31B16011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E129-A17A-4DF8-879B-F19E3985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DA9A-EF7E-4016-9E6C-41B39CED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75A-9FDC-4BD2-A4C6-E6517782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38F4-4F8A-4A06-B519-CAE3BCE0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6F3-6F67-4737-A994-B50149EC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3CBF-5670-4649-9082-94897D0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4586-AEE5-479C-828A-3A99E3B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328-13A2-4362-AA27-89273FC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B7AB-DE68-4D2C-A32A-958A430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D702-4D4F-40D6-8521-E384B357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05EE-66A6-4FA6-88BA-59C4F2D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9D94-8ED4-4B8E-A92D-3DB2D4BE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2C6E-5ABF-46F8-94D4-FDA876C4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AC6-ECF8-4252-BDEB-6FB09D52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ACD-10E5-4CC4-B6AD-51831EB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57B-BE9A-4F0D-8516-FDCB4340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71F-516D-4840-B180-1F9FC6D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77E-BD0C-4A27-A187-6890E592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070-051A-4188-BFFA-F690978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E4B-A624-467E-9BB0-E6A71A8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CB1-1360-499D-AAA8-3F4D5B3FBF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55F-92C7-468F-9CBA-238308AD9E1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284640"/>
          <a:ext cx="7561080" cy="576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149720"/>
          <a:ext cx="7561080" cy="1698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ciz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5637_l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listiny jako směnka  v nadpisu i v text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částku uvedenou ve smě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 – u směnky vlastní je to výstavce, u cizí směnky směne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atnost směnk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sto, kde má být placeno -  není-li místo uvedeno, místem placení je uvedené sídlo nebo bydliště směneční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lastnoruční podpis výstavce pod textem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musí být předložena k proplacení majitelem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povinností dlužníka majitele vyhledá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odepření placení musí být sepsán písemný záznam – protestní list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testní listina -  zákonný důkaz o nezaplac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vydat soud, notář, ob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d na směnce doložka „bez protestu“, pak bez protestní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leduje soudní ří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é řízení u soudu rychlejší a jednodušš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čí předložení směnky u so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ůkazní břemeno na obžalovan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zkoumání listin soud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ý platební rozkaz (splatnost nebo námitka 3 dny od doruč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omocný rozsudek lze vymáhat exekuč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 proti přímým dlužníkům 3 roky, pak nárok zani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skontní úvěr – odkoupení směnky bankou před datem splatnosti, částka snížená o úrok (diskont) a poplatek bance (eskontní proviz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eeskontní úvěr – odkoupení eskontované směnky před datem splatnosti od banky centrální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učitelský (avalský) úvěr – banka se zaručuje směnkou zaplatit za svého klienta v případě nesplácení 3. osob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ombardní úvěr – úvěr u banky zastaven smě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gociační úvěr- obdoba eskontního úvěru v zahraničním obcho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akování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akteristika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a směnka ciz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upravujíc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 při nezaplacen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rotestní list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její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směnka vlastní, směnka cizí, použití, náležitosti, protestní lis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směnečný a šekový č. 191/1950 S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věrový cenný papí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psaný v přesně stanovené form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dlužnický závazek, který dává majiteli směnky  právo požadovat ve stanovenou dobu stanoven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eskontního nebo obchodního úvě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placení a ruč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hotovosti před dobou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ástí dokumentárního akreditiv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izí zdroj  financování fir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směn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– bezpodmínečný příslib dlužníka zaplatit a obsahuje slovo „zaplatím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cizí ( trata) – bezpodmínečně přikazuje jiné osobě, aby byla směnka uhrazena a obsahuje slovo „zaplaťte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vlast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5676"/>
          <p:cNvPicPr/>
          <p:nvPr/>
        </p:nvPicPr>
        <p:blipFill>
          <a:blip r:embed="rId1"/>
          <a:stretch/>
        </p:blipFill>
        <p:spPr>
          <a:xfrm>
            <a:off x="826920" y="1844640"/>
            <a:ext cx="741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47Z</dcterms:modified>
  <cp:revision>38</cp:revision>
  <dc:subject/>
  <dc:title>Platební nástroje</dc:title>
</cp:coreProperties>
</file>