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FAC1-C61F-440D-8B9E-63FBA13E13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C2A8-D375-4E83-B02C-CBD67E788F2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F07-6CC3-4A52-8E3B-10D3EDF8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FD4-8C35-40F1-8BF1-773E6930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F21-5D51-45BA-9115-5660399B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537-943C-4D36-9D98-41E33797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E8BD-EEF5-4B28-BD78-1FD09114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F969-7765-4962-B497-F72C6210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10DE-A154-4A91-A1C1-4FA6454B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BCA4-34C4-49D3-A904-2CEFEDDA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DE06-D9B8-42E6-86D8-BA58B046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1E60-FE63-415C-B479-C05D02C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7A98-B0BC-4C32-B03C-75577699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02C-5415-470E-A011-39769A1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B4F9-5C0E-4952-B66C-9F72F598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C15-82E6-4BB9-8BE1-EE7EC23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DF0-5FA3-4545-A837-86BFF83D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56C0-6DFD-4A03-A631-57CA5211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90B5-57DF-4238-9AEE-BD75CC38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75A-1652-4D33-BD70-2F510FD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F4A-3B38-4FC9-AF9E-EF10086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75A-A9BF-482C-B924-C0B765A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282-D115-4027-B093-F0A4C24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CCD-CCA2-433C-A98A-0D86B6A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422-A24A-492A-AF2E-725C34AF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3A2-0FF9-41B8-8E0E-E3A5BF60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D0DF-3722-4BE8-ADD8-F3675170BF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2E20-3AC6-4F02-9D1C-1A786805114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as.cz/banka/nav/osobni-finance/servis-24-mobilni-banka/o-produktu-d00019607" TargetMode="External"/><Relationship Id="rId2" Type="http://schemas.openxmlformats.org/officeDocument/2006/relationships/hyperlink" Target="http://www.csas.cz/banka/nav/osobni-finance/servis-24-mobilni-banka/o-produktu-d00019607" TargetMode="External"/><Relationship Id="rId3" Type="http://schemas.openxmlformats.org/officeDocument/2006/relationships/hyperlink" Target="http://www.kb.cz/cs/lide/obcane/ucty-a-platby/internet-telefon-mobil/mobilni-banka.shtml" TargetMode="External"/><Relationship Id="rId4" Type="http://schemas.openxmlformats.org/officeDocument/2006/relationships/hyperlink" Target="http://www.csas.cz/banka/nav/osobni-finance/mobito/o-produktu-d00018799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3068640"/>
          <a:ext cx="7561080" cy="5763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11280" y="386064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kredi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řes mobilní peněžen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ychlé zaplacení v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ýkoliv počítač připojený k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rizace plateb = bezpe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ování pohybů na úč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jednání úvěru, kontokorentu, platební karty nebo pojišt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mobi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limitu pro platby kartou na internetu a pro výběry hotovosti v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, pojistné a složenky elektronicky (e-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é grafické ztvár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remní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ojení s bankou pomocí internetu a nainstalovaného speciálního progra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karta s elektronickým podpisem (nutná čtečka elektronických kare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 a složenek (aktivace elektronických faktur, e-faktura = předvyplněná 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rzovní lís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účetních programů podporujících home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výhody jako internet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irtuální platební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šestnáctimístné číslo (+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 platnosti a kontrolní kód CVC/ CV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 -zámeček, údaje obchodníkovi šifrova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é po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nto způsob není příliš  oblíben, strach ze zne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a musí být pro placení na internetu aktivována v bance, nastaven limit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a internetových obchodů podporuje systém 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e o kartě (číslo karty, datum platnosti, CVV/CVC kód)poskytuje přím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ý kód pro autorizaci plat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57200" y="1628640"/>
          <a:ext cx="8229600" cy="4748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ktronické bankovnictví a elektronické platební prostřed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elektronického bankovnictví a elektronických platebních prostředků, použití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efonní, mobilní, internetové bankovnictví, homebanking, embosovaná karta, elektronická peněženka, PayPal, PayU, PayS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 společnosti založit účet, na něj převést např. z běžného účtu určit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pojit se svou embosovanou platební kartou aktivovanou pro placení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možno platit i platby přijí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ící společnost si strhává poplatky, platí je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placení v internetových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chodník musí být přihlášen do systém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 platbě propojení obchodníka s platební bránou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azník platí přes internetbanking nebo embosovanou  platební kartou aktivovanou pro 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latky provozovateli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Elektronická peněžen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banky složí hotovost do peněženky = neúročený plovoucí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obchodníkovi z tohoto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internetem, mobi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se dají z peněženky vzít zpě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aySec, Mobito……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meban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na internetu – embosovaná platební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cení na internetu – elektronická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en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Placení na internetu –  PayPal,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Vyhledejte další systémy placení 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Zdro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csas.cz/banka/nav/osobni-finance/servis-24-mobilni-banka/o-produktu-d000196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bdélník 4"/>
          <p:cNvSpPr/>
          <p:nvPr/>
        </p:nvSpPr>
        <p:spPr>
          <a:xfrm>
            <a:off x="411120" y="2565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kb.cz/cs/lide/obcane/ucty-a-platby/internet-telefon-mobil/mobilni-bank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csas.cz/banka/nav/osobni-finance/mobito/o-produktu-d000187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bdélník 5"/>
          <p:cNvSpPr/>
          <p:nvPr/>
        </p:nvSpPr>
        <p:spPr>
          <a:xfrm>
            <a:off x="372960" y="34876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nav/osobni-finance/servis-24---internetbanking/o-produktu-d00019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content/inet/internet/cs/faq_ie_12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s://www.erasvet.cz/pravnicke-osoby/ostatni/stranky/firemni-bankovnictvi-max-homebanking/popis-produktu.a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finance.idnes.cz/nejbezpecnejsi-platby-kartou-na-internetu-nabizeji-tri-banky-pu5-/bank.aspx?c=A110914_143118_bank_b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s.wikipedia.org/wiki/Pay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Elektronické bankovnictví a elektronické platební prostřed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lektronické (přímé) 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 (tel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 (mobil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internet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mácí bankovnictví (hom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latné zákaznické telefonní li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éř nebo automatická hlasová služ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tup k účtu 24/7 z tuzemska i zahrani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tuální přehled o zůstatk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SMS, e-mai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ntrola pohyb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operace zadané telefonicky levnější než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á bezpečnostní hesla pro komunikaci s bankou (S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Phone, iPad, iPod touch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íc funkcí, tím širší nabídka služ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plikace internetového bankovnic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pojení kdekol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hlížení stavu a historie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hledání nejbližší pobočky nebo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enování složen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nanční úspora (levnější příkazy než na poboč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á grafika aplik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ná bezpečnostní opatř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pisy z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stavení vzhle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21Z</dcterms:modified>
  <cp:revision>47</cp:revision>
  <dc:subject/>
  <dc:title>Platební nástroje</dc:title>
</cp:coreProperties>
</file>