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476-39BD-4E32-8DC6-78C7E6F7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B766-0395-4DB7-83AB-2CB870AD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63E0-588B-4AEE-A832-73E5FA9E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A9CD-6684-4445-9961-551DD43D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4F3D-92B7-4527-8C2A-067E6DF3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5675-C363-4E56-9AD7-D1EF9404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3769-1412-4767-9B92-63EE3AB9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5896-3334-459C-9CAD-D280EE55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BB2B-5B28-4FF6-8F31-A663FAB8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4749-C7AA-462C-B310-E3C4B78C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99C8-C7C0-4ED2-8341-FB6D7A62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7EC-049C-4549-8314-C6EB7C2E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CBFF-BBEE-4655-9440-4861229C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0472-2C55-491D-96EE-E3F03E31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3CCB-8E85-46D3-9F14-7A07AA73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8024-D0B0-4188-9CC3-56FF9965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6946-E9D0-4D2B-A802-2C4FFAF4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EED9-7139-437C-B262-D18D73DF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C95-A648-4884-91A1-A00A7EEC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003-B2D5-4A89-B9CD-F4C87085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4C0-6FF3-4454-A674-8A676E63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06C8-2F04-49DF-8325-1345004B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DA3-BF13-44A6-BA66-B0BC3C1A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E3E0-88B4-4032-9D54-D8E047D2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0665-B4B1-40F6-8F39-2536ED91F2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8626-19E5-4737-B0BD-3E1611207E3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295600" cy="1295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11280" y="3068640"/>
          <a:ext cx="7561080" cy="50472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11280" y="3860640"/>
          <a:ext cx="7561080" cy="162720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2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ležitosti šek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značení „šek“ v textu listiny v jazyce, ve kterém je šek vystav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podmínečný příkaz zaplatit určitou peněžní sumu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méno toho, kdo má platit (šekovní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ležitosti šek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daj místa, kde má být placen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ní-li uvedeno, je to sídlo šekovní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tum a místo vystavení še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pis výstavce v souladu s podpisovým vzorem B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a může požadovat další údaj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stovní še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měle vytvořeny pro potřeby cestovního ruch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jsou to skutečné šeky, nevztahuje se  šekové prá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praveny Obchodním zákoník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stovní še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upují se, proto plně kry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dávány velkými bankami a finančními instituce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 světových měn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zaokrouhlených nominálních hodnot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Otázky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ýznam a charakter šek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č u nás nejsou šeky příliš rozšířené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eky bankovní a soukrom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kon upravující šek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voditelnost šek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estovní šek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KON Č. 191/1950 Sb., ZÁKON SMĚNEČNÝ A ŠEKOV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ovelizace č. 29/2000 S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57200" y="1905120"/>
          <a:ext cx="8229600" cy="4238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ek, jeho význam, použití, druh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ek, šek bankovní, soukromý, převoditelnost šeků, náležitosti, cestovní š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Š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Š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rátkodobý cenný papír, který obsahuje bezpodmínečný příkaz výstavce šeku bance (šekovníkovi), aby vyplatila z jeho účtu oprávněnému majiteli šeku peněžitou částku uvedenou na še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Š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praven Směnečným a šekovým zákonem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. 191/1950 Sb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cházejícím z Ženevských konven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ovelizace č. 29/2000 Sb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má přímého dlužní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ždy splatný na viděnou 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šeků podle osoby výstav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y bankovní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stavuje banka na žádost svého klien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u plně kryt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a ho vystaví až za něj klient zaplatí z účtu nebo v hotovost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šeků podle osoby výstav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y soukrom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stavuje soukromá osoba - klient, který má v bance vedený úč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stavován na předtištěném formuláři v tzv. šekové kníž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šeků podle způsobu převoditelnos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 na řad 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 na určitou osobu, převod  indosamentem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 na jméno 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 jméno oprávněné osoby, nelze indosov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 na majitele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-  majitelem šeku je osoba, která  šek momentálně vlast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šeků podle způsobu použit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okladní šek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k výběrům hotovosti z ba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 k zúčtování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 - šekovník ho může vyrovnat jen bezhotovostně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na šeku uvedeno „jen k zúčtování“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38:46Z</dcterms:modified>
  <cp:revision>25</cp:revision>
  <dc:subject/>
  <dc:title>Platební nástroje</dc:title>
</cp:coreProperties>
</file>