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485-EC0B-4DD7-919C-9A9DBFEF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3AB-3E9E-4EFB-8204-841E6538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671-D3E4-4ECB-AB36-01BC186E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290-0501-49B9-AF5C-1C07BCCA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4B61-1A36-49E5-9C95-A59E7251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FF3B-E583-4467-A70E-94F971F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8E4D-4F73-4F07-8501-AB43E26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4C1A-7316-46BE-BB82-ED348F5B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96DF-9AE7-419E-84AF-145F8DD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F706-E2EE-4F7C-AEE5-F482520B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BA3E-D4B6-470E-B191-566558B7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DFA-6FB0-4FE6-A3BD-3FC2A444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6747-E1D1-4BA3-8E2D-C5E819E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C932-720A-458E-8953-36CF898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4BDE-4689-4E03-87D2-99073F5C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2614-78EF-4052-AF56-E09CEBA0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3C32-17FC-44EC-AF21-D73B3628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227-493E-40F0-AE4C-4E39B3F8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305-308F-4CA0-8E6E-2E0E42E1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B89-A83D-40A5-86AA-FF30864B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2D2-861A-44E8-A941-533EBD9A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DBA-9C27-48C1-8D62-3E2DCED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E46-3F70-4538-9BEF-975BBAC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E18-783B-4E06-A79E-8422380A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1E3A-44E3-4ECF-A3FD-E86F0EF922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5413-2659-4C67-A7CF-D5F3192954C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2852640"/>
          <a:ext cx="7201080" cy="720720"/>
        </p:xfrm>
        <a:graphic>
          <a:graphicData uri="http://schemas.openxmlformats.org/drawingml/2006/table">
            <a:tbl>
              <a:tblPr/>
              <a:tblGrid>
                <a:gridCol w="1508040"/>
                <a:gridCol w="1440000"/>
                <a:gridCol w="1509840"/>
                <a:gridCol w="2743200"/>
              </a:tblGrid>
              <a:tr h="78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789360"/>
          <a:ext cx="756108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užité technologi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gnetický proužek – v něm údaje o účtu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technologie – údaje ukryty v čip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ybridní karty -  magnetický proužek i č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karetních asociac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merican Exp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iners Cl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ash  back – hotovostní výběr na pokladně obchod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– brandová karta – vydána ve spolupráci s obchodníkem, u kterého jsou při placení touto kartou výh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říbrná, zlatá, platinová karta – k účtům s vysokým zůstatkem, za kartu vyšší poplatek, výhody: cestovní pojištění, odtahová služba ap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dotyková – pro platbu do 500,- Kč varianta embosované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platební ka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ý platební terminál – zúčtovací cen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chanický snímač (žehlička) – pouze pro embosované platební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pážky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o internetu – aktivace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kamžité oznámení bance telefonicky nebo na  pobočce banky (důkaz o oznámení -  zákazový kó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okamžiku oznámení karta zablokována (blokace – u elektronických karet, stoplistace – u embosovaných karet), poplatek dle sazebníku, může být i zdar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Zablokovaná karta se dostane na stoplist – seznam zakázaných kar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Odpovědnost od okamžiku oznámení nese banka, někde spoluúč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Žádost o novou platební kar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Nalezenou ztracenou kartu odevzdat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žnost pojištění zne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debetní, kreditní, charge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podle potisk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druhy kar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tráta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sobní účast na školení o bankovních produkt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platebních kar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, debetní, kreditní, charge, embosovaná, elektronická, cash back, co-branded, blokace, stoplista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troj k bezhotovostní platbě, který vydávají fyzickým i právnickým osobám nejčastěji banky (nákl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placení v obchodě nese obchod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 výběru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e vkladu do bankomatu (vkladomatu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betní – k běžnému účtu, vybírá se do zůstatku na účtu, možno zřídit k účtu kontokorent ( krátkodobý úvěr, vybírání do sjednaného úvěrového rám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editní karta 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ge karta – k úvěrovému účtu, vyúčtování na konci měsíce, bezúročné období pro splacení  celé částky do konce následujícího měsíce, jinak vysoké ú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kupní úvěrové kar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karty - hladký potisk (ident), slouží pro výběr z bankomatu, placení u obchod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</a:t>
            </a: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bosované karty - s tzv. reliéfním (plastickým) písmem, pro výběr z bankomatu, placení u obchodníka, navíc v mechanických snímačích a pro platbu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17Z</dcterms:modified>
  <cp:revision>35</cp:revision>
  <dc:subject/>
  <dc:title>Platební nástroje</dc:title>
</cp:coreProperties>
</file>