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951FB-9F32-49FA-A86D-F1D6474471BB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CB28B-73CC-418A-8014-EA8236D5D7BB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1C4F-EE47-4100-898D-EC7A7D9A5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AC91-0956-4C6C-9885-0F1471659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879A-E362-401D-9775-A9915F41E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CECB-8AB7-4229-B513-EDBD70C66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9E3D5-C98D-4343-AD9A-DF4DA03B1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4A348-348D-4D2A-A4DF-EA9AB476C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274F5-634A-458E-8D57-68030CA5D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3C534-C42B-4B30-B77A-FF1ADD390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41A6F-CB0E-41DD-9BD8-A5563C7FE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026C6-6DC7-4E1A-9C3E-5650B63EC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18388-F38F-492F-A4CA-0A7C69D0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304B-BC90-4AB7-9B2B-589B2E9F7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D9D87-C210-4F4A-9BC1-167EC08D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360DB-D4E9-4F8C-AF74-7EF84A42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B5D52-0C14-4A0D-885B-A0F8BDD38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A7232-F153-41DF-B5BD-D5DB2F4C6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7FB30-6263-4F6E-81DC-B59012FC6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C0CB-51E2-46A8-A7F5-CBE0F13E5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474C-EA4B-400E-92D4-8728BAFC0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5708-534E-433D-9A0B-2B334D0D5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864E-F2F6-481B-8133-AD76815CF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2B2A-73FE-43F3-8952-9CDFC7C8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EC42-4743-418A-A2DA-BEF2694F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BFE7-DFFA-4676-95E5-75B22219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344AA-A019-474B-8902-1E365BFEE405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2ACC6-97EB-480F-84BF-B4CCDF67A35C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csas.cz/banka/nav/podnikatele-firmy-a-instituce/podnikatele-a-male-firmy/dokumentarni-inkaso/o-produktu-d00010045" TargetMode="External"/><Relationship Id="rId2" Type="http://schemas.openxmlformats.org/officeDocument/2006/relationships/hyperlink" Target="http://www.finance.cz/zpravy/finance/214007-bankovni-zaruky-aneb-jak-snizit-podnikatelska-rizika-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1908000" y="189000"/>
            <a:ext cx="5295960" cy="129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Výukový materiál zpracován v rámci projektu EU peníze školá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11280" y="3357720"/>
          <a:ext cx="7561080" cy="50292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08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611280" y="4149720"/>
          <a:ext cx="7561080" cy="1836720"/>
        </p:xfrm>
        <a:graphic>
          <a:graphicData uri="http://schemas.openxmlformats.org/drawingml/2006/table">
            <a:tbl>
              <a:tblPr/>
              <a:tblGrid>
                <a:gridCol w="3600360"/>
                <a:gridCol w="396072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7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-41-M/02  Obchodní akadem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5/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Dokumentární inkas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častníci platby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odavatel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anka dodavate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anka odběratele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dběrat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Dokumentární inkas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Inkasní podmínky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ydání dokumentů proti zaplacení 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ydání dokumentů proti akceptaci  směnky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ydání dokumentů proti otevření bankovní záruky apo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Dokumentární inkas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1. 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uzavření obchodní smlouvy mezi dodavatelem a odběratele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2.  zřízení dokumentárního inkasa u banky dodavatele a předání dokumentů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3.  mezi bankou dodavatele a odběratele předání inkasních příkazů a příslušných dokument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Dokumentární inkas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4. dlužník je informován o přijmu dokumentů a o inkasních podmínkách</a:t>
            </a:r>
            <a:br>
              <a:rPr sz="3600"/>
            </a:b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5. příslušný  inkasní úkon</a:t>
            </a:r>
            <a:br>
              <a:rPr sz="3600"/>
            </a:b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6. předání dokumentů</a:t>
            </a:r>
            <a:br>
              <a:rPr sz="3600"/>
            </a:b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7. inkasní plnění</a:t>
            </a:r>
            <a:br>
              <a:rPr sz="3600"/>
            </a:b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8. vyzvednutí zbož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 závazku je dlužník (odběratel)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Dokumentární akreditiv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1.  mezi vývozcem  a dovozcem   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uzavření kupní smlouvy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2.  dovozce požádá svou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banku  o otevření akreditivu</a:t>
            </a:r>
            <a:br>
              <a:rPr sz="3600"/>
            </a:b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3.  vývozce odešle zboží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Dokumentární akreditiv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4. vývozce  prostřednictvím své banky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dešle doklady bance dovozce,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terá je v případě splnění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mínek předá dovozc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5. banka dovozce  proplatí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akreditiv vývozci z účtu dovoz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Riziko nezaplacení nese bank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Dokumentární akreditiv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ývoj směřuje k elektronickému akreditiv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třetí osobou elektronická tržišt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tradiční papírová podoba pro složitější případy a rozvojové zem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Další platební nástroj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Cenné papíry osvědčující vlastnické právo (dispoziční)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onosament – v námořní doprav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říční náložní lis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železniční nákladní lis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ilniční nákladní lis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Další platební nástroj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Cenné papíry osvědčující vlastnické právo (dispoziční)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letecký nákladní lis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áložní (nákladní) lis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emědělský skladní lis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Bankovní záruk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rozšířená forma ručení v mezinárodním obchod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tzv. závazkové úvě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anky neposkytují žádné finanční prostředky, ale zaručují se za svého klienta, že provede svůj závaze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457200" y="1905120"/>
          <a:ext cx="8229600" cy="42782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44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latební styk a jeho nástroj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Zahraniční platební sty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harakteristika zahraničního platebního styk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Zahraniční platební styk, hladká platba, dokumentární platba (inkaso, akreditiv), IBAN, cenné píry osvědčující vlastnictv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Bankovní záruk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ákladní typy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1. záruky platební - banky se zaručují za provedení peněžního plnění odběratele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2. záruky neplatební – banky se  zaručují za kvalitu provedených prací dodavatele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Záruky platební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a zaplacení faktu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a splacení úvěr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a zaplacení leasingových spláte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a zaplacení spotřební dan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a zaplacení směn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Sjednání bankovní záruk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žádost, kterou banka posoud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věří bonitu žadate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rozhodne, zda se za klienta zaručí či nikol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 kladném vyřízení banka s klientem sjednává smlouvu o poskytnutí bankovní záruky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Záruky neplatební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áruka za předloženou nabídku do veřejné soutěže (záruka v tendru)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áruka za vrácení platby předem (záruka za vrácení akontace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áruka za náležité provedení kontraktu (kauční záruka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Sjednání bankovní záruk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anka vystaví záruční listinu obsahující písemné prohlášení banky, že uspokojí věřitele do výše sjednané finanční částky, pokud klient nedostojí svému závazk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eškeré náklady spojené s bankovní zárukou obvykle hradí klient ban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Úkoly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Co je to IBAN a jak je konstruován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ajděte ho na výpisu z účtu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okumentárního inkaso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okumentární akreditiv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Cenné papíry osvědčující vlastnictví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ankovní záruk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droj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ŠVARCOVÁ, Jena. </a:t>
            </a:r>
            <a:r>
              <a:rPr b="0" i="1" lang="cs-CZ" sz="2000" spc="-1" strike="noStrike">
                <a:solidFill>
                  <a:srgbClr val="ffffff"/>
                </a:solidFill>
                <a:latin typeface="Tahoma"/>
              </a:rPr>
              <a:t>Ekonomie – stručný přehled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, Zlín: Nakladatelství a vydavatelství 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Ing.  Jena Švarcová , Ph. D., CEED, pro rok 2012/2013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ISBN: 978-80-87301-16-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HARTLOVÁ, Věra  a kol. </a:t>
            </a:r>
            <a:r>
              <a:rPr b="0" i="1" lang="cs-CZ" sz="2000" spc="-1" strike="noStrike">
                <a:solidFill>
                  <a:srgbClr val="ffffff"/>
                </a:solidFill>
                <a:latin typeface="Tahoma"/>
              </a:rPr>
              <a:t>Učebnice bankovnictví pro střední školy a  veřejnost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, Praha: Nakladatelství FORTUNA , 2004. 1. vydání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ISBN:  80-7168- 990-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www.csas.cz/banka/nav/podnikatele-firmy-a-instituce/podnikatele-a-male-firmy/dokumentarni-inkaso/o-produktu-d0001004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http://www.finance.cz/zpravy/finance/214007-bankovni-zaruky-aneb-jak-snizit-podnikatelska-rizika-/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Zahraniční platební styk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Platební styk z hlediska form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latební styk hotovostní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latební styk bezhotovostní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Zahraniční platební styk hotovostní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prostřednictvím směnárenské činnosti a oblasti cestovního ruchu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Zahraniční platební styk bezhotovostní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Formy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hladké platby (nedokumentární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okumentární platb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Zahraniční platební styk bezhotovostní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WIFT – společnost pro celosvětovou finanční telekomunikac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orespondentský způsob propojení ban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IBAN – mezinárodní číslo účt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IC kód – mezinárodní kód ban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Dokumentární platb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okumentární inkas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okumentární akreditiv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Dokumentární inkas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ezhotovostní bezzávazkový systém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upraven mezinárodními pravidl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anky pracují s dokumenty nikoliv se zboží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15:12:52Z</dcterms:created>
  <dc:creator>Marek</dc:creator>
  <dc:description/>
  <dc:language>en-US</dc:language>
  <cp:lastModifiedBy>Igor</cp:lastModifiedBy>
  <dcterms:modified xsi:type="dcterms:W3CDTF">2014-09-13T14:37:48Z</dcterms:modified>
  <cp:revision>36</cp:revision>
  <dc:subject/>
  <dc:title>Platební styk tuzemský a zahraniční</dc:title>
</cp:coreProperties>
</file>