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FC5B-EE4E-4889-A8A5-B5ECE1A6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374-FDF3-4191-86C2-24556C26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D786-A0E6-4410-A004-2DA7FDCE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15D-D1BA-4197-BEA3-D7CEF29A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4B91-6FBD-493D-8028-6B39FEF7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3EE4-A6A3-42A3-901B-7943E60C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1AF2-7A2D-4753-9874-9D62A8CD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54D8-D9F4-4D7C-BBC9-0B7FF325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32DB-3DED-4DAC-8288-2CB9DD9C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99B8-65AF-40F1-B1CE-FD0B293B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2862-2CF7-44F5-82D5-9266AB0B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48F-3D5F-4BFC-BECF-F960EEC7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ECD7-607A-4049-8F7E-AC7C6580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A65F-CC66-4179-88C0-B3D94EDC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1DCB-DD14-40B5-91B5-5BA47E55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E6BA-F9CA-4378-845F-B41273F8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A5AB-6E9B-4FF2-9FCF-48287CE9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7CE-21BC-4C0E-A4F1-E824C815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A51-6498-43B9-9F8E-07365909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FD9-106F-475D-A002-05519640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29C-B7D7-4B74-A2F5-A4B40E75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EFDF-4396-4BEC-97FA-7F89DDF6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DF2-4563-4AAA-A170-0F385BB3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EF5-9E34-4E40-B454-E8DF07B8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427E-9903-4794-8027-3FC015D871F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4E55-4DCB-4AD0-8948-9599308DE55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11280" y="3573360"/>
          <a:ext cx="756108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11280" y="4221000"/>
          <a:ext cx="7561080" cy="155448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ástka v české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pis, elektronický podpis nebo jiný kód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ne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stantní symbol  - vyjadřuje ekonomický charakter plat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tum splatnosti - den, kdy mají být prostředky odepsány z účtu plát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ariabilní symbol - slouží k identifikaci platby pro příjemc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ne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ariabilní symbol – identifikace plát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íslo faktury, rodné číslo fyzick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soby, IČO právnické oso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ecifický symbol – dodatečný symbol identifikující např. jednotlivé měsíce u plat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říkazu k úhradě - ne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stantní symbol –určuje charakter služby, pro platební styk s účty státního rozpočtu povinn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xtová zpráv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tum vystavení příkaz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á lhůta je pro převod peněz ve vnitrobankovním styk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á lhůta je pro převod peněz v mezibankovním styk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ý je rozdíl mezi příkazem k úhradě a příkazem k inkas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veďte příklady k jednotlivým příkazů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itá literatu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897200"/>
          <a:ext cx="8229600" cy="383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zemský platební sty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příkazy, druhy, náležitosti, vypln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příkazy, jeho druhy, náležit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 tuzemský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ladké platby na základě příkaz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nitrobankovní platební styk - převod peněz mezi 2 klienty stejné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ezibankovní platební styk - převod peněz mezi 2 klienty různých bank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k úhradě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klient přikazuje bance, aby z jeho účtu poslala peníze na jiný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k inkas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klient dává souhlas k tomu, aby si z jeho účtu stahoval  peníze příjemce platby, může být nastaven lim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příkaz jednorázový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– pro neopakující se plat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příkaz trvalý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– pro platbu pravidelně se opakují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jednotlivý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pro jednu platb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hromadný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více plateb  najedno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elektronickou formo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internetbanking, mobilbanking, homebanking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na papírovém formulář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značení, zda se jedná o příkaz k úhradě nebo k inkas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spojení plátce - číslo účtu a kód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spojení příjemce - číslo účtu a  kód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5:12:52Z</dcterms:created>
  <dc:creator>Marek</dc:creator>
  <dc:description/>
  <dc:language>en-US</dc:language>
  <cp:lastModifiedBy>Igor</cp:lastModifiedBy>
  <dcterms:modified xsi:type="dcterms:W3CDTF">2014-09-13T14:28:56Z</dcterms:modified>
  <cp:revision>29</cp:revision>
  <dc:subject/>
  <dc:title>Platební styk tuzemský a zahraniční</dc:title>
</cp:coreProperties>
</file>