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FD7-0F7C-410F-921A-28762E76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ED0-595F-437F-9A42-B049EF3D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890-C215-4298-A1FB-BBDC5D68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A1F-C3F2-4403-95FE-AA853B30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CA2A-EDB3-46B7-B8C2-075559E1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525B-317D-4BF9-B08F-E0FC5395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E668-D6AE-4B4E-89C7-B7067099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52A2-3A70-4DE7-A0A4-8481EE6E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52B2-F4EF-4908-99F3-94A3B8B2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CDAC-6996-4085-9011-9020DCF6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4E5A-2B7B-4792-8B11-470AE1D9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A22-1C9E-4060-941E-860593C8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E5C2-6CB1-49C4-8F8D-2B3927AE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FFE7-BCC4-4AF3-88A5-70AB5619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0ACF-1250-4613-B020-E8C5DFE8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4DEB-0B99-45DA-A91F-CFB097E1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C421-7796-4649-987F-6A7DDABA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AA1E-720A-440D-91B9-35978D1A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7D23-42CB-401A-84C1-856B671C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D6E-FE60-4A90-94C9-2B2BE21A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998-DF1A-4816-A110-3D8B2CC3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F88-4945-4081-B97B-9BD2500D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BF3-6F48-413A-AEE7-608BC24F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14E-BABD-4239-9776-7D52323A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C255-D619-4B07-BE79-865BCBDAEB6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59C0-BADD-4B79-A99B-404676EA289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11280" y="3645000"/>
          <a:ext cx="7561080" cy="5047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11280" y="4400640"/>
          <a:ext cx="7561080" cy="162072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respondentský způsob propojení bank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ájemné zakládání účt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ostro účet – účet, který má banka otevřen u jiné zahraniční ban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respondentský způsob propojení bank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oro účet (vostro účet) – účet, který vede zahraniční banka pro jinou ban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zahraničním platebním sty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learingový způsob propojení bank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tuzemském platebním sty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chodní banky mají u clearingové banky účet a přes ní jsou spoje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learingové (zúčtovací) centrum ČNB, systém CERT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e to vkladoma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Co je to platboma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Vysvětlete podstatu výběru hotovosti na pokladně obchodů (cashback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K čemu slouží zúčtovací centrum ČNB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Způsoby propojení ban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lší způsoby hotovostního platebního styku tuzemskéh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Bezhotovostní platební styk tuzemsk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847880"/>
          <a:ext cx="8229600" cy="4173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zemský platební sty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tuzemského platebního sty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zemský platební styk, vklady a výběry v hotovosti, vklady a výběry na účet, clea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Tuzemský platební sty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styk z hlediska form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bez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styk z hlediska teritori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tuzemsk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zahranič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ormy hotovostního platebního styku</a:t>
            </a:r>
            <a:r>
              <a:rPr b="0" lang="cs-CZ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ožením hotovosti ve prospěch účtu příjemce - pokladní složen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o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ukazem peněžních prostředků ze svého účtu k výplatě v hotovost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em k výplatě v hotov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ormy hotovostního platebního styku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běrem prostřednictvím výběrního líst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platební karto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pokladně obchodů cashbac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skutečnuje se na základě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mou příkazů k zúčtování (platebních příkaz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ů k zúčt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ch platebních kar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lektronického bankovnic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 tuzemský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zv. hladké platby na základě příkaz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nitrobankovní platební styk - převod peněz mezi 2 klienty stejné ban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ezibankovní platební styk - převod peněz mezi 2 klienty různých bank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ba převodu v tuzemsku  do 24 ho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12:52Z</dcterms:created>
  <dc:creator>Marek</dc:creator>
  <dc:description/>
  <dc:language>en-US</dc:language>
  <cp:lastModifiedBy>Igor</cp:lastModifiedBy>
  <dcterms:modified xsi:type="dcterms:W3CDTF">2014-09-13T14:28:34Z</dcterms:modified>
  <cp:revision>29</cp:revision>
  <dc:subject/>
  <dc:title>Platební styk tuzemský a zahraniční</dc:title>
</cp:coreProperties>
</file>