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B2A-B8B3-45ED-8D45-5E6E3BC0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969-E6DA-43F8-9D14-2101435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4B8-3232-43C8-A46B-75B9688C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B95-F9C1-418D-B1E2-8F0B74FC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87C-2738-4B60-A17D-E88B924A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F0F0-64EE-4D64-B8B6-1F70F649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735-7921-48A1-AEA9-6E734FB8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544C-D999-4FD0-997C-059440B8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3A30-1B82-4CFD-B9E2-6C1E0148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2D60-1D38-484E-AA35-C3DAD4F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302-36D6-4497-AE2E-EAC44A1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9C9-5F7A-4F86-8BF4-717BD56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763-F03B-43FE-8119-9B03D65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EA7-FFD7-4BC8-A37C-1FFC07E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6E9-C54B-4448-9E29-85EF1EAE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EC4-A1F1-4C57-A87D-A8730AC4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8D0-C7F3-4926-9905-55A43912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7F4A-DC9D-44C5-8421-04B33BCF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9115D-4E9E-48E1-B502-498B159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D581-38A4-40D9-973B-2D4E2DC6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5E46-5849-4AEE-95BC-21FEF03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7608-1BE5-42E2-AAC4-C165852A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474-EAEE-4880-84CF-367F48FB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BE2D-3154-45F6-B391-63E9A0AD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9839-0600-4A80-B930-827CEA8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BFDE-EE7C-4548-9890-5C269D1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56E0-E92E-4392-B0CF-4A80986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022C-3E98-4F61-84F5-829AD50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10BB-D83F-44DC-BA08-583D86C5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3F4A-CF06-4B5D-A076-CFE7FEBE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970-58EB-413F-AC7C-7A6F8FA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5FA-3AC3-4E59-952F-9A8ED727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C99-C3F7-4DDD-A527-FD6A1E4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AB0-9AAD-481F-87EC-B35EEC7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EE9-AC08-446F-B85F-37E36B34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B37-0323-4F8E-87FB-DAEC995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186-BE48-42E3-8E9B-ACC852B8DBC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A81-B2FF-4E37-A60F-83CC988140B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AD5B-7AAF-4372-8461-E6ABDB0C020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ádivá inflace (cválající, dvojcifern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udký růst c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 převyšuje růst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ácejí kupní sí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Hyper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tr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cen ve stovkách, tisících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ísá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atily význ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ástečný ba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erný obch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jevná inflac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odpovídá naměřené infl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tlačená (blokovaná) inflac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inflace blokovaná státem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krytá inf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lký podíl stínové ekonomiky nebo   rostou ceny výrobků a služeb nezahrnutých ve spotřebním koš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ová 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úměrná produktivita prá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da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vné úvě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bídková (nákladov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dokonalá konkure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výše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é udá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éně kvalitní zdroje suro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9640" y="1844640"/>
            <a:ext cx="18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rozdělovací efek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reálných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xní důchody se neměn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vkladů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úvěrů a půjč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ociální dop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ciální nepok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bo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ická emi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ůsobení na rovnováhu ekonom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spotřeb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rná inflace působí motivačně pr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robu i 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tiinflační politi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loha centrální banky (cenová stabilit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yblivá úroková míra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ování růstu mez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růstu popt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95280" y="1700280"/>
          <a:ext cx="8229600" cy="38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jmu inflace, členění a projevy inflace, způsoby měřen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, cenové indexy, členění a projevy 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spotřební koš a co obsahu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často se mě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čemu se použív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ujte vývoj inflace v ČR za posledních 10 l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Která instituce měří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Inflace podle kvantitativního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edisk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Inflace podle projev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Příčin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. Důsledk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1. Protiinflační polit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jev ekonomické nerovnová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ové hladiny (úroveň ce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nehodnocení (pokles) mě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kem je de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výpočtu slouží průměrné ceny výrobků a služeb zařazených do spotřebního koš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á se spotřebu průměrné domác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svou váhu určenou podílem výdajů na daný výrobek nebo služ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ý spotřební koš po 5 letech z důvodu změny potřeb domác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cen výrobců (PP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různá odvětví a ob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 obsahují výrobky a služby pro výrob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má v koši svou vá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incip stejný jako u 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Deflátor HDP (HN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m jsou všechny spotřebované výrobky a služby v daném obdob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rok se koš m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áhou je podíl výrobků nebo služby v produkt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írná inflace (plíživá, jednociferná)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atelná pro stát i obč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rostou poma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nepřekračují tempo růst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ne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41:27Z</dcterms:created>
  <dc:creator>Marek</dc:creator>
  <dc:description/>
  <dc:language>en-US</dc:language>
  <cp:lastModifiedBy>Igor</cp:lastModifiedBy>
  <dcterms:modified xsi:type="dcterms:W3CDTF">2014-09-13T14:47:00Z</dcterms:modified>
  <cp:revision>35</cp:revision>
  <dc:subject/>
  <dc:title>Inflace</dc:title>
</cp:coreProperties>
</file>