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7A55-7D13-44F7-851A-E9F4DCA7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FC1DA-598B-4402-965A-86CE6F55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6BDD1-872C-4B13-A519-38B853F3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218C8-63BA-44F0-8CFD-3E10F8C3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6AC3-EF4F-4EEF-A7F7-530A67B0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0EA3-94D7-4583-B47F-58D031A2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3EE2-F775-4CF7-8656-CBBA9CC6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16B5-BE6E-482B-B2E6-CD408130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A26F-A71D-4FA7-847F-9AC76FCA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F727-A59E-40B2-9FE2-D351C931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2426-D8F3-4CF5-8241-17FFD183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E8F1C-FDA6-47D8-AFC6-943EC506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1CA1-6C06-49A7-B2E0-BCCBA628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E83A-E666-42FC-B349-B0DC9586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83DE-7B6C-4FD7-BE37-7E99D2FB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532F-68A2-44AA-9520-67C2955B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FAA6-61E2-4683-857F-755C6D49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32610-0EC1-4F6E-83C9-C1C615D1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90486-1C14-421A-AB39-4F9760EB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738DE-F457-4717-8485-BC9A4E8B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40DD1-7997-433A-8B58-DE657F9D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2B43D-800C-41E9-804C-1C7E485E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88A5D-8888-41B9-81D1-8E26AD1C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5790D-B925-4DCE-AD4C-D4BC13EC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7AB0C-2A49-4AAF-A131-B15F8A4A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06090-6024-4EAC-A7BC-13C88AD3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9EAF6-4DF9-47EE-823D-44188E2B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13F28-AB0E-4B7E-9DB9-954317F1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31336-60B0-4B78-B405-AC8194BC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25AFB-E034-4894-8752-2CABEC71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E3771-2551-4711-9A85-850BD4AB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9A47C-D795-49D7-BBB5-5E7031EC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AFF3B-E18F-4230-9AEB-4DD3FD16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4A03-3F95-4A88-803A-31DFF2F0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89566-C469-4041-9FC9-540A7969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95732-F30B-45F5-88A4-1753CAA8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BBF4-0B2D-439B-A6F5-3DED67C64D7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4AD2-D5C5-4781-AEDD-15E38BC8143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41BD-1AEF-4BF8-9FF6-ADC19A8E6F3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2533680" y="4572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39640" y="4581360"/>
          <a:ext cx="7561440" cy="151776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D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šová měna odvozená ze čtyř světových mě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ouží jako rezervní hotovostní fond, ze kterého mohou země čerpat v případě krize platební bi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vláštní práva čerpání SD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ím větší jsou příspěvky jednotlivých zemí, tím více si pak v období tísně mohou půjčov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bjem  poplatků se pro každý stát určuje na základě ekonomických ukazatel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kupina světové banky 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větová banka ( World Bank Group) je zastřešující organizací pěti institu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rávním orgánem skupiny Rada guvernérů, zastoupeny všechny členské stá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kupina světové banky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da výkonných ředitelů, předsedou prezident SB, vždy Američ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 nejvýznamnější publikace  patří každoročně vydávaná Zpráva o rozvoji svět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o ve Washington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stituce 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banka pro obnovu a rozvoj  IBRD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finanční korporace IFC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asociace pro rozvoj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DA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stituce 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ultilaterální agentura pro garanci investic MIGA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centrum pro urovnávaní investičních sporů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CSID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1. Mezinárodní banka pro      obnovu a rozvoj  IB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ůjčuje peníze zemím středně rozvinutým a rozvojovým za podmínek výhodnějších než na komerčních trzí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1. Mezinárodní banka pro obnovu a rozvoj  IB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avní oblasti, na které se zaměřuje, jsou rozvoj hospodářské infrastruktury, jako například silnice, doly, továrny či elektrárny a přehra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finanční korporace IFC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nuje se spolupráci se soukromým sektorem a poskytuje levné úvěry na komerční projekty (většinou nadnárodním společnoste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asociace pro rozvoj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DA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bezúročné půjčky vládám těch nejchudších zemí na odstraňování chudoby či programy udržitelného rozvoj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539640" y="1700280"/>
          <a:ext cx="8229600" cy="4228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inárodní finanční institu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inárodní finanční instituce a jejich význ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inárodní měnový fond, Skupina Světové banky, další mezinárodní ban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ultilaterální agentura pro garanci investic MIGA</a:t>
            </a: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á na starosti vytváření příznivých podmínek pro zahraniční investice v rozvojových zemí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4. Multilaterální agentura pro garanci investic M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nekomerční pojištění firmám, které podnikají v rozvojových zemích a mají strach z politických a jiných faktorů, které by mohly ovlivnit návratnost jejich invest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centrum pro urovnávaní investičních sporů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CSID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nuje se řešení sporů vzniklých v oblasti investic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Banka pro mezinárodní platby - B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národní organizace pro podporu mezinárodní měnové a finanční spolupráce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a pro centrální ba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í v Basilej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investiční banka EI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ování dlouhodobých půjček na kapitálové investice subjektům ze soukromého i veřejného sektoru, včetně ban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zce spolupracuje s orgány E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í v Lucemburs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centrální banka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C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trální bankou zemí eurozó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 1. 1.  1999  odpovídá za provádění měnové politiky v eurozón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centrální banka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C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o ve Frankfurtu nad Mohan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avním cílem je cenová stabil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CB je nezávislá na ostatních institucí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banka pro obnovu a rozvoj - EBR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ložena v roce 199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Londýn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máhá zemím střední a východní Evropy při budování tržního hospodářství a demokraci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Rozvojová banka Rady Evropy - CE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spívá na rozvoj sociálních investičních program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 půjčky členským zemím nebo finančním institucím schváleným vládam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í v  Paříž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banka hospodářské spolupráce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ložena vládami členských států RVHP v roce 1963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učasnými vlastníky banky je devět bývalých socialistických stát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nes v útlum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ffff"/>
                </a:solidFill>
                <a:latin typeface="Arial"/>
              </a:rPr>
              <a:t>Mezinárodní finanční instituce</a:t>
            </a:r>
            <a:r>
              <a:rPr b="0" lang="cs-CZ" sz="4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investiční banka - MI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ložena vládami členských států RVHP v roce 1970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učasnými vlastníky banky je osm bývalých socialistických stát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nes v útlum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. Jaký význam má MM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 Č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 Jaký význam má Světová banka pro Č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3. ČR  je členem mezinárodních finančních institucí. O jaké se jedná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4. Jaká je úloha mezinárodních finančních institucí v hospodářské kriz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droj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Mezin%C3%A1rodn%C3%AD_m%C4%9Bnov%C3%BD_f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Sv%C4%9Btov%C3%A1_ban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Banka_pro_mezin%C3%A1rodn%C3%AD_plat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Evropsk%C3%A1_investi%C4%8Dn%C3%AD_ban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Evropsk%C3%A1_centr%C3%A1ln%C3%AD_ban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Evropsk%C3%A1_banka_pro_obnovu_a_rozvo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mfcr.cz/cps/rde/xchg/mfcr/xsl/mfo_ceb.html http://www.mfcr.cz/cps/rde/xchg/mfcr/xsl/mfo_mbh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mfcr.cz/cps/rde/xchg/mfcr/xsl/mfo_mib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měnový fond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MF</a:t>
            </a: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národní měnový fond – IMF (International Monetary Fund)  začal finanční činnost v březnu 1947 a stal se přidruženou organizací OS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měnový fond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znikl na základě potřeby vytvořit poválečný světový ekonomický systém - podpora vzájemného obchodu, směnitelnost měn a rozvoj válkou zničených ekonomi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tanovy 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sou základní listinou  a zahrnují tyto cí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poru měnové kooperace prostřednictvím spolupráce a konzulta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tanovy 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tupné odstraňování devizových omez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ování devizových úvěrů k vyrovnání dočasných obtíží členských zem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Hlavní orgány IMF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da guvernér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da výkonných ředitel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národní měnový a finanční výbo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daje o 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o IMF ve Washington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ý člen přispívá do společné pokladny  finančním obnos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75 % příspěvku ve své vlastní měně a zbytek  v podobě SD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09:28:10Z</dcterms:created>
  <dc:creator>Marek</dc:creator>
  <dc:description/>
  <dc:language>en-US</dc:language>
  <cp:lastModifiedBy>Igor</cp:lastModifiedBy>
  <dcterms:modified xsi:type="dcterms:W3CDTF">2014-09-13T14:45:03Z</dcterms:modified>
  <cp:revision>26</cp:revision>
  <dc:subject/>
  <dc:title>Mezinárodní finanční instituce</dc:title>
</cp:coreProperties>
</file>