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E82-DC38-4EB2-8E0F-ADBA1E32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0175-33A0-4CAA-9BA9-F60265E6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499-A9BC-4C0B-87F9-AE3F5842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21BB-1665-44F3-AE36-10A305CB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2057-D785-404D-98A0-1055B359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F45C-41D4-4DD7-AF56-837C77B9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9FD3-8B3F-40EF-80D2-44992527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21D5-3FC1-4D6E-981E-2AB3C540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9C83-2146-4D97-B276-F369C791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98C2-404F-4AF7-8E2C-FEAB0C23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57DD-E936-44C9-9652-CB2351AE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BD0-7FA0-48A7-B0B8-E4E15C9A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05D6-0FF4-45DC-B175-278482CF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DA23-048D-45C3-88A7-DFB54597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6386-7277-4B83-B091-1934619D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472C-9FF7-4916-A706-7CC81E8B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4A02-B23A-4BA7-9B35-687139C4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CEB-EBCD-4B08-92A2-1E7E3B2E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D70D-912B-405F-B41B-A6E0DB84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6D0B-AFAF-4693-9389-EDECBB03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CD9-1D6C-4D29-88AF-E6D9330C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BC7-4DAA-4B75-885A-EF6D79F3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768-B787-4069-B00A-444C9313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3C2E-A980-404A-B7D2-475FC66C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8145-61F8-4D56-9D43-C69802FCE68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D70E-28FA-470C-A808-3CEE542DC97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s.wikipedia.org/wiki/Konvertibilita_m&#283;ny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365720"/>
          <a:ext cx="7561440" cy="158904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Členění mě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konvertibilní měn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a platná  pouze na územ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ného státu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jí kurz je dán státní institucí, nesmí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e vyvážet ze zem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D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ová a účetní jednotka Mezinárodního měnového fond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mělá mě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šová měna odvozená  od průměrné hodnoty měn USA, Německa, Japonska, Francie a Velké Británie (EUR, USD, GBP, JP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D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ód XD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ouží jako rezervní hotovostní fond, ze kterého mohou země čerpat v případě krize platební bila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D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ím větší jsou příspěvky jednotlivých zemí, tím více si pak v období tísně mohou půjčov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jem  poplatků se pro každý stát určuje na základě ekonomických ukazatel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tázk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o je to likvidit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harakterizujte jednotlivé měnové agregát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veďte příklady konvertibilní a nekonvertibilní měn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do používá SD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 čeho vychází kurz SD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cs.wikipedia.org/wiki/Konvertibilita_m%C4%9B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ttp://cs.wikipedia.org/wiki/Zvláštní_práva_čerpá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905120"/>
          <a:ext cx="8229600" cy="3862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3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měny a základní členění mě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ěna, měnový agregát, nadnárodní a národní měna, zvláštní práva čerp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cc"/>
                </a:solidFill>
                <a:latin typeface="Tahoma"/>
              </a:rPr>
              <a:t>Měna</a:t>
            </a:r>
            <a:r>
              <a:rPr b="0" lang="cs-CZ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krétní peněžní jednotka daného státu se označuje měn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ové agreg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rčité formy peněz mají určitou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ikviditu (jak rychle lze použít k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bě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likvidity se obecně dělí n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kupiny měnových agregá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ové agreg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1= hotovostní oběživ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2 = M1 + vklady na běžných účtech v banká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3= M2+ vklady v zahraničních měnách v domácích banká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ové agreg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4= M3 + vklady v nebankovních institucích v domácí měně + krátkodobé cenné papíry v domác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5 = M4 +ostatní cenné papíry v domác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Členění mě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4000" spc="-1" strike="noStrike">
                <a:solidFill>
                  <a:srgbClr val="ffffff"/>
                </a:solidFill>
                <a:latin typeface="Tahoma"/>
              </a:rPr>
              <a:t>Konvertibilní měna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měna směnitelná s ostatními měnami v určitém kurzu, kurz je dán poptávkou a nabídkou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Členění mě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) plně směnitelná (konvertibilní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a směnitelná všude na světě, nejsou překážky výměny (konverz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částečně směnitelná (vnitřně směnitelná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át stanoví omezující pravidla výměny své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07:20Z</dcterms:created>
  <dc:creator>kabek</dc:creator>
  <dc:description/>
  <dc:language>en-US</dc:language>
  <cp:lastModifiedBy>Igor</cp:lastModifiedBy>
  <dcterms:modified xsi:type="dcterms:W3CDTF">2014-09-13T14:44:34Z</dcterms:modified>
  <cp:revision>23</cp:revision>
  <dc:subject/>
  <dc:title>Peníze a měna</dc:title>
</cp:coreProperties>
</file>