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125-956E-4898-8102-19047A31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139-1BDA-41D6-9B42-99080280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DDB-BA57-4F1F-9F02-86231DD8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1DD-6978-466C-846F-4823AAFC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CC3-368E-40A2-968A-14082B56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04A9-37A4-42A4-814A-5CF77071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B5E8-6543-4235-AC2F-14BE87B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84EA-4563-42D0-BBE6-A45A9D2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ADD-05C5-4AC6-AC4D-A735DC9C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3E0-4D7B-413D-B5E2-D1B7AB4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02A-BEE8-4CC7-B741-772F563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111-BDD1-47C1-B1CE-96914210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8007-0BCC-47F5-9818-68E0D28E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AD0B-04E8-441F-99EB-EFB5157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044-FA47-49B6-A6F4-74AB4739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0EFF-C136-428D-BF55-FBF92ECC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B095-4EA1-4008-AF8C-261CD6B5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DCA6-0927-4856-BBF7-F6014216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4873-113F-4328-A9D5-A597387E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3255-6F2D-4BAD-9F93-AC0FFB1E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1F67-D0B1-4ABC-916E-6742B28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50B4-ACE3-4F95-B46A-9845A04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930-D344-4917-A0A5-FDFE511D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C4AE-BBCE-4CAC-8FDC-C215AB4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71D7-2E05-4D87-9C44-A09C172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5AB8-B0E9-4B66-A3D2-AB8CFA8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D34E-C573-4EAD-BE25-C07723B6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0FBF-F677-41DD-9BA2-27D67831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71B3-D0F5-4960-9B5A-15575B6F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5AB1-14DE-4E41-A3CD-81A92D55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1919-BADC-4EFA-82FD-1CF16D21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EE12-AFCE-4D40-B352-F655BD94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77FF6-132F-4D5E-AA89-8E25F727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27D-FF7D-4F7D-802E-7F8324B7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2827-191A-4D4A-BCDE-38955913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EB86-FABA-4354-9C83-9BE6285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8E26-CD2D-408B-A8E5-781EAAC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1244-24B9-411E-9A69-25321FFF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DA02-2626-4CF4-A6AF-F30C0B4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0C33-E824-4434-B3BC-EA470DD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3697-AC85-46B8-8AF8-2E2A3ED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B3E6-5FB2-42C2-83AA-DF1CA46D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9160-80CE-418A-A995-FEADCAA2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47D0-D370-4CB1-9CE7-0E2C36C7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641-819A-475E-A251-F6A410DC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8F4E-5B12-498F-AD2F-59FFEDA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8F0F-931F-40EF-8C29-6290BA1F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2D05-BF71-4C62-B723-9E2C63C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A8B8-EF4E-481F-A967-5BD00C68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62D0-0389-4D8F-8746-BB4C4123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72DA9-7779-4E05-B02B-AAE5435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F119-7218-4246-9402-2FE90AD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F60D-72E5-401F-83ED-7F3548A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A45A-5CC2-4B56-8221-875FDE19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9D17-C9C5-4E7C-9CC1-A4FB2C3C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CCB-EFEB-4ED3-B396-C79B35E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4359-6305-4F4F-9866-F433A98D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8CE5-3A1E-454F-9901-FE3D5C61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C945D-138D-4117-9710-A11E5C8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39E7-D3A6-4279-8E43-7287188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58B0-52F9-4E2A-A7F0-E68679B0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F015-E076-4DF4-835B-924A31B2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3CCF3-288C-402C-B730-3B95D5C9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82D3-E108-488F-A4E1-592F7B54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EABD6-82E8-4DBC-B319-BE8D7D4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A9AC-D49B-4297-967D-59225E6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00A-4E28-4959-AB48-8AEF120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CF13-4548-4B89-A585-D342AED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B670-D3E5-46D7-9A46-8F06E15A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7C74-8E39-4813-B9AA-97AB90A7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16F7-A53F-4293-A2C6-48AF48AE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7A91A-6953-477B-99DB-A98C9D0D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15BF-1777-46EE-BB96-B4F48C1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F8E30-6694-4B52-82FD-E34298F5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B129-9B1F-4407-9FB8-3FCAFCB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FA016-2216-4168-911E-656FD783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7F42-8737-4F51-B076-C83B42CF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F90-7F57-4299-A3A2-74D60005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29B4-4119-48D6-ADE8-A99D018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7297-C258-44B3-958A-20F4D15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1B61-19F1-44C9-A04D-879001C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A305B-14C6-49A6-95F7-EC79B588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E071-C651-4230-A821-2E40D6E8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344F-6D08-4CC0-B5F2-ABC76B60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69F5-C68A-4B8D-B451-15DDE406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3B6CC-9C13-4FC3-8D49-88DB553E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51ADD-7F26-4873-A93D-01DD22B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830AD-EEAC-4751-A2B0-0F4F926E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23B-E8A4-45FB-B63D-A3B1555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3C11-F15F-4C45-8F93-71582414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903AB-5432-45D6-B92D-AE38E7F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B36B-B759-40A5-B1AD-BAE0FA6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D384-F1FC-4C64-9BC5-D6C591C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C88C9-F0F5-4ED0-B665-93B17FCF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FA9EF-EE19-4912-B3BA-ABB2A34F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51032-44C1-40F5-91E9-C17BAE13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C58-8E7B-4398-8627-5F6CB88234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9C36-0DAD-4417-8805-D6874FF922C8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49EF-BF50-4F28-9293-F1AE8D27FD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8C4-8480-4901-9A9A-A5B15BAB9B3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DFF8-ABBD-42CF-8803-94326E1B89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B9CA-8BCB-4F84-9123-EBFE159747A8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8A34-1F2D-419D-8E72-5A0041D1C42F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EA2C-FB12-4D42-A347-9388B7DFF3A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remix.nicm.cz/wp-content/uploads/2010/11/POuk%C3%A1zka-C.jpg"/>
          <p:cNvPicPr/>
          <p:nvPr/>
        </p:nvPicPr>
        <p:blipFill>
          <a:blip r:embed="rId2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gor</cp:lastModifiedBy>
  <dcterms:modified xsi:type="dcterms:W3CDTF">2014-09-13T14:44:22Z</dcterms:modified>
  <cp:revision>34</cp:revision>
  <dc:subject/>
  <dc:title>Poštovní poukázky (složenky)</dc:title>
</cp:coreProperties>
</file>