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F39-5AB9-4E0E-8AC3-F6481A2F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782-63B7-46AC-B646-F89F9FAD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715-10FD-4E34-887F-01591971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913-CF1D-4608-BDBA-C49808CA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CB27-079E-47EF-AC21-12189271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9CED-C272-431E-9D1A-44571D2D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5FE8-FC3D-491F-ADB7-E75F0540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06E3-2523-435D-B949-767EBBA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08DC-BEC2-41B6-BBAF-6DB9895A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B297-DD7A-4BA9-89BE-0F8CA89B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B65B-877D-407D-9E9C-1892CB11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0D7-3D04-4F7E-9B4C-CEC024B9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43B0-7458-4063-ACE5-F75E431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62B0-E8C2-4F2B-BB8D-5E9BC301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DFD2-1AE0-4C79-B200-F3F0B64A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D72E-8CE4-4A52-B33C-FA94E003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6C63-0D22-482A-8559-E225C5CA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DFD6-2B02-419D-8D9B-C6B19742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357A-B670-4640-8AF9-DEF260C9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3120-7794-46D0-9FA1-FC39E57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3481-EC07-4BDC-851C-52613A15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96C8-4A95-4176-897C-F9775D6A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5CF-9CB3-4EFA-B4BD-B8D06F77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2706-167E-4FEE-A629-F2AC9421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52F1-5123-4B2F-A29A-3EF28D1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3E91-89DC-4BDE-8453-A609274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0033-888E-4B56-97F7-3052118B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8759-337E-4428-A4FA-08D84352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C2E0-B2E3-4E0B-8A67-C688232D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558F-F0ED-467E-B430-8ECB71B7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CD84-7C10-4828-8622-01E9E149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224C-7EF2-4C5A-9E38-86880527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A111-47FA-4A16-9D3F-ED1A1957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485-8F94-4A20-9FD4-30D5ABAB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8A9F-7237-438D-A4FC-3B3C4EED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CD75-530F-4750-8342-10624A23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F65C-3DCF-41E9-ACB1-58D6085F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2266-2B58-462F-9E4B-B7C4C80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864F-E930-4646-A2D1-59839E54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6AD4-6823-47CA-85A4-11B42C0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5C7D-E77E-4172-8F13-4D560BF2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D7F59-A964-47B9-945E-A3E22454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D38B-74AB-448A-A509-50EE812D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3D663-7B21-4535-BE48-ABCF638F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4CC-9F72-495A-8A77-ABAD6BCC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8FB7-23B9-4C52-B0F6-44C44A03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1FC4F-F09F-4EEE-96A5-45FAAD22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2277-A8DA-4687-9C21-8CF57A6C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5C57-D97C-419C-A9F4-4AF6C368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13AA-BCE6-4B39-9159-750D945F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4AC5-8915-47C5-A6A6-4A733AB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420EB-A031-4788-8C3E-4B3385A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5BD19-FBD5-4505-9579-B306492D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6845-C38B-479C-A9EE-67261A6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22F1-08FE-47AF-ABC6-8BD0E30E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DC8-D770-4532-86E1-CB6503A6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537E1-B645-4BAF-907A-BED425AE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14F7-8386-49EE-91F0-0A162557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631B1-6A6A-4326-BF76-D0E239A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791F3-55CD-4092-BD3B-334E1DC5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2080-BCCE-44E3-9FFF-A8FF6C02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57A2-D54B-4085-982E-C194B81B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93B83-CD4F-4168-AC18-14F5825E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43CB4-AEFD-4959-9997-084046E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97AAD-E4AE-441D-A596-896C5F7E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2F03C-F318-48CE-96FD-68C21B6B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CDE-2D39-4FA2-A868-57BD977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B9E1E-68F9-42E0-85CF-D299618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BB4C-1509-459A-98D8-1A996CB1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77FAF-1BF1-4F30-8276-05F10EF3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B7A80-94D0-4CD4-A3B4-B4FDA61A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25CD4-8D2E-4B9B-81DA-7F3B6D1C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28108-79E2-446E-A1CB-AD9BE296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9496-E35C-4726-9E5E-D01CFEFB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6CD02-3CEC-4EDB-A943-6633031B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BCB9-9B45-4B6E-8B7C-7B1F7AB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C069F-FDB9-408B-BEE3-50B02D9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BB9-BE64-469F-8613-19BADB1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D6153-A6B8-4EB1-9E39-07DBB7A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8AD1-A798-4638-B883-75D89BF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6F4D3-E938-4C81-BFE0-890D7E18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C9E9B-97FB-46CB-BEAB-2EB65B08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6A9C-32D8-407A-B564-29FFBA10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4F507-ADD2-4673-A73A-5510AFAD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E5763-7183-4B70-98B1-141C10EB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3210-0A46-4DC9-997F-0E734A25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90A4D-F5C7-4A2B-B03B-934673CB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D3B95-1A06-4E79-9C32-157BFB3E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2DB-3D0C-4B91-A2FD-422DD32F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D39F-3CA9-41A2-AEB8-35C6A8AA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5A415-4062-4C27-B4E0-ACBBE692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0069D-3A68-445E-9048-5D38A98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42B12-686D-49E8-93F0-B2BA5FE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99F7F-59C2-4E4B-B5BB-00B34E3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36CF3-102F-49B9-933F-FC5C8EC2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0841D-7292-4A8F-9B13-CD7CED7E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30D7-07B3-41E1-B803-535403813C2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B1A3-CA67-47C7-BB73-98391E8CE5ED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E5A1-86DD-4DFA-A999-4F0E0B0910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7137-DD2F-45D6-9608-ED3D747B397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1FD-9725-4873-B301-74D38A6E9A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A50C-DD3F-42A0-B248-15AA818B9F45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6FD7-BEDF-4436-A30E-CA5FEAFAF7DF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747D-75A4-4646-A073-515CA79A7EB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remix.nicm.cz/wp-content/uploads/2010/11/POuk%C3%A1zka-C.jpg"/>
          <p:cNvPicPr/>
          <p:nvPr/>
        </p:nvPicPr>
        <p:blipFill>
          <a:blip r:embed="rId3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539640" y="2173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4:01Z</dcterms:modified>
  <cp:revision>34</cp:revision>
  <dc:subject/>
  <dc:title>Poštovní poukázky (složenky)</dc:title>
</cp:coreProperties>
</file>