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C933-BB8E-4FAA-B38C-3038E38FD4C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70E-20CC-403D-B251-CC5C50D1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D43A-CA65-4EAA-A38D-19DD7D3D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B10C-31BE-47F6-A05B-3D6C41CD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B9DA-56E0-463A-B388-B4E63BC6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0A9E-9706-46D0-B9FF-A790EA5F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D41C-BC5F-4F32-BE76-F16A76DA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58A8-FE85-4163-A8F2-34EB8317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E5AD-64F6-48CE-88DC-6EA893BB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E8F8-2FF6-40BE-8380-5BA54799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5D52-DA42-4F7D-9AE5-DA85B503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FA6E-9E63-4986-BC90-B73AE963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E1B2-8B26-444E-8E96-CE3E95D5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0026-A4EE-4C07-BAE7-7BCF02D5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949B-577A-4588-B44D-BED16017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C371-BC34-406E-A710-E103D007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2C56-06D5-4D8C-ACE8-CF19AAB8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47F9-CB6C-43E1-967A-B593BE3D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128-BFD0-4C1F-A8CD-FA207153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55C-A78F-48D4-B049-A214BC75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360-4963-48A4-977C-DEB1AA84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D1BD-568A-4E04-82E3-79781475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C4B-3CA5-49BC-96BB-966F6CBA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D15-675C-41E6-9A97-FC763CA4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E8FB-0EBC-463C-8842-E4C0619B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5FDE-D533-45ED-9FB1-FCA97D57E7B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9AF3-846B-4DA4-BC3E-A14C068C9BB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s.wikipedia.org/wiki/Ryzost" TargetMode="External"/><Relationship Id="rId2" Type="http://schemas.openxmlformats.org/officeDocument/2006/relationships/hyperlink" Target="http://www.puncovniurad.cz/cz/znacky.aspx" TargetMode="External"/><Relationship Id="rId3" Type="http://schemas.openxmlformats.org/officeDocument/2006/relationships/hyperlink" Target="http://cs.wikipedia.org/wiki/Investi&#269;n&#237;_zlato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39640" y="4365720"/>
          <a:ext cx="7561440" cy="1625400"/>
        </p:xfrm>
        <a:graphic>
          <a:graphicData uri="http://schemas.openxmlformats.org/drawingml/2006/table">
            <a:tbl>
              <a:tblPr/>
              <a:tblGrid>
                <a:gridCol w="3527640"/>
                <a:gridCol w="40338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Vývoj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lato a stříbro, minc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mince ze zlata a stříbra (opotřebovávaly se), později z obecných kov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eníze papírové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lký objem a váha mincí,  proto vznik papírových peněz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lat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hemická značka Au (aurum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kký kujný ko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pradávna používán pro výrobu šperků a mincí jako platid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loužil jako měnová záruka pro bankovky = zlatý standard (bankovky kryty zlatem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lato  v současnost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elektronic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počítačovém průmysl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perkařs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ubní lékařs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vestiční zla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lato  v současnost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modita obchodovatelná na světových burzách, z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ákladní a nejznámější burza Londýn, zveřejňuje průběžně výsledky obchodování tzv. London FIX a London SPO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větová cena zlata udávaná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dolarech za trojskou unci (USD/oz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yzost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karátech (zastaralé), 1 karát = 1/24 zlata ve sliti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tisícinách, 585/1000 je 585 g zlata ve slitině (= 14 kt zlat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starale  i v 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yzost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žívané zlato u ná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4 kt = 585/1000, ryzostní číslo 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8 kt = 750/1000, ryzostní číslo 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2 kt = 900/1000, ryzostní číslo 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ukátové zlato = 986/1000, ryzostní číslo 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4 kt (ryzí) = 999/ 1000, ryzostní č. 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značení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ozdobných předmětech a špercích z drahých kovů musí být ryzost vyznačena a potvrzena značkou státní zkušebny (puncem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R tuto povinnost ukládá a vymezuje Puncovní zákon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značení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konává Puncovní úřad, jako orgán státní správy na úseku puncovnictví a zkoušení drahých kov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uncovní znač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6" descr="http://www.puncovniurad.cz/znacky/CeskeSamotne.jpg"/>
          <p:cNvPicPr/>
          <p:nvPr/>
        </p:nvPicPr>
        <p:blipFill>
          <a:blip r:embed="rId1"/>
          <a:stretch/>
        </p:blipFill>
        <p:spPr>
          <a:xfrm>
            <a:off x="395280" y="1773360"/>
            <a:ext cx="85726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značení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výrobku kromě  puncovní značky i označení pobočky písmen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bočky: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-Praha, J-Jablonec nad Nisou, B-Brno, O-Ostrava, T-Turnov, R-Tábor, Z-Plzeň, L-Olomouc, H-Hradec Králové, K-Červený Kostele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457200" y="1905120"/>
          <a:ext cx="8229600" cy="4848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známení s funkcemi, významem a vývojem peně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, funkce, barter, všeobecný ekvival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Investiční zlat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kup zlata pro uložení dočasně volných finančních prostřed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vestiční zlaté mi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vestiční zlaté slitky (cihl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yzost 900/1000, 999/100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laté certifikáty, zlaté fondy – investice bez fyzického dodání zl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sou to peníz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unkce peněz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ormy peněz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voj peněz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teré měny plní funkci světových peněz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6. Zjistěte, jaké ryzosti zlata se u nás používaj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7. Co je to investiční zlato a v jaké podobě se s ním můžeme setka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8. Je stále aktuální barter? Uveďte příklad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ŠVARCOVÁ, Jena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Ekonomie – stručný přehle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Zlín: Nakladatelství a vydavatelství 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ng.  Jena Švarcová , Ph. D., CEED, pro rok 2012/201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978-80-87301-16-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cs.wikipedia.org/wiki/Ryzo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puncovniurad.cz/cz/znacky.asp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cs.wikipedia.org/wiki/Investi%C4%8Dn%C3%AD_zla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cc"/>
                </a:solidFill>
                <a:latin typeface="Tahoma"/>
              </a:rPr>
              <a:t>Peníze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eníz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eníze jsou takový statek, který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určité společnosti slouží jako všeobecně přijímaný prostředek směny (platidlo)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unkce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rostředek směn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používán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 placení za zboží a služby (platidl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účtovací jednotka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k vyjádření hodnoty zboží či služ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unkce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uchovatel hodnot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uchovávají svoji kupní sílu (úspor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větové peníz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vybrané měny a  zla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ormy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bankovky a minc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základní for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epozit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bezhotovostní peníz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účtech v banká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enné papíry  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Vývoj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tzv. samozásobitelská ekonomik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spotřeba pouze vlastních výrob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tzv. naturální směna -  barter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, výměna zboží za zboží, problém v různých hodnotách vyměňovaného zbož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Vývoj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moditní (zbožové) peníz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šeobecný ekvivalen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 zboží žádán všemi, slouží jako platidlo (plátno, dobytek, koření, sůl, jantar, kovy), problém ve špatné dělitelnosti, nízké trvanliv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07:20Z</dcterms:created>
  <dc:creator>kabek</dc:creator>
  <dc:description/>
  <dc:language>en-US</dc:language>
  <cp:lastModifiedBy>Igor</cp:lastModifiedBy>
  <dcterms:modified xsi:type="dcterms:W3CDTF">2014-09-13T14:42:45Z</dcterms:modified>
  <cp:revision>33</cp:revision>
  <dc:subject/>
  <dc:title>Peníze a měna</dc:title>
</cp:coreProperties>
</file>