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78A58-AD67-4440-A9C5-6C124546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0EC06-67E5-420A-BDBB-696ED745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20C26-DCB5-42C5-B526-B397EC4F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7A451-737E-4169-8456-77EF7E2C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23BA-C9B1-49E7-8CCA-5F57ED7E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5702-1A40-410D-BE1E-ACCF9A3C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A63E-5AF7-4360-95F8-0D9D5EDB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045D-3317-4117-9555-4DA4C265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615B-F676-4DA4-83EC-4998B7B5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5DA3-B212-4C83-A02B-91782B5E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1B77-FA4E-474B-8AB5-34A002CA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4EA7A-79A3-468E-92C0-CD39AF8C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FF88-8A84-4E48-9D75-E5644099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CF4C-5B0E-4790-A442-06CE2C38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028B-2F6F-4D7C-AFCF-E4EE2672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610E-29CC-4F29-9077-B7C1CF63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B7A1-033E-486C-91CF-2CEC2312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765DA-7DA5-4737-AB46-4EBBFE34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DFCB9-5C6A-42CF-B67E-7977946C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8E503-5175-408A-93AA-80DBD11A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0ABC4-B2EC-4E94-9444-BC351C16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6D261-D0A1-4656-B9D4-081CAFEE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37DED-AB0B-43A3-9B90-78BABC87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5F173-291B-4521-BA46-9CFFBEA8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80DED-A3FD-42BA-B5AF-CF98F2BE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A36EF-0E9D-44DE-947F-0624DFBC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54FF3-0C57-4D00-8C1D-996E2133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9DD30-90CC-4E49-916A-CEC528F4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DD618-38A6-47DA-B10C-F2842FAA6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3242E-5FA3-4066-8529-887D21DD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CE7CB-CDC1-48FB-986D-16C0CD61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EE8B1-C121-4AB1-B0DF-8F64EA3A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E7D42-BC8C-40CF-8041-B43F911E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B6034-03D8-4AD5-8075-6B2D1435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D5A5A-17D3-4FEE-87FF-90C6DEAC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26AFA-2BCE-410B-B612-B93ACB3C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A999-A4FA-4DF6-A7F2-2795481B7FD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4FB9-51F5-40F7-B994-12879B3ACF5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1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09D2-8362-473E-A2EB-B18FD6700F6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2533680" y="4572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11280" y="3860640"/>
          <a:ext cx="7561080" cy="42552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611280" y="4500720"/>
          <a:ext cx="7561080" cy="1554120"/>
        </p:xfrm>
        <a:graphic>
          <a:graphicData uri="http://schemas.openxmlformats.org/drawingml/2006/table">
            <a:tbl>
              <a:tblPr/>
              <a:tblGrid>
                <a:gridCol w="3456000"/>
                <a:gridCol w="410508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 ČNB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vizová činn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latební styk a zúčtování b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a stá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stroje měnové politi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perace na volném trhu –repooprace, od bank přebytečné peníze, za ně cenné papíry (kolaterál), po uplynutí dohodnuté doby odkoupí ČNB cenné papíry zpět i s úrokem, 2 T reposazb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stroje měnové politi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utomatické facelity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pozitní facilita -  možnost bank uložit přes noc u ČNB  svou přebytečnou likviditu Minimum 10 mil. Kč, depozita úročená diskontní sazb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stroje měnové politi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. Marginální zápůjční facilita  - možnost bankám vypůjčit si přes noc od ČNB formou repo operace likviditu. Minimální objem je 10 mil. Kč, úročeno lombardní sazbou ( nevyužívá s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stroje měnové politi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vinné minimální  rezervy – banky mají  uloženy u ČNB 2 % (ze závazků kratších než 2 roky, tj. z vkladů klientů), slouží pro plynulý bankovní sty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hled nad bankovním sektorem, kapitálovým trhem, pojišťovnictvím a penzijním připojištěním, družstevními záložnami, směnárnami a dohled nad institucemi elektronických peněz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699920"/>
            <a:ext cx="7010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děluje lic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patření k náprav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stranění nedostatk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ýměna osob ve vedení a dozorčí rad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mezení nebo zákaz některých činnost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76160" y="1699920"/>
            <a:ext cx="7010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patření k náprav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imořádný aud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kuta až 50 mil.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nížení základního kapitá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ucená sprá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nětí lic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NB stanoví pravidla, která chrání stabilitu celého finančního trh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ntegrace dohledu do jedné instituce (ČNB) od 1. 4. 200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í stížnosti na finanční institu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lídá dodržování zákazu nekalých obchodních praktik, zákazu diskriminace spotřebitele a dohled nad řádným informováním o cená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468360" y="1916280"/>
          <a:ext cx="8229600" cy="4168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eská národní ban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znam ČNB, její funkce a úko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eská národní banka, měnová politika, dohled nad finančním trhem, emise oběživa a peněžní oběh, devizový dohled, banka státu, platební styk a zúčtování ban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bor ochrany spotřebite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může rozhodnout o náhradě, zrušení smlouv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ůže rozhodnout o porušení zákona (sankce pro finanční instituci), což je pro klienta důkaz pro so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de centrální registr úvěrů – úvěrové závazky podnikatelů (fyzických a právnických osob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častníkem všechny tuzemské banky a pobočky zahraničních bank na území Č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mise oběživa a peněžní obě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onopolní právo vydávat bankovky a mince včetně mincí pamětních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bá o plynulý a hospodárný peněžní obě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ravuje zásoby peně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mise oběživa a peněžní obě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ahuje z oběhu a ničí opotřebované peníze a poškozené vyměňuje za nov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jišťuje technickou a uměleckou přípravu platidel, jejich výrobu a dodáv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mise oběživa a peněžní obě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ílí se na přípravě právní a technické ochrany platidel proti padělání a na její realizac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uzuje a eviduje všechny peníze zadržené pro podezření z paděl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evizová činnost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ráva devizových rezerv stá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perace na devizovém trhu (devizové intervenc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vizová regula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kupuje a prodává cizí měnu, tím ovlivňuje její kur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tební styk a zúčtování bank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anoví pravidla provádění platebního styk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avidla pro vydávání a užívání elektronických platebních prostředků  a pro bezpečné fungování platebních systém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tební styk a zúčtování ban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vozuje systém mezibankovního platebního styku CERTIS (zúčtovací = clearingové centru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de účty a poskytuje služby platebního styku zejména státu a banká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Banka státu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uje bankovní služby pro stát a veřejný sek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de účty organizacím napojeným na státní rozpočet (ČSSZ, ÚP, celní úřady, státní fondy) a rozpočet Evropských společenství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Banka státu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vádí operace spojené se státními cennými papí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 oblasti měnové politiky reprezentantem stá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stupuje stát na jednání MMF a Světové ban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Česká národní banka</a:t>
            </a:r>
            <a:r>
              <a:rPr b="0" lang="cs-CZ" sz="4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kladní údaje o b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ěnová polit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mise oběživa a peněžní obě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vizová činn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 Platební styk a zúčtování b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7. Banka stá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8. Stížnosti na finanční institu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9. Zjistěte aktuální úrokové sazba stanovené ČN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o_cnb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menova_politika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financni_stabilita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dohled_financni_trh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platidla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platebni_styk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financni_trhy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dohled_financni_trh/vykon_dohledu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ákladní údaje o ČNB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entrální bankou Č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kon o ČN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litická nezávislost ČNB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xistence zakotvena v ústav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jvyšším řídícím orgánem  bankovní rada, v čele guverné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ákladní údaje o ČNB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leny bankovní rady  jmenuje a odvolává prezident republi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vní rada předkládá poslanecké sněmovně Zprávu o inflaci (4 x ročně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nformuje veřejnost o své činnosti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ákladní údaje o ČNB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veřejnoprávní subjekt se sídlem v Praz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bočky: Praha, Ústí nad Labem, Plzeň, České Budějovice, Hradec Králové, Brno, Ostr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ákladní údaje o ČN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mpetence správního úřad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ospodaří samostatně s majetkem svěřeným stá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 její činnosti lze zasahovat pouze na základě zák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smí přijímat pokyny od vlá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íle ČN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lavním cílem je péče o cenovou stabilitu k vytváření podmínek pro udržitelný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ospodářský rů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pora obecné hospodářské politiky vlády, pokud není v rozporu  s cílem hlavní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 ČN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 souladu s hlavním cílem tyto úkol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ěnová polit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mise oběživa a peněžní obě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7:55:44Z</dcterms:created>
  <dc:creator>Marek</dc:creator>
  <dc:description/>
  <dc:language>en-US</dc:language>
  <cp:lastModifiedBy>Igor</cp:lastModifiedBy>
  <dcterms:modified xsi:type="dcterms:W3CDTF">2014-09-13T14:42:14Z</dcterms:modified>
  <cp:revision>34</cp:revision>
  <dc:subject/>
  <dc:title>Česká národní banka</dc:title>
</cp:coreProperties>
</file>