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C07B-0B4F-4515-B543-3690C74131D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1E3A-D3BF-4A3C-AD6B-666BAA899B1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291E-F80D-43B2-BDA8-E3805241BFB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DD1E-77BB-4036-BAAB-0219438AF90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7B0C-2189-410A-9016-991ECB7C34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40CA-97E1-4EBA-8A47-896B53EA2A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B9ED-86AA-4ECB-9F79-205EB75524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525D-A999-4021-9411-7F1C28E6353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CFC-FFFE-4F3C-A108-B37018F9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21F-1C02-41BC-AC8E-C35097BC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BF3-43F2-4035-8183-EDC5F497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836-FB17-4230-9DF0-C795901E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1262-2F8A-48E8-A0FB-C7893CD7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439C-A8F7-4890-BD96-7BA12E24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C413-81D2-4DAD-967B-14764863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313C-9037-4DC4-91D1-C6B1908E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25AB-83C2-447D-BA80-CFD4D509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C9D2-6771-49EB-9C8B-0A20F8E1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C688-4E8F-4CE0-ADFB-3CC65C77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DF3-7A45-4F4D-B905-D3E72728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4BFE-8B76-4189-90EF-0FB1465F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3F19-D763-4F2C-941B-CA29C244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A35C-F418-4FBA-B243-6A5333E9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C77D-BEE0-41A9-9149-15B971E4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024B-1E76-4679-9BC2-3761D738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DA7A3-F532-4387-8349-1C3A5C09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8FC17-655C-4E6A-821D-864D9CAF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F2734-49E8-40ED-BDD8-BF59EC22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C6213-DED7-48D9-9A6D-8DC05B74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6E124-A55D-4CE4-8BD9-FBFDBC86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F64-55C2-4834-BA30-B4D5922E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DC638-7C92-4A47-9DFC-93786B2E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EBA13-84A0-42D6-9634-A1D17B61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A8E52-D38A-4AEA-8232-1C14AF76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F67F0-8B4A-4107-9E5B-2CE9ADAE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9D072-A09E-410D-BC7A-CC89B28B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65D26-82CA-4C1D-A14B-531A8662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0EDDF-6A6E-4387-A931-ACCF4342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A30-5471-4763-94D5-353EB55D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D3D-5432-4E72-B508-4EBBD112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4E9-9CAC-483E-B936-FE0C35C1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6ED-BB24-484A-BCE9-D9DD0976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DE4-9E05-4A94-AAE8-52A5639F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1E8-3BF6-4502-A987-5BA3AB2B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A750-D0FD-44A5-9143-E76549B2982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DFDD-D85C-411E-8FDE-1494E8BA1836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A48E-7AAB-4C6C-93DC-EF63BB56BEC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lohy na tvorbu a čerpání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vorba, oprava, čerp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- úlo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Úlohy -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33"/>
                </a:solidFill>
                <a:latin typeface="Arial"/>
              </a:rPr>
              <a:t>Určete, zda a jakou rezervu může firma vytvořit (účetní období 2013)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čítač, předpokládaná oprava 20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ředpokládaná oprava střechy 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ůdní vestavba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sobní auto, instalace klimatizace 20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ředpokládaná oprava střechy 20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Úloh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7499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se v roce 2013 rozhodla tvořit rezervu na opravu budovy. Plánovaná oprava bude provedena v roce 2016. Rozpočet opravy 600 000 Kč. Oprava byla provedena dodavatelem v roce 2016, částka 786 500 K00 Kč, včetně 21% D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4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5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P – Oprava budov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4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50 000,--  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36 500,--  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00 000,--  451/55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1:04Z</dcterms:modified>
  <cp:revision>16</cp:revision>
  <dc:subject/>
  <dc:title>Dohadné položky</dc:title>
</cp:coreProperties>
</file>