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69A-2EF8-4CBA-9239-A2B4C123D2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1D2-4769-4095-BA83-56CAC656C31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2162-21D8-43B2-B22A-59A485A1E0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270-F08A-4602-BA8D-0AA8FD35A4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884-AC78-4868-8574-6912BB1E39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5996-73D4-419F-9C20-71B1E0B04C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D0C7-97E6-4828-8F9E-4D51CC72D5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6F7D-941B-4C17-98EF-509B405263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0B6-32FB-4755-8CE0-DD2F3DD287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4E3-1FAB-477A-AA64-995D6367C6F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E58-8CE1-4F6C-9DFA-FC05EEEF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C62-66CD-4807-83F0-6D3BD604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55C-503A-44D0-8133-C41826BC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A50-F69B-42C1-BC80-375B1F45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AA3B-37C0-4AE4-B4C9-19AEDD37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570F-64F6-4C7A-9C66-E0670DBB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D3BD-BF63-4D3F-9828-2E49F15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9FC9-2B27-4C1B-8BE4-95899F14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925-8DC1-499C-BE7F-E3D9B43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459F-07E4-4CCC-8B5B-2E7D7B33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FE27-322F-488E-A8B9-BDC176C3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A14-4F87-4E09-99F3-DCE7B4F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32E8-2E8E-4C68-ADCB-FF47B15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AB02-5403-4803-AEE8-E7E99AE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38DD-6CE0-430D-A98B-6A6C8146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E5D7-3E50-4C27-881D-51AE6198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4832-AB8F-4524-AF06-081FA547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B492D-1685-4F48-986C-10FE6B9E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53343-38D7-431C-AE85-E712802A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07E4B-AAFA-4F6F-95C1-FC5A9533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2C60E-A274-4316-ABC0-EC98D5FE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8D218-DE07-45DA-97DB-D8C5E8AE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49F-C7EE-42C6-867F-A1D283C5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5A106-5718-40C2-8692-107C785B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0156D-FC4F-4EA3-8C21-86524BE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9317C-CBC6-485A-B771-FB9ADCD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438FD-8B2B-4791-AE5E-FC03E5ED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E9346-AECE-40F1-AA52-E8B07C3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D12E6-3197-4243-8479-B0657D43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556E4-A036-4B91-A9C1-F97A243D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E00-4AB3-4E9C-B792-A833A55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6D4-E246-4BE9-B3C8-C2FDB00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E2B-C0F6-4A39-B6E5-C60444C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C62-1A90-44B4-92A5-2F798C67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B3D-F9C4-4335-B7B9-710831A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297-E7CA-4FA0-B8EA-71FF283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87EB-5CC0-4A82-83EF-EB0720AEBEA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0E89-2DF6-4E38-A6F0-EEA57CB0453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9EF-65BB-4D81-8D5F-8AD139BDBE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ostatní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statní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ostatní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ostatních rezerv se účtuje do nákladů, a to na účet 554 – Tvorba a zaúčtování ostatních rezerv (na stranu 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účtem je účet 459 – Ostatní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počítače (1. odpis. skupina). Oprava bude provedena v roce 2012. Rozpočet opravy 80 000 Kč. Tato oprava byla v plánovaném roce provedena dodavatelem. Fakturovaná částka činí 99 22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počítače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2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 22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8:31Z</dcterms:modified>
  <cp:revision>17</cp:revision>
  <dc:subject/>
  <dc:title>Dohadné položky</dc:title>
</cp:coreProperties>
</file>