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AC02-F267-41AB-BC63-07D2FFFD3B0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E7A1-4975-4193-A62F-C50E72B272A4}"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DA2A-06D8-4895-80BC-3EB5331356CD}"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2BB7-8DA9-4C5A-9D00-D24996499738}"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67BE-B8A4-45DC-BBC5-F93D996B1C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C6F6-A694-41C0-A806-463E395F6FD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CEEE-B4FD-4D07-AAEC-4BEF19078B6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BA36-9DC3-402B-BD57-8C152D4181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E07E-6A2F-4EB6-A78B-32312C576D1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EC58-9D0B-4438-9B92-850A695B370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EED8-FCB0-4B89-94CB-235E9A2AF68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AA6D6-73F4-4A9A-8AD8-DDDE6E227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ED028-E26F-496B-9408-5C056CB03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820F4-F57F-45CF-857D-719F2F688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1C637-70AE-4555-A3EB-1EB8C1502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A0CC2-A4CC-490A-8F2D-EA0D4C09B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504C4-9251-4EA5-A8D2-FD2D54E14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84188-831B-4A44-8DFF-AA451FD21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2C867-CC71-46C1-A088-532D1D1AA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7ECC6-FFD3-4674-B4FF-4BC6425EA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9D9A5-5DB9-4E63-AC3F-C2E0E1820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4A4B3-EF99-4FA8-9562-9C216C115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6ACA-972A-483D-85EE-65B82E96D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5EEF7-147C-4ADA-B8D9-8DC8C89D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0D0B1-C4D0-4FBA-929F-8E08DEFB2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010C8-3BF7-476C-B627-27AB7F0D3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4CEF9-1C06-428C-92ED-66B47521E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B9BA0-5C0F-4769-9F7C-8D545AD57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B6C06E-2C13-4AD6-8094-782452B9B7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D8FD4C-C9F7-4A58-A070-E85F5A38D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17D2CB6-EAAB-4C00-925A-A7FA9767FE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4EF9D6-2204-467E-B923-DD8BD140E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E23825-D584-4C67-8A04-6BF658FBB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1A3D4-69BE-4A37-B36E-BE1739458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CD58C7-F525-4DA7-8816-AC913B398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61157C-B79C-429E-B2E0-3425D74D9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699BFD-7E6B-438A-B183-2E594BE28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915A8E-EF08-4FC1-8834-96D69888E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3F2210-C9B8-44A4-AADE-1B8DE56D3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44D9EF-FAA5-4021-A71A-EF1157DD74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7DA9061-2782-4FD7-B819-AF44A314BC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8753-18B2-4AA6-9FE2-9260E383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4A31A-5676-4FEF-B0EA-18CCFC7D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64A94-5123-43CB-9293-0006CFE5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F311-91C0-43EC-9EBA-BE76C4EF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85EA-978E-49AE-B713-D0858CEC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2DF3-C4A0-407C-9288-765898963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D193-5AA5-4CA3-9616-640226F93E1C}"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7451-043E-4EC3-8128-1A60230E60CE}"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E97A-FD34-4D18-B50A-EA37F85F054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2060640"/>
            <a:ext cx="9144000" cy="43927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Výukový materiál zpracován v rámci projektu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EU peníze školá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Registrační číslo projektu: CZ.1.07/1.5.00/34.02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3" descr=""/>
          <p:cNvPicPr/>
          <p:nvPr/>
        </p:nvPicPr>
        <p:blipFill>
          <a:blip r:embed="rId1"/>
          <a:stretch/>
        </p:blipFill>
        <p:spPr>
          <a:xfrm>
            <a:off x="1258920" y="333360"/>
            <a:ext cx="6083280" cy="1487520"/>
          </a:xfrm>
          <a:prstGeom prst="rect">
            <a:avLst/>
          </a:prstGeom>
          <a:ln w="0">
            <a:noFill/>
          </a:ln>
        </p:spPr>
      </p:pic>
      <p:graphicFrame>
        <p:nvGraphicFramePr>
          <p:cNvPr id="138"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9"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 roční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20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droj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g. Pavel Štohl – Učebnice účetnictví 2. díl pro střední školy a veřejnost, vydavatel vzdělávací středisko       Ing. Pavel Štohl, 20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2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55">
                                            <p:txEl>
                                              <p:pRg st="1" end="1"/>
                                            </p:txEl>
                                          </p:spTgt>
                                        </p:tgtEl>
                                        <p:attrNameLst>
                                          <p:attrName>style.visibility</p:attrName>
                                        </p:attrNameLst>
                                      </p:cBhvr>
                                      <p:to>
                                        <p:strVal val="visible"/>
                                      </p:to>
                                    </p:set>
                                    <p:anim calcmode="lin" valueType="num">
                                      <p:cBhvr additive="repl">
                                        <p:cTn id="14" dur="2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741320" y="274680"/>
            <a:ext cx="5661360" cy="1143000"/>
          </a:xfrm>
          <a:prstGeom prst="rect">
            <a:avLst/>
          </a:prstGeom>
          <a:ln w="0">
            <a:noFill/>
          </a:ln>
        </p:spPr>
      </p:pic>
      <p:graphicFrame>
        <p:nvGraphicFramePr>
          <p:cNvPr id="141" name=""/>
          <p:cNvGraphicFramePr/>
          <p:nvPr/>
        </p:nvGraphicFramePr>
        <p:xfrm>
          <a:off x="468360" y="1413000"/>
          <a:ext cx="7991280" cy="4113000"/>
        </p:xfrm>
        <a:graphic>
          <a:graphicData uri="http://schemas.openxmlformats.org/drawingml/2006/table">
            <a:tbl>
              <a:tblPr/>
              <a:tblGrid>
                <a:gridCol w="3995640"/>
                <a:gridCol w="3995640"/>
              </a:tblGrid>
              <a:tr h="784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í uzávěr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čerpáním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Zrušení, čerpání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00" y="2781360"/>
            <a:ext cx="762336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05264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
        <p:nvSpPr>
          <p:cNvPr id="144" name="PlaceHolder 2"/>
          <p:cNvSpPr>
            <a:spLocks noGrp="1"/>
          </p:cNvSpPr>
          <p:nvPr>
            <p:ph/>
          </p:nvPr>
        </p:nvSpPr>
        <p:spPr>
          <a:xfrm>
            <a:off x="468360" y="2349360"/>
            <a:ext cx="7416720" cy="3781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rušení (čerpání) rezerv je nutné zaúčtovat jako snížení nákladů v roce, kdy pominou důvody pro tvorbu rezerv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Rezervy rušíme z těchto důvodů:</a:t>
            </a:r>
            <a:endParaRPr b="0" lang="en-US" sz="21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yla provedena oprava DM</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l prodán</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 jinak vyřazen z evidence (např. z důvodů škody)</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inné zrušení – v případě, že nebyla zahájená oprava, a to nejpozději rok po předpokládaném termínu provedení opra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byla tvořena rezerva, dokončena již ve zdaňovacím období, ve kterém byla zahájena, musíme v tomto zdaňovacím období celou rezervu rozpust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účtování zákonné rezervy </a:t>
            </a:r>
            <a:r>
              <a:rPr b="0" lang="cs-CZ" sz="2200" spc="-1" strike="noStrike">
                <a:solidFill>
                  <a:srgbClr val="000000"/>
                </a:solidFill>
                <a:latin typeface="Arial"/>
              </a:rPr>
              <a:t>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nebude oprava, na kterou je rezerva tvořena, zahájena nejpozději ve zdaňovacím období, které následuje po zdaňovacím období, ve kterém je předpokládáno zahájení opravy, na kterou je tvořena, musí se celá vytvořená rezerva rozpustit (zruš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Pokud tato oprava nebude zahájena ani v roce 2013, musíme tuto rezervu zruš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rušení zákonné rezervy v roce 2013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je rezerva tvořena, zahájena nejpozději do konce zdaňovacího období, které následuje po zdaňovacím období, ve kterém bylo předpokládáno zahájení této opravy, je nutné rezervu rozpustit nejpozději do konce zdaňovacího období následujícího po zdaňovacím období skutečného zahájení opravy, a to bez ohledu na to, zda byla oprava dokončena či nikol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prava byla zahájena až v roce 2013. Pokud by oprava byla dokončena ještě v roce 2013, tak musíme rezervy rozpustit v tomto ro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oprava v roce 2013 nebude dokončena, tak musíme rezervu rozpustit v roce 2014 (a to bez ohledu na to, zda bude v tomto roce dokončena či nikoliv).</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8:08:18Z</dcterms:created>
  <dc:creator>Ing. David Holzbauer</dc:creator>
  <dc:description/>
  <dc:language>en-US</dc:language>
  <cp:lastModifiedBy>Igor</cp:lastModifiedBy>
  <dcterms:modified xsi:type="dcterms:W3CDTF">2014-09-13T15:36:46Z</dcterms:modified>
  <cp:revision>12</cp:revision>
  <dc:subject/>
  <dc:title>Dohadné položky</dc:title>
</cp:coreProperties>
</file>