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39F9-E089-4436-AED3-C0112831A0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5F65-8424-413D-B316-B78D8300E09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0139-831F-4B0E-9876-F4F6452C75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F846-7D31-47DB-9DB7-4DFFCE2BD8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BEEA-A2F8-4CF3-ACB4-65DEB6C8E1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7CE5-9655-4AC1-8871-C21C4FE063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7EBA-8FED-4FEE-A3C6-6E79375AC9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78D-5D89-4C5A-921B-099DF3DD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EEC-EE9E-4D8C-A5E5-BC7E466B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8BB-AE45-4F61-96BC-BD603B4A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995-3C98-4E71-9F90-26DF5C5F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A216-9D45-4BE9-8FC2-C0F393E4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631E-4E8F-4923-B910-BA8D45EF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5AAE-5372-4456-AE61-19B4B16F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69A7-85F7-48B9-8DA1-67DE5C7E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653F-DE52-4786-808E-318C64BF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96D0-2406-4438-8732-FFE5E0D8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AC4D-C211-436A-A51E-FBB875C8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446-6236-4BBF-BF89-D10BE3A4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ED0D-CE5F-4E52-8A31-F67CA364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B60B-757D-41AF-AB2E-3A969128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29BF-5DE7-473A-B016-81F0C90E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A169-5856-4144-840E-29C197B4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D108-A306-453A-B043-99C24AFF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A5223-38EF-407E-BCC5-8304336A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59482-F395-4323-A252-1299044B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02756-411E-42D5-B49A-9CAFC8C3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0DB09-C297-4287-B042-7D3623D1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DE876-EAF0-4A92-BC73-44CF19CF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A28-DBA6-45BF-90C1-EC2B1A58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58E2C-6FAE-4187-AB9A-20D1E0C2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1CAD7-9CC1-463E-9F73-B9DBAB43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A8439-BBA2-4316-94ED-1278A460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FC922-0442-41C6-B75D-9E1E6C0B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ED4E1-8018-4F6B-AFA6-717FA596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1D6F5-7C84-4FEF-9D08-5E95856C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31C4E-88DA-4FC4-8D26-350141CB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4DC-690E-4A54-8F1E-AC19C18D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263-28B5-4980-8458-ADD9C2BE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220-00F7-48A6-A0F3-826A272D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7E0-8BBC-4AEB-B5FC-78CA5AF6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994-7E68-4366-ADF0-DAA3529A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495-196F-4E17-B97D-FC46DBD5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9AC8-10A8-47E1-9D82-88004B52C616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2E07-4EF5-44DD-957B-815A60316357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54A3-AFE8-4404-A765-D639CB8530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ostatních rezerv je upravena vnitropodnikovou směrnicí účetní jednotk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ich tvorba není daňově uznatelným náklad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zi ostatní rezervy patří napří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opravu DM, který nesplňuje  podmínky ZoR (majetek v první odpisové  skupin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33Z</dcterms:modified>
  <cp:revision>15</cp:revision>
  <dc:subject/>
  <dc:title>Dohadné položky</dc:title>
</cp:coreProperties>
</file>