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3BF5-78D0-4659-9A10-2F027178649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673D-979E-43EA-B768-AAA9DAC8201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6C11-8CA4-40CC-90D8-06F456E8CC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D69A-C726-4591-B63F-CEBB0DD56A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8DA4-D58B-4AEC-BF12-6F7A0CA81C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AAF7-49AC-438F-8128-B316E61662E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BBFA-1EE0-4B1D-96E7-A6B5B01C043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94C6-9D36-4B99-99AE-D7E9766CAD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8074-5532-46DA-8E51-43909F992C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5DF9-2BE2-4A90-8225-18AF0E38A1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9CE4-1172-450C-8A5F-4DE03EBD4F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4B44-E458-4434-93FF-16BDD0D7CA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1B45-2C02-4CEC-8ACB-D0E5F92341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3086-1453-4D06-B134-F52279EA35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1AB-0C30-4E7A-B17E-B366563C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2ED-48A4-432B-B25D-1FF25A8B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B9E-BAA9-4EF6-B98E-971FAF5A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685-A2D6-4A60-9592-0FD1C4E8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1719-5027-4950-BE8C-297FF75A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3B61-961D-4049-9B19-2038DB42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27DA-5CFD-44A8-AC2D-A8EA5A2D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80E9-AD7E-4539-BF79-30B453FA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4B80-C210-4F2B-BF84-50A50F85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C3F3-EC43-41AB-A314-0D1108CD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9D28-F5D6-4C54-8D83-99D729A2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DB4-BF29-40C3-A31C-9AECC7DB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2A73-479B-4C58-ABBD-0779B9DB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CC5E-8E06-4EC7-836D-8B712A36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DF7B-36F9-48CE-8CD9-46EF5795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8D70-4412-4243-A26D-E85AD2C1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D89E-F44E-4083-91B4-151C0580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75FD7-5CAB-4D23-8716-C226C3E8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8032B-8EC2-4006-A751-DE2EE926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30CD6-F49B-4DCF-8272-0F04EB63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5F660-0BB9-4CA2-8415-6D5FF53D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C69A1-06A9-42B8-BC77-6CA180C2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9EB-DFA1-4748-A125-C2899A31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ECD22-908A-4493-9F49-124E1C81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DAF49-4479-4D05-A30C-045B8FED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AE8C1-7C54-4A3D-B5B9-32DBC975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EC866-9F9C-4B4D-8A97-30C0CAD5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7C452-AEE2-45C0-89DE-E1E4E200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9743A-B6C4-4B3A-B353-6C4D0BF0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64D9A-415F-4A7F-B00A-4609B7DF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0D5-930D-4F5D-B9B1-D66DFAED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B31-46CE-44B6-B9E9-968E52FD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570-ACBD-4E38-A19C-61BEB1C9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FAE-4298-414A-844F-E6C8D2FD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5E8-760B-4230-98F7-8DAFF7B5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2A6-115E-4A6B-8838-561F0DAB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BBDC-6631-4063-9095-8F1F5810CFFF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3D73-F625-4F62-AC02-8B2B1D9B716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E35E-4FE5-4B92-9EE8-B6E8FB9D379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1. Minimální doba tvorby rezervy – musí být tvořena minimálně na dvě zdaňovací období (rok předpokládané opravy nesmí být započítá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irma se v roce 2013 rozhodla tvořit rezervu na opravu D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u musí tvořit v roce 2013 a v roce 2014. Předpokládaná oprava DM bude nejdříve v roce 201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Maximální doba tvorby rezervy – je dána podle jednotlivých odpisových skup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odpisová skupina – 3 zdaňovací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odpisová skupina – 6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odpisová skupina – 8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.-6. odpis. skupina – 10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Inventarizace rezer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konci účetního období se v rámci inventarizace posuzu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důvodněnost rezerv – zda stále trvá důvod pro provedení opra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še rezervy – např. při výrazném nárůstu cen vstupů můžeme zvýšit částku rezer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rezerv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izí zdroj, tvorba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Rezerv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jsou cizí zdroj, protože představují budoucí závazek (např. rezerva na budoucí opravu budovy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tvorbě rezervy známe jejich účel, ale hodnotová výše a období se pouze odhadu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Druhy rezer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se člení 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zákonné rezer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ostatní rezer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Zákonné rezerv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vytváří účetní jednotka na rizika, ztráty, ztráty, předpokládané výdaje v případech stanovených Zákonem o rezervách pro zjištění základu daně z příjmů, které tvorbu rezervy považují za výdaj na dosažení, zajištění a udržení příjm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a je daňově uznatelným náklad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Účetní jednotka může tvořit zákonnou rezervu na opravy HM za těchto podmínek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usí být vlastníkem dlouhodobého majet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smí být tvořena na technické zhodnocení  nebo na údržbu hmotného majet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u lze tvořit pouze na majetek, u kterého je stanovená doba odpisování více než 5 let (od 2. odpisové skupin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Rezervu nesmíme vytvářet na opravu HM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opravu majetku, který je určen k likvid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opravu důsledku škod a nepředvídatelných či nahodilých udál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každoročně pravidelně se opakující opr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e rezervy na opravy hmotného majetku se vypočítá jako podíl rozpočtových nákladů na opravy a počtu let, které uplynou od zahájení tvorby rezervy do předpokládaného termínu zahájení oprav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okládaný rok zahájení opravy nesmí být do počtu let započít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2:33Z</dcterms:modified>
  <cp:revision>13</cp:revision>
  <dc:subject/>
  <dc:title>Dohadné položky</dc:title>
</cp:coreProperties>
</file>