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418C-6B85-4833-9E56-4378F1338B7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1F57-E306-49A0-B57E-F6EE009EC3C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E060-1D84-4E69-B81D-26B4EFD36EB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A150-8D8B-4AC0-B050-F76CA842FD2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1F18-B7DF-41B8-9734-20B7271F3F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5176-1AA1-461D-B029-48438339D83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A569-3F1A-41AC-8498-C55A56260BE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D97C-4DE8-4149-8737-EE0B9FCF061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0BF0-B999-4DE0-AB6D-D43ABEDB72B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9DF5-31AB-4612-995E-113B0F3F9FA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91442-7B68-4CD5-B347-31532D26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EABC6-4E9D-4BBC-954C-D79AEDF6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385CB-1C45-4E3C-8F7D-2097946E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55434-4943-48A8-AD72-94624ECD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417E3-136A-45C7-9B4D-9EF62444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2ED5D-E378-4B11-8942-B3F1FA5F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7362B-CE74-48F4-AD16-125BF6F3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36B56-829A-4FB6-AC44-7B253605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5CC79-F303-4B24-970C-1D922BE9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B3867-176F-4A9B-89B1-32E7CC28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79693-C42B-43AB-B595-D075650B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6B469-C379-4838-A74E-12D2C321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D5E41-89CB-4C87-A109-EC794034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FD739-312A-4963-8665-5D3DD140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27B85-97ED-4AB5-9300-78F6E460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BFFE2-7C77-4A64-867D-F193101F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0C57F-631E-4BC3-913F-FB2B251D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8883E-2682-422E-98E7-4CAE4EF3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D312E-DED6-4479-982C-CC0D51F4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575C9-81BE-4672-B750-FCEA538A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91BEA-7FF9-48C4-AA71-14D1034F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E1687-9A51-413B-A3A5-061E1DA6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6520D-BAF1-4F70-99DE-0D853DA1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1E05B-9545-46DC-93B0-FA750343C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29AB8-8155-44E9-99B0-C67C610B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C8E41-9BC2-4244-8A69-ABF4A351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423CB-C3AD-45FB-B411-237FB2DF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505A1-4DA3-4207-AA45-A64013F8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A79A3-0BB9-480D-86B4-71D15E9E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7E702-9501-4BE1-805C-F36339FB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D5BEE-280E-48F2-8DFB-A7124DF3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79EA3-5D0E-409E-BB5B-B76B5B21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E2AA1-241D-4CC1-99A6-2EE46BA2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C1635-EB25-4484-8A23-5DC3AE69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BE93-FAD3-4D99-8EF4-A3D951A1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A16EE-6836-4FC6-BEE3-4A858F04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99060-A9DE-4BC4-8556-7C6F75D7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1C9F5-BC0F-4B2C-90BF-869DE252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68832-6DA5-4C09-886D-65FC73B7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4378A-EE9F-4BE3-84F0-73849D5F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8CA2C-9822-4EBB-AB6C-0E28B4A0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26570E-B39C-41FD-AFA5-3A3B4785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B313F-B8DB-43F7-81EF-2B5F3902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134F1-DA78-4166-98D6-A2553ABC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64B21-EECB-4855-9F7C-6D8207D6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0019-8A39-4008-A767-69F1B349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C4D0F-5D54-4C0D-8EBF-6334161E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D1E9F-E888-4468-996D-56FFB6A5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73D29-3C73-4605-A4F4-96DD30F3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ACB730-A90E-4755-8163-E776C2D0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5102F-7619-4B7A-8E93-FA9E0252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2DFFB4-B9F2-404F-BDD8-399AB1CB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74BF0E-0C4F-49F5-BE80-5A012BDC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DD9FC-BE11-4FC9-B981-2110B860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2CBB71-996F-4328-BAF3-DD0C60AA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5CB87B-D0E1-4703-91A1-2B62E722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CCAF-55D6-4E0D-9BF4-8AE13A0D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0D643D-CD55-4C8A-8C3A-BB9D21BB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729724-E762-42C3-B07C-3C7E0869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32160E-CC52-4234-9B58-C27E08F2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629B1F-C086-41B3-9572-7D5BA924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3B0AC4-715F-4A2B-92CA-158BFD5F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3D4E9-6345-4734-A34F-4A6E345A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AF09AF-24F8-433B-97B8-DA4E19E7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057AB8-A6C4-4AC5-9D1C-D0D5DD97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0D76A1-CE06-4CBB-B6AB-B001E41B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1FE2CB-1965-490B-B85A-67940B46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276F-BFCF-47EF-A7F6-B4F72ADA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5631D4-5B42-4BEE-9EF3-B816906A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FB9F5A-DB92-4C1A-BBB2-256E72FF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69AB3A-6FA1-4132-9150-D41118C6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63A25F-295B-4D50-AE2A-43F8DE57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7E1B31-0CEF-4393-BFAA-9C7E61A2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E72AA6-3D9C-4347-B6AD-0E8D858B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22896D-28A6-47C7-8DFC-3146F94E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125A74-43E7-4CD9-B94B-71303647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3D3FC4-2861-4659-B53F-E4816C21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830936-8224-4882-9D58-4E27F9E7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3084-47A6-41DB-964F-8F368D8B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3F3F6E-1EA5-4828-9729-6711EE1E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847328-9B22-4771-8460-A6D9B271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C7934D-F05B-4699-80D7-251B0B33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482BE3-7EBD-45DA-8331-0CDEB738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3D1016-A688-42C8-8E6D-ABFD6213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C501F2-0F75-45B3-A235-66FD20E6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69E621-A115-4880-A686-3C49E83C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DB8684-F0D9-4C8B-B5B4-C93BC4DE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3F0743-8472-4800-A9A2-0947D6C3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24F38A-21B8-4D69-A155-D84E6449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E365-32F4-40BE-B285-D2B1D826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48A045-89D0-4679-BCB5-C1A9D002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2BBF267-9A08-40AC-9FD0-A55A5EC7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CEAE92E-20C1-4537-BE42-CCAAD570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A9EDE38-CA0D-468E-BCEF-996D6336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2335E2A-8FA7-47DF-804C-F934FD3C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279C1F5-BB2D-4994-9923-EBE8D728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54313C0-E94B-4D20-B39C-66EA615D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0AB4A90-8DD8-44AC-AB36-732138A9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11C64F1-A82D-4B33-B219-70508BF7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9639B4C-69DA-4C79-868A-31365C23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83C2-CAFC-480E-8940-C8E46BF5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5CC3BF9-981F-41C4-95C7-E51E963C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AF51FA2-09C9-413A-AEC1-A93DC3A7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3F84F42-17B2-4EB6-B54D-DA344776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92812F-1278-4757-95A1-5ACD5A4D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B6AD38-54DB-48B0-9E3A-483514A0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460B39-E9DA-4D32-BF64-56F129D6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EECFC4-9229-490B-BD80-5D78953A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FFE248-BCDD-45AF-9424-E423F296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5BDBDD-7E94-40E9-B86A-52EF3C71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FB3180-C279-4658-808F-B9B185E3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091AE-08F3-45E7-9392-1221FFDD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AA80-B5F9-4A3B-A985-72250A1D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5A0ACF-BF71-49C2-ACEC-6A04715E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7259A2-2DCC-4DE6-9240-B272179E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890750-20D2-4298-93AA-249A4B47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D23323-9BE5-4A2F-86EF-07EF374E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D75F31-FD18-456F-AACF-9AA3D1613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5E94-2F3A-4625-A950-2FF07BC5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798F-3B51-4A71-ADC7-D4EE84B0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C7DE-A87F-44F7-98EA-74DD6082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974F-9462-4AB0-8AD9-E130A427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6544EF-FDAB-4121-9BC8-CFA097C8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555B13-C2F9-4BAE-AE57-CCAB5D12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746302-50B6-4E92-BDF9-9A2079E1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4974C-1038-4EF0-9CB9-69F3A657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85666-B7DE-4A48-9647-86352C2D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C149B-7CEE-4A74-A3DD-8B9D308E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9404D-A552-4687-8E4F-F2BA6ED9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59E94-616C-4825-8CC1-E335276D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D27A2D-3B6B-4C66-B2F8-1AC0B2A9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491BD2-4468-42AF-859F-75764A76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EA3879-616F-49FC-8A2A-54681FA7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2B39B-0FE8-4E18-B19C-14E4A0BE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CF24F1-BB6F-43A0-94A4-4B10BB3A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AE3FB-0CC8-4429-9668-AE47900A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22270-37E3-4F4F-8F75-72BB0AD8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D3763-7AE0-4D98-B1CA-5C97F1AE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4A405-0C5F-404A-8D53-5F9E1784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811F2-AF5D-4F4B-8B43-F49E1CA4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561DE-B93C-45B6-B8D7-6352E2A6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12DD2-0BD0-428F-97E8-79E23233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2671B-E2DB-4CBE-86A3-661ADD4D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DEB6D-72C5-487A-935A-96C7FED1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E58C2-7F25-4D58-B9FC-F12FA37D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6C709-5351-4B70-B1D2-433C0097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D5F03-6703-4D6F-8760-08846D8D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0D60C-3AF7-45BA-8BE7-BF76BBA6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2ED6B-1A8D-43E6-A23A-0FB7548E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6B2CF-9D62-45DD-99B2-368AA4FB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EB59E-E08F-43DD-8176-3D5C09A8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DF7D5-7041-4DCA-88EB-9E66A84C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4AE35-66C4-4BAF-B602-A8A08F5F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8C6DC-B871-49B9-8920-09F44D34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C0780-ABEA-40D8-8222-6CA2DC6F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DDC43-87F3-4B2C-91B1-772B782F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9C32E-1183-46C1-A622-97BBE891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092B6-9D91-4C6B-92F0-9C42F1EB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2D58A-E821-4741-8BBD-BF152BCF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5218A-4980-468F-B26D-55BAC95F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9C1C2-8844-4DCD-82B5-BC48852E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05084-FFD4-49AF-9246-CB860646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0963A-C5DA-4889-96AD-44979A31A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C4C61-4BF4-4E67-8044-5971466D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6099A-E1E5-4790-9B9B-BB1BABF7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5F96C-B60D-4FE2-8DFC-B3F51027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5C81C-10C7-447A-9162-16C7DFB0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3A8DD-A3FB-4B9B-A0B0-F90E6F24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42CA1-0872-4290-AA6E-4321BAD9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38DDC-FA5B-4EAD-BAEE-7316D553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26A61-5A01-46BA-A0B1-0AB7E447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FD552-07DD-440F-ACAD-A1233394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0C931-9AB7-497A-BCBC-32720DC3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3D537-EA99-4B0D-BE40-6C3AD238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B20DC-024C-432F-9336-E0765FA3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E4AD5-DBFA-4073-AC03-2ABF7D8E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7DBCE-6225-48AF-92B9-2B31DA08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766A3-17E1-4938-B494-075579BF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8170A-0E57-41AE-84FC-4D9C80A7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50123-FD82-4F7E-A9BB-0ABBCEA5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65432-6A2A-4D32-B18F-5CD3A895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7D86F-53A6-4AB8-B1AB-50E71E99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183A9-0810-4EAF-BD1F-E909E03A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18B59-5EBA-44EC-85D9-C0DFAA13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14A16-29D6-4A04-962F-9B852FFF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98840-54CA-4423-8B32-687B6829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04F4E-20CD-472D-9E83-5E665967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61475-3835-4ABA-A841-0490017F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575EC-2904-444C-B66F-56677C32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F4771-B028-4148-ACF6-345F1A81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F1055-B5B2-4CDD-9E35-BD9EFE16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ECD29-DB3C-4F3D-97F2-BA8F65E9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BF9A2-DB8A-4C54-B76D-1F57F027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F7D33-5BF6-4AFB-9BF4-FAEAF5D3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F4472-CEF3-4494-9ACA-B9B55DAA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65FA6-138A-48CB-A21E-5B23D73D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8D493-BC40-4BDA-AF6A-B1639C14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B4EC1-0B5A-4A14-AF72-434DCD7A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ABAF7-5655-4638-9E99-8356B475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49BE6-289D-483D-B2CE-077C0211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6DFDC-06EA-41FA-9B39-FF92B1B6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BADEC-566E-4C05-AFB8-20C12BF8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784A7-523F-450A-9080-FCE6E8E0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9FC50-CAA9-4B99-9A90-F5AB8DAF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DC30-6E71-44B4-811B-69E12173234A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68F2-18BD-4517-9A08-561DB35C1875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4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5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5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6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7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7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8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5954-10F0-4044-A513-99B001A233BD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3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4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4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5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6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6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6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6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C5E6-8058-4656-92F8-F6B7312D66B6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2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3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3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3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4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5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5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5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363E-4D73-4D2F-A8D6-E7FFC2F7B3A0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0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2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3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3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3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4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C124-C390-42FD-A391-78F56FAFF96C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9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0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0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1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2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2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2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2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2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C024-3361-466D-BFF2-93D894BC8F83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8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9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9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0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0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1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1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4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44C1-D3D8-4D5C-9A07-4EFD5360307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ftr" idx="4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C703-C065-4D6D-8A7A-419331BDE604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64AF-A76B-475F-B1FB-697295123A78}" type="slidenum">
              <a:rPr b="0" lang="cs-CZ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9ECE-93F2-4B9F-82D8-2DF0D6B84F0C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9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CBB4-5C33-41F2-A080-B5D2E60F32EC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5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5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6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A0F4-EA5F-48E5-AD36-6FFD22336ECB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4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376E-E11F-44D3-9A24-7EF57818E80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1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3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3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5A25-0F7C-4AB9-B6AD-1F10C03DC29D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0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1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DF20-4060-444D-B725-0CAA6B2F7720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7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8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8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9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0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0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0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0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6136-4F6D-41FC-9953-CA64EDE58EED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2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0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2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 k seznámení studentů s časovým rozlišení výnosů a příjm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ýnosy, příj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Garamond"/>
              </a:rPr>
              <a:t>Výnosy a příjmy příštích obdob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384 - Výnosy příštích obdob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nto účet používáme tehdy, jestliže jsme dopředu obdrželi peníze za službu, kterou poskytneme v příštích lete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íklad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jemné přijaté přede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jatou částku zaúčtujeme např. na 221 – Bankovní účty, ale protože službu poskytneme až v příštím období, nemůžeme tuto službu zaúčtovat do výnosů tohoto období, ale musíme zaúčtovat na účet 384 – Výnosy příštích obdob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íštím účetním období po poskytnutí služby přeúčtujeme na účet 602 – Tržby za služ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jednotka přijala v prosinci 2012 nájemné za pronájem garáže v roce 2013, a to ve výši Kč 60 000,-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tování v roce 2012 (31.1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BÚ, příjem nájemného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60 000,-          221 / 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tování v roce 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, rozpuštění časového rozli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výnosů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60 000,-          384 / 6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85 - Příjmy příštích obdob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tento účet účtujeme tehdy jestliže jsme poskytli službu v tomto účetním období, která nebyla inkasována ani zúčtována přímo na účtech pohledáv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íklad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jemné, které nám bude hrazeno pozad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rovedené a dosud nevyúčtované práce, výnosové provize a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žbu, kterou poskytneme v tomto účetním období zaúčtujeme na účet 602 – Tržby za služby, ale jelikož se nejedná o příjem v tomto roce, tak musíme zaúčtovat na účet  385 – Příjmy příštích obdob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říštím období, po přijetí částky přeúčtujeme např. na úče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21 – Bankovní úč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85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etní jednotka v tomto roce pronajala budovu. Nájemné ve    výši Kč 60 000,- ji bude uhrazeno až v příštím roce ( v tomto  roce nebylo vyfakturováno ani inkasován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tová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tování v tomto roce (k 31.12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ÚD, předpis nájemného za tento rok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60 000,-   385 / 6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tování v následujícím ro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BÚ, příjem nájemného za minul. ro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60 000,-   221 / 3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světlete kdy účtuje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jmy příštích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klady příštích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daje příštích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nosy příštích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    Ing. Pavel Štohl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08:07:38Z</dcterms:created>
  <dc:creator>Ing. David Holzbauer</dc:creator>
  <dc:description/>
  <dc:language>en-US</dc:language>
  <cp:lastModifiedBy>Igor</cp:lastModifiedBy>
  <dcterms:modified xsi:type="dcterms:W3CDTF">2014-09-13T15:41:34Z</dcterms:modified>
  <cp:revision>16</cp:revision>
  <dc:subject/>
  <dc:title>Časové rozlišení nákladů a výnosů</dc:title>
</cp:coreProperties>
</file>