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4047-BE19-4BDC-9CEE-6C55513CA28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2087-6F40-4DD3-A39B-811B1546488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A74D-B01C-412A-AF6F-6140F3CB3E2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2BDC-75CA-46A5-BA24-9543A5B4207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E233-0F6B-46A8-B6C6-286E986E38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2FBE-5681-4A71-88BD-113219DA45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0F6C-05CF-4C6B-B2FD-BEAA012E94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DC20-C42F-47C1-9B3A-53F85EEC72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940B-7772-4A1A-B0C2-BDE98A8FDD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CC5E-445E-48C2-8EEE-56F6A8EF3D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3C9C-80DA-4731-A69E-DC3D892E3E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9C20-3A36-4E25-8241-4B170E71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46DCD-178C-45BB-A9F4-E9ADFC8E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8F39E-03B1-4781-A63E-03F726CA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07239-83C3-47A2-847A-17226A40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6F40E-4751-41B9-922C-66B24244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855CB-1EEB-4F34-A449-0B75F450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9F7CB-294D-4F01-BCA4-3D3A9DA1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BB6CF-23C0-486B-B6F1-02FF09FA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D8903-A0EF-4C4D-B73B-C4663446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026F3-7F81-4B14-B22A-361C87B8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DD761-B910-4BC9-A1FA-4935169E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5E760-3D26-49B1-BE81-0CD86E2C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D962-F7EE-436F-B963-B98E82B5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18195-54F5-4811-AF5B-B753B766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94280-FA8C-4496-9DD6-FC182529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33A47-1645-486F-9B21-5D3A5D4D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6F7F1-C479-417E-A398-1B5F9B24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CDF8F-B364-4E40-BFE8-89663D96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9C3E4-4613-4126-9E22-FEEF1007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6DB62-F284-4CDE-9AD7-08D3B61E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31591-8627-4A2B-9BAD-FEB911C4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C2ECE-6007-438E-B16E-2F006304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3A73F-BEDF-4830-A3F1-63D297C5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007C-9024-4295-A8A9-A37A94F4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3733B-6EEF-4691-BBC0-A052E368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B5BEC-FA86-4817-9348-222D9F1E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A44A2-8D1D-4E17-83BB-F0E29362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30489-8938-41B6-B26A-EE7133D8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E7677-333A-4625-9E86-27112203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A8EFE-C58A-4AF5-82F4-4B711425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B4439-D712-44CE-AA2B-01438CC8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6433A-70FF-4600-BBCD-31A8FD23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11F03-3BA8-4C09-A9DB-DD4D89E0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439EC-C0D6-4027-A260-1D9B30EB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AB4A-B63D-4E2F-B87C-E867D515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B273D-B77E-4E4F-A1C3-57A22705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D5B93-BA4F-48B7-8E2E-AFCADF82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4DF4C-4431-4BE7-9B08-536D7377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13EB1-99C0-46CE-85ED-177ED253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8BCF9-1DDE-499E-B9FE-29753F0D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359C5-8724-4579-8942-C29B848E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5DDC3-1607-4FB7-B402-35B3B87A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8B0F8-D5C9-41E9-8007-7AAB3E28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91AC9-70F9-4B2F-A446-5FE72793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96E8B-8799-4BB1-B4C5-7E56E748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BC5D-B502-4B5E-9954-8629029C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A2F8F-446F-4042-9D28-196AB44F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88E0A-7D0B-423A-892D-FF03AA2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653D6-12C7-41D0-922A-DC881737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14F41-D1AB-4F52-959D-58B3926B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F1D76-8C8E-474C-A19A-B7395639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522D5-9783-44C1-B510-C45FF459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5E950-5D52-4149-BDBA-2D417093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9CFB2-54B3-473A-8D09-D2B2AE48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AD078-494C-4E10-B2A9-A9DD93D7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1DB10-9272-4F61-AB89-92EC1CA7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AEC6-6DDF-4D61-B6FC-9F41F2C1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4336C-DED3-48AA-9B41-BB629138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05B48-B18E-4640-BB48-F59AF42F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0B76D-E338-42A7-9E92-AAB4B712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D7170-FCA0-4FFB-8DE1-3498E3C9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01FF3-FD35-4012-84CE-8033B432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0BC9B-0965-4600-B811-68F94DC5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FC348-17E6-47DC-8650-45C31564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FEE96-8612-412C-88AB-31C823AF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D2DD4-D623-43A2-91F3-F45A578D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7A422-3528-463A-9168-B07CB6B1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C3FF-DCFC-42C1-91EE-6581B670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B946C-F1FE-4002-AFAA-224744CB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92E4C-4C73-40FA-935D-8DDA7A0F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9F91D-9C0E-454D-B05F-CF79A00F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C9B07-0337-4FD4-AC50-55A2F93D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2E26D-E1F3-45D3-98EB-99416C07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0B154-DCC5-4879-8230-395B3BD6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452C6-7E43-42EA-8FC0-B44B1213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827D1-20EA-4092-84BE-07C78CB3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9972E-0FBF-46C0-9C53-6A6D597D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F8061-986F-4487-B200-62C5F1A3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999E-746A-470E-92DC-48298258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9CA23-0E40-4605-A1F4-D760D982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7FCFB-2FFC-4EAD-BA00-DA723DD2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E4D7D-CCAA-4692-9CA0-CE83979B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22B0A-5B24-4051-809A-CC1E0B66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5B778-54B6-4913-BBDF-565D1AB1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CE115-8605-46EC-8F7D-44A07E00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6ED39-F4D5-46D2-BFE5-C516AE80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082CC4-81E3-41EE-8CB7-131423FE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3CB8D-C243-4AD7-BFF2-9A41BB73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A2994-DA82-4138-B324-01821437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B943-E431-4C31-8CAD-26C46CCA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92EB7-9CB4-4D55-8D35-86C1B5F8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23D715-E2D2-42C8-9677-C6E57C10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32489F-80E7-473D-ADF7-287C2E3E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BE5456-91B6-4B45-8B3F-146E6A41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026F12-3118-493D-9737-2AF0F4D2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71CF4F-333D-4961-B21E-41112AE6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A2F09E-DBCD-4ABE-84FE-9AF5F9A7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815277-349C-4D12-837D-DAF54CA2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0E2406-C758-40F2-978B-9412C3ED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3735F4-21C0-4A71-BF61-153A095D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F2E4-F311-458B-93E7-D0B5E0AC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C51D4D-475D-45F7-B2E8-ACF308A7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9CEA23-2CFD-40A0-B95C-4904645B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48DCD9-D556-4A5C-8568-442AA27A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BB625-E894-4CBE-8D93-EA13B153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86D91-5E67-4BEC-9B82-9D73D279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5DAEB-C3D2-4535-8A38-D00F0339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5769C-5FAB-45D5-9E73-C0DD1EF7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9D8F62-7F34-44D3-998E-9653D085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DCA23-8B65-45A1-A1A9-0324FB6B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F4600D-1547-4215-963F-1CC5AA66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FF7A-839C-4B71-9625-45B5CE51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2371-23B3-4A40-A849-41D927FB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B70238-6163-446E-834D-48F799E7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3C7A6-9B44-440C-87DD-AA185E76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E518B-8236-4002-9054-8F3759E3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6EA0B5-61D6-4725-8D64-072CB160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51D14C-0464-480D-B8EF-1358677E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44E9-01CD-4D5C-A130-20C7CBF3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71DC-82FB-4B32-A00E-610EDBAC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154A-895C-4C90-A209-EC2ED320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5DAA-2325-4372-9687-F537DCA1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D4F21-9310-4EAA-9AC7-87641E0B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932AA-AA81-4DC4-9F0C-63C41DFB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A1633-384E-4534-A69A-7215A56E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BBE40-1F2E-46F3-A57D-CB3F3F1D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79FEE-B2CA-495B-A9B9-60841763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6ADF-68D2-4C9D-8E24-219F17CD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2E2C1-0F6B-41A2-B144-171CBD21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537B9-47D7-4922-9513-8FDD2854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28190-CEF4-4FE4-83D8-A2471CE2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492E9-878A-49B1-9EE8-3B8A92A9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A95F0-C3E1-4A3F-BDD0-22D6709E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BF122-4B2F-4876-ABAA-D0F2F434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80AF0-EE50-4EBD-B594-A635F94A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92DB4-04DC-43C5-BE64-CBEE1DDD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1D850-B80D-4AF2-AE70-3CBC5E8C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25A9-4059-4DD7-A859-364F9918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8C30-3985-4E7F-B6C9-181361E8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EC2F0-353B-4484-83BB-4AF10DCC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F478C-9B5D-40E9-B110-643200BC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930DD-EDA2-4A20-A67C-861FA73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1EA9C-B043-4532-9DE0-C0813E41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0FD1E-07A9-4F88-AC9F-981142FE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8DB3D-F59F-4699-917F-43BEC112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32F1-0C9B-4EE4-AF19-CC957DF3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B558C-4A2F-406A-99EE-02FA7282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715C2-5044-47FA-9CE5-5C0C63D6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B6B95-0376-4C7B-93EA-F92F44D7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BC3B-5B91-4C12-91DE-BC808F34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1EE79-783E-4036-974F-D1838579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804B3-F561-43FE-9F0D-7E329291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BAFEE-88ED-43E1-90B7-80E81FE5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50AB0-5197-4033-9C8D-5569DFC8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25445-52F3-47AB-A457-3445808F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A502B-0962-4026-B796-850AC22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51E38-A25B-4F27-8D2D-C12748E4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5743-95C1-4BB0-911C-E09F90BB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21BD2-C4F0-4DF6-A2BF-51D15475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5B6BB-199C-4371-9265-7F1BF4BF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F439-B660-4061-BAB8-2E1CEBC6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DFD49-A962-4E4D-BCD1-A181FBD2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2B22-442D-43A8-BE7D-9384D625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C8469-E856-472F-B762-CFF59625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0604C-685A-4A0D-825B-DAAE924B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C62B3-26FF-4377-A3CA-2449DBA3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CE657-AE91-45A7-AA27-840CF134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3D9F4-0DDA-4CDD-AA05-B01EB5DC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2CBD2-67FD-4DED-8767-6ACC87E8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75B8A-1974-4CB8-97D0-6F0E5934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DF127-B2E3-45E3-BB18-D071D733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D91B-2998-405F-9A62-3A33B47A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2BBDA-D541-4980-B779-26A21AE5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231FB-AF91-49D6-ACE8-B952CF64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1654F-8B30-47BB-ABF0-4E0BCF35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034A5-C315-4A35-B1CB-38800E58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409F0-D4C9-4809-B8B1-789F3884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6AF6B-8241-4DED-99DE-D68BC15E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68611-612F-45B8-A7FC-8C92836E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2A81D-37A0-4928-A2EB-074E1AC3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98485-E0BA-4245-9C7D-0011ED9C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4547E-6BEE-4343-A6F6-FE96A07B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3BB1-44CB-4F83-8852-0BA486B5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DBA88-7FEE-4FFF-A72C-6D4E3AD6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B3732-4CDE-428F-A0D5-11DCFB8E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24BA0-605A-4DE2-9C2B-28FFD6C7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FC40C-125D-4F73-9C2E-E049139E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1FC3-D4B2-415A-A03E-2BAFCEB1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C4A37-B07F-480A-80F9-D3CA5695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C36F0-B448-45A6-91C2-0BF229EF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CC032-67EB-4F3B-8AB7-17365CF3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E789D-E01A-478A-A6EF-E587E5BF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1C7E2-94E5-4DDC-AC55-B8757EDF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4879-A69E-41EE-80B8-9E50D94F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299DF-A003-4DA6-9E59-029AE572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27C96-003B-4F6A-864F-72C29CFC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3F426-E2D6-4C52-A005-314228AB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44262-7319-4046-B6F6-566CE367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299BF-10B2-4E6A-A49B-CC685507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7B1D7-A8AF-4734-AD2A-5E6A4F4A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2593D-1ACA-4049-A44D-B91FA467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917E6-ADFC-447E-82A1-BD58A086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98141-C276-450D-8825-0E9D1DE3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D94D5-D238-4A85-B4F6-98524B9E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FD38-A4B7-4295-B620-D1C8218B87D9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DB09-A97C-420B-A8C0-2FF1A0746FF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D4B7-CB59-4517-B4F1-BC28CF813C0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90E0-18BE-453A-9388-A6B429E6D0B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5BDD-0724-4E7D-9F98-80DECE4EE3E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B44E-F375-465F-98D8-47E0898B62F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3938-E708-4197-80B8-923CAF850B2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7322-AB40-4283-B1AB-42D9C7B7C8C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62C7-866E-4AB7-9CA7-A3B9D185ECDE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2CD2-C32A-494B-886D-6C0485323A3D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1524-247F-43E5-A851-DA8AAF7EB777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8975-96D2-4735-A9CC-29DFC36BF12B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214F-5216-426B-8473-5A07EB7563F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92CE-A7A6-435A-9719-0FE7886F7F8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43BB-56CE-422F-9AE4-050B619AF0B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EF9C-D2FC-44FC-AD0A-D9949E3AD72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B1D3-484B-4EFB-809A-A2BB1F994FD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67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áklad, výnos, příjem, výda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Charakteristika časového rozlišení nákladů a výnosů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ůběhu účetního období dochází k časovému nesouladu mezi výdaji a náklady a mezi příjmy a výno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hospodářského výsledku účetní jednotky se musí zaúčtovat pouze náklady a výnosy, které souvisí (časově a věcně) s daným účetním období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ý nesoulad mezi výdajem a nákladem, či mezi výnosem a příjmem (např. výdaj v tomto roce, ale nákladem to bude až v příštím roce) se řeší pomocí přechodných účtů (účtů časového rozlišení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se provádí na konci účetního období při uzavírání účetních knih za pomocí těchto přechodných účt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1 - náklady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3 - výdaje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4 - výnosy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5 - příjmy příštích obdob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zvaze zařadíme tyto účty následovn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ktiva                        ROZVAHA                          Pa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1 – Náklady příštích obdob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3 – Výdaje příštích období 385 – Příjmy příštích obdob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4 – Výnosy příštích obdo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Účty časového rozlišení používáme v případech, kdy přesně zná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účel vynaložení – věcné vymezení, čeho se daná operace přesně tý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částku v K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období, ke kterému se částka vztahuje, kdy příslušná operace nastala nebo nas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čty časového rozlišení se nemusí používat v případech, kdy jde o nevýznamné částk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řípadech, kdy jde o nevýznamné část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íklad předplatné periodik, nákup kalendářů, diářů apod. na příští rok, a je zřejmé, že tím účetní jednotka nesleduje záměrné upravování výsledku hospodař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o pokud jde o pravidelně se opakující příjmy, (např. úhrada činnosti auditorů, daňových poradců vztahující se k předcházejícímu obdob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34:11Z</dcterms:modified>
  <cp:revision>17</cp:revision>
  <dc:subject/>
  <dc:title>Časové rozlišení nákladů a výnosů</dc:title>
</cp:coreProperties>
</file>