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A68B-0C54-416D-B1F4-2C7B27DE84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3B11-D3E1-4141-B484-4EC357709D1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6A97-238F-49F7-B47F-F1BE075D81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C275-8FC7-4461-A622-EE50D245ADA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529F-585A-4E98-B3A8-7352DACA25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30E0-50E6-4D1A-907B-742C8C665F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97EF-A202-470A-BA97-C158153521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4DA-5215-456F-8269-5F8C8735B8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27C8-CE9F-46D4-A32A-392BCAFBDC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C8C-177D-47E2-9761-B19A8F01E8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051D-D199-4105-9329-02BA5850A5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23A-C34C-496D-9333-8F09743599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3F8-C39C-43F1-B1E1-A614DE3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D03-88DE-448A-A614-F737159E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EA0-BD84-4B19-B465-3E32D498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E43-BBDF-4B09-B8AF-F809AF53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F8FB-7AD4-484A-B506-768F9091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5FD8-20DC-4279-911B-D36883C6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9EE5-43EF-4578-A3CE-0D045F8B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7924-A76B-4840-AD22-6564DFD2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F98-CA2B-4B5E-AEA3-9111600E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0D52-06C8-456E-83AE-2756139D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90B-FA96-4C10-870A-C7BE8C04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C0A-2842-4D40-8C5A-6248DD4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A579-9257-40C9-8195-537C682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3684-C044-456C-AC26-95E155F2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20A1-5B9D-458C-AECB-4C01B0D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BF55-7372-4B78-AFCE-6A7247FA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BDB5-9030-48A7-A264-7BD21ADE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93CE9-6A0B-4169-BC35-B450FD55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AE86C-13BC-409B-9374-59AF0F81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2CFE9-C0CE-45A4-BA52-7F95D57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F1C6D-424E-4A73-93E0-4D7F639B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47A39-2E10-4BE0-8702-BE2DBECF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2C7-B06D-4F10-95D3-CB64CE9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8531C-AC9A-4FCC-ADF9-1626484D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7062E-5573-4A66-B6B8-2C98543D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6E16C-76E0-4706-9A7A-9CD393D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5EBB8-65E0-4AC9-8D60-0C8493B4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88ED2-265B-4BC6-96C3-4D2468B3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D4A8A-224A-4C5E-9378-D873722A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2EFB4-8DD4-42C2-8869-78131EB0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5F8-8B9D-4A45-AC28-04144EFC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169-5B0C-46C0-9070-D6BF2EB8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13B-CB4F-42F2-9B81-C2C9DE7D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0D0-DD77-40DE-A040-FBC51D1E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108-1CF2-4AC8-811B-A5BC90D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893-59A6-4E7E-9F5A-82FE7F2D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CAEE-FD47-416E-ADCF-8796BD7BE77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3F66-D7F6-496E-9708-870217D6B81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1D4B-08A8-4BF6-A0F6-5DC8D7D110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11/6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úD – Tvorba oprav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VúD – Zrušení opravné položky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rušením opravných polož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minutí důvodů, nedobytná pohledáv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280" y="2421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Zrušení 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ých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 položek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se zruší, poku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inou důvody pro jejich existenci (např. pohledávka, na kterou byla vytvořena, byla uhraze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hledávka byla odepsána jako nedobytn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(čerpání) opravných položek u pohledávek se účtuj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účinných opravných položek 391/5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neúčinných opravných položek 391/5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neuhrazenou pohledávku vůči odběrateli, a to ve výši 70 000 Kč. Na tuto pohledávku vytvořila k 31.12.2012 opravnou položku ve výši 14 000 Kč (20%). Dne 21.2.2013 tato pohledávka byla uhrazena odběrate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úD – Tvorba oprav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bú  - Úhrada od odběr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VúD – Tvorba opravné položky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bú  - Úhrada od odběratele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7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irma Senox, a.s., vystavila dne 5.3.2012 fakturu odběrateli za prodej výrobků, a to ve výši 500 000 Kč, která nebyla uhrazena. V prosinci 2012 byl na tohoto odběratele vyhlášen konkurz a firma Senox, a.s., přihlásila svou pohledávku. ve stanovené lhů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následujícím roce soud zrušil konkurz pro nedostatek majetku dlužní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Zaúčtujte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VúD – Tvorba opravné položky (10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VúD – Zrušení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48Z</dcterms:modified>
  <cp:revision>27</cp:revision>
  <dc:subject/>
  <dc:title>Dohadné položky</dc:title>
</cp:coreProperties>
</file>