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10B0-5443-48B4-9278-ECC9A331CE5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2566-3B89-41FC-8E07-A693469E3D1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9F9B-9B7D-46ED-B8D3-BFEFEC288C1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F755-9A62-434D-AAFB-F4C575B02C0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33A6-FB1D-40B5-A55C-1E824E690B0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FC5A-D1F1-45C6-96C8-A51FB3DD1BF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51AB-33B4-4A00-9B76-967AA2EFF64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22B5-7710-42EA-BC58-0FC10878BB4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E84C-3468-4D93-82E3-8EFC5FD745B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80B1-54B8-467D-8449-F52B192026E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1B37-EE8D-4ADE-8A7E-AFC890367E0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CDED-5772-4586-8D61-625C6BB78BB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3659-0973-4483-8C83-BE5146EA276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0C78-6A1B-4FF1-B2CA-4F2A7343FE0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CB98-F8F5-4511-B517-4B7E9D78606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A968-9F8A-486B-8CF1-056B49028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D0E0-1B9F-479D-873B-C12F5756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46E4-DE4C-4153-9A57-E3433147A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FA76-113C-4568-A89A-1A9574E8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EE98-5E7C-4261-9E16-6ED825C00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9C76-DE38-42C8-8F34-ABEDA0C2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78A1-C8C1-4BAA-B024-EB2C5925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ECF4-0BC1-4A53-8990-C7DFF184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7797-33DB-44CC-AD5C-82E5BAC1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E26D-3265-41CB-A501-49D019C4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3E38-EC95-4DF4-A7FD-99328A13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D2C8-159F-4213-92D8-7DEC8560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305D-091A-43BB-A218-835E8D53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AD52-BD4E-4D03-83A4-3B2ADA28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9583-6ED9-46F2-B0DB-0D57D574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69BD-2D77-4B1C-8C91-4F4C87580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8A85-FFF0-4160-9850-3FDCB428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831487-D7EE-4670-9944-DDE07B3A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5D2824-4A4E-4727-99B1-C54B5880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741021-FBB1-47D8-9D1B-10A5532A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CE7296-3DDC-4B84-A8B6-1E249075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9AB964-5375-4590-9740-14E59F9E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2B0D-C088-4009-B989-299ABDF2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81E2DC-0F14-4F2C-8C0E-EA6D05EB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1083EF-D94D-43AD-972E-FF6DA018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9F5ECD-204F-4796-9928-2EF32C6C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8024C9-EF15-4F6E-BBE9-0187F3DC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1AC7BF-307B-4DD2-86F9-91FFDED5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6B5158-1AA6-4C8D-BB36-89071829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F341B4-A9AE-4168-9AD8-0C478E103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9BE2-DB85-43CF-8B24-65A683C4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826D-8722-47CF-9FCB-0F4975C1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4171-6F25-43D4-920E-2EBD8D62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0A67-1D93-4955-AEEC-524CECC3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A951-E12A-48DB-9EF9-5D13CC55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D818-55A5-4EB0-861F-5690E75C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721B-0D0E-4F16-B1A5-A1D4AB391EFE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5219-C310-4E3E-BEB5-6BFE437146EE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D8FB-3915-451D-8E22-BF592550FF4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účinné opravné polož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kud rozvahová hodnota pohledávky v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kamžiku jejího vzniku nepřesáhne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00 000 Kč, může být po 6. měsících                               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vořena opravná položka do výše 20 %,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 to i bez návrhu na zahájení řízení proti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lužníkov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účinné opravné polož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 nevýznamných pohledávek lze vytvořit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pravnou položku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ž do výše 100 %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ejí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uhrazené rozvahové hodnoty, pokud od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once sjednané lhůty splatnosti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uplynulo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nejméně 12 měsíců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významnými pohledávkami se rozumí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promlčené pohledávky, jejichž celková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hodnota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nepřesahuje 30 000 Kč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ůči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émuž dlužníkov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účinné opravné polož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případě, že se jedná o pohledávku za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lužníkem v insolventním řízení a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hledávka byla u soudu řádně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ihlášena, může se vytvořit rovnou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100% opravná polož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Účtování opravných polože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irma měla k 31.12. 2013 neuhrazenou pohledávku vůči odběrateli, a to ve výši 70 000 Kč, která je 6 měsíců po splatnosti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nejedná se o pohledávku za dlužníkem v insolventním říz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. Dále firma dočasně snížila hodnotu jiné pohledávky o 21 000 Kč, která je 4 měsíce po splatno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účtuje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. Tvorba opravné položky 20%  14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8/3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Tvorba opravné položk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21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9/3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691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opravnou položkou u pohledáv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očasné snížení hodnoty pohledáv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63640" y="2997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33"/>
                </a:solidFill>
                <a:latin typeface="Garamond"/>
              </a:rPr>
              <a:t>Opravné položky u pohledávek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6633"/>
                </a:solidFill>
                <a:latin typeface="Garamond"/>
              </a:rPr>
              <a:t>Opravné položky u pohledávek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4167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pravné položky u pohledávek použijeme v případě, že pohledávky jsou již po splatnosti, u kterých však předpokládáme, že nám budou uhrazen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pravnou položkou dočasně snížíme hodnotu pohledávek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 uhrazení pohledávky se vytvořené opravné položky zruš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U pohledávek můžeme tvořit tyto opravné položky: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11280" y="2420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aňově účinné opravné polož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 účtujeme  558/39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aňově neúčinné opravné polož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 účtujeme  559/39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účinné opravné polož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aňovou účinnost opravných položek řeší zákon o rezervách pro zjištění ZD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ši opravných položek závisí na době, která uplynula od konce sjednané lhůty splatnosti, následovně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účinné opravné polož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případech, kdy věřitelé podali návrh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a zahájení řízení proti dlužníkovi podle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edpisů o rozhodčím řízení nebo soudu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 příslušné řízení bylo zahájeno, lze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vořit opravnou položku v závislosti na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obě, která uplynula od sjednané lhůty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platnost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účinné opravné polož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 více než 6. měsíců – až do výše 20% hodnoty poh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 více než 12. měsíců – až do výše 33% hodnoty poh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 více než 18. měsíců – až do výše 50% hodnoty poh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 více než 24. měsíců – až do výše 66% hodnoty poh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) více než 30. měsíců – až do výše 80% hodnoty poh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) více než 36. měsíců – až do výše 100% hodnoty poh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6:18Z</dcterms:modified>
  <cp:revision>22</cp:revision>
  <dc:subject/>
  <dc:title>Dohadné položky</dc:title>
</cp:coreProperties>
</file>